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594-C1FF-44B5-B535-BF201C10DE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689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720" y="4930920"/>
            <a:ext cx="5329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.B. www.kartenserver.niedersachsen.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83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046760"/>
            <a:ext cx="81583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032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04676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0320" y="404676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7960" y="177300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77300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04676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7960" y="404676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46760"/>
            <a:ext cx="26265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812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0320" y="1773000"/>
            <a:ext cx="39812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2296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0320" y="1773000"/>
            <a:ext cx="39812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04676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812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032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0320" y="404676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0320" y="1773000"/>
            <a:ext cx="39812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46760"/>
            <a:ext cx="815832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92720" y="5004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iedersächsisches Umweltministeri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20640"/>
            <a:ext cx="4176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09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.10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618920" y="6237000"/>
            <a:ext cx="705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5. Treffen der GIS-Anwendergruppe Küste 2007, St. Andreasberg, Har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oro Pielke, Referat 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61128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Ein Weg zur verbesserten Geodateninfrastruktur – Web Map Services in der Niedersächsischen Umweltverwaltu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6553080" cy="507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48360" y="112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IMS-Karten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54920" y="256536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mbolde der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rtenausdruck mit Leg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daten-abf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raktive Umweltkarten des Nieders. Umweltministeriums Von der GIS-Karte zum W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S-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wnloadbereich – Anfor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eibende Textdatei /Meta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ions-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mäßiger Daten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rtenviewer/Kartendienst des Arc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Arial"/>
              </a:rPr>
              <a:t>WMS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4002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5832720" cy="5214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88000" y="1052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MS-Conn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MS-Profil-De_1.0 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DI-DE-konformer WMS-Dienst Version 1.1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40021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688000" cy="453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8280" y="3149280"/>
            <a:ext cx="898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ttp://www.kartenserver.niedersachsen.de/wmsconnector/com.esri.wms.Esrimap/MU_wms_nd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ERSION=1.1.1.&amp;SERVICE=WMS&amp;REQUEST=GetCap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5213520" cy="507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13280" y="1197000"/>
            <a:ext cx="29354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bindung von Kartendiensten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vices (WM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80360" cy="517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0360" y="112536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ten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815832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48036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48036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480360" cy="5073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041240" y="1197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ww.PortalU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480360" cy="513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4002120" cy="417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80360" y="328464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263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4003920" cy="41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 Map Services in der Niedersächsischen Umwelt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 / Zielsetz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Real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n der GIS-Karte zum WMS-Die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Standards (OGC, GDI-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lprojekt Schutzgebietsinformati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odaten-Port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1052640"/>
            <a:ext cx="2808360" cy="5073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14188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977080" cy="520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162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ww.geoportal.bkg.bund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472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19640" y="3187800"/>
            <a:ext cx="2232000" cy="141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640" y="1916280"/>
            <a:ext cx="396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elen Dank fü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hre Aufmerksamk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/Zielsetzu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83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-UIR, UIG, NUIG, INSPI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-RL (Lärm, Feinstaub, Wasser, FFH, Vogelschutz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öffentlichungspf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eiligungs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öglichkeiten der Umweltverwaltung zur Datenbereitstell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züge aus Landesdatenbanken (Wasser, Lär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bereich der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präsentation über Karten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pflege mit einem browserfähigen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92320"/>
            <a:ext cx="8820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nteraktive Umweltkarten des Niedersächsischen  Umweltministeriums 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n der GIS-Karte zum W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388960"/>
            <a:ext cx="815832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574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Arial"/>
              </a:rPr>
              <a:t>GIS-Kart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wnloadbereich – Anfor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eibende Textdatei /Meta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ions-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mäßiger Daten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rtenviewer/Kartendienst des Arc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MS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624720" cy="518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08720" y="11253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IS-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*.mx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716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451800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335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nteraktive Umweltkarten des Niedersächsischen Umweltministeriums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n der GIS-Karte zum W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2460600"/>
            <a:ext cx="81583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S-K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Arial"/>
              </a:rPr>
              <a:t>Downloadbereich  im Internet – Anfor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eibende Textdatei / Meta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ions-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mäßiger Daten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rtenviewer /Kartendienst des Arc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MS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480000" cy="507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25200" y="227664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chreib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dat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Meta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112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58320" y="400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5360" y="45086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4640" y="536724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MS-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4797360"/>
            <a:ext cx="3240360" cy="503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2636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nteraktive Umweltkarten des Niedersächsischen  Umweltministeriums 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n der GIS-Karte zum W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1583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S-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wnloadbereich – Anfor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eibende Textdatei /Meta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ions-Da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gelmäßiger Datenausta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Arial"/>
              </a:rPr>
              <a:t>Kartenviewer/Kartendienst des Arc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MS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337440" cy="5095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4920" y="1052640"/>
            <a:ext cx="24670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GIS–Arc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bindung von Kartendiensten dirket aus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cI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cIMS-Server hinzufüg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er-URL eintrag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e oder einze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nste auswähl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nzul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41:39Z</dcterms:created>
  <dc:creator>Pielke</dc:creator>
  <dc:description/>
  <dc:language>en-US</dc:language>
  <cp:lastModifiedBy>Jörn Kohlus</cp:lastModifiedBy>
  <dcterms:modified xsi:type="dcterms:W3CDTF">2007-11-01T07:29:25Z</dcterms:modified>
  <cp:revision>21</cp:revision>
  <dc:subject/>
  <dc:title>Folie 1</dc:title>
</cp:coreProperties>
</file>