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21D-9233-4C7D-8FEF-A36ED60C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0BFD-762E-41D9-99B4-AD95E3A6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9794-BA52-4FE8-A7EF-64CA2C49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AD3-FB18-47CE-A1E6-C710ED9C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00A-3801-49FE-AB7C-8580CB6E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86E-47D9-4425-9979-FFF127A1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B0B3-5798-452E-A717-B3A16641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D54-9856-4F40-BD5D-5C6AD2DF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70F-DBE5-4D90-B9CE-5E67574D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7113-185B-44B4-9FB9-9AE88420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D626-8410-48EE-9FC7-D7C49139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DB8C-F525-4827-8318-F5FA302D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9109-686C-4B6F-ACFB-5601F0707BE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jpe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jpe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RI Anwendertreffen Küs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7.11.20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fbau und Struktur der Datenhaltung in der ArcSDE  - Ein Beispiel aus der Pr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6324480"/>
            <a:ext cx="807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4. Jahrestreffen der ESRI Anwendergruppe Küste / AG GIS Küste - 27. November 2006 -  HafenCity Universität Hambu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71720" y="304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is Herzogtum Lauen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5360" y="6248520"/>
            <a:ext cx="668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bau eines verwaltungsübergreifenden Geoinformationssystems in Schleswig-Hols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 Beispiel Kreis Herzogtum Lauenbu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9144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071720" y="304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is Herzogtum Lauen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29200" y="304920"/>
            <a:ext cx="354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0" y="228600"/>
            <a:ext cx="358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lö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7240" y="1168560"/>
            <a:ext cx="73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satz für die Struktur der Feature – Classes in den Daten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1752480"/>
            <a:ext cx="73152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ftwarefirma mit Erfahrung f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welchen Bereichen werden Geodaten ver- / bearbeitet (Ergebnis einer Umfrage)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lche Geodaten sollen überhaupt  in der ArcSDE gespeichert 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strukturieren andere Kreise ihre Geodaten in der Geodataba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5360" y="6248520"/>
            <a:ext cx="668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bau eines verwaltungsübergreifenden Geoinformationssystems in Schleswig-Hols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 Beispiel Kreis Herzogtum Lauenbu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9144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071720" y="304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is Herzogtum Lauen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29200" y="304920"/>
            <a:ext cx="354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29200" y="228600"/>
            <a:ext cx="358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lö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8680" y="1168560"/>
            <a:ext cx="35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deengeber für Feature-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771516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5360" y="6248520"/>
            <a:ext cx="668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bau eines verwaltungsübergreifenden Geoinformationssystems in Schleswig-Hols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 Beispiel Kreis Herzogtum Lauenbu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9144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071720" y="304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is Herzogtum Lauen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304920"/>
            <a:ext cx="354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29200" y="228600"/>
            <a:ext cx="358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x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8320" y="116856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SDE in der Pr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62120" y="1905120"/>
            <a:ext cx="7386480" cy="609480"/>
            <a:chOff x="762120" y="1905120"/>
            <a:chExt cx="7386480" cy="609480"/>
          </a:xfrm>
        </p:grpSpPr>
        <p:sp>
          <p:nvSpPr>
            <p:cNvPr id="281" name=""/>
            <p:cNvSpPr/>
            <p:nvPr/>
          </p:nvSpPr>
          <p:spPr>
            <a:xfrm>
              <a:off x="762120" y="221004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L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38080" y="1905120"/>
              <a:ext cx="60984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60c0f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09920" y="2057400"/>
              <a:ext cx="653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enbank für ALK – Daten (Struktur nach Vorgabe der Softwarefirm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2120" y="221004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L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143000" y="2514240"/>
            <a:ext cx="6302520" cy="1831320"/>
            <a:chOff x="1143000" y="2514240"/>
            <a:chExt cx="6302520" cy="1831320"/>
          </a:xfrm>
        </p:grpSpPr>
        <p:grpSp>
          <p:nvGrpSpPr>
            <p:cNvPr id="286" name=""/>
            <p:cNvGrpSpPr/>
            <p:nvPr/>
          </p:nvGrpSpPr>
          <p:grpSpPr>
            <a:xfrm>
              <a:off x="1676520" y="2819520"/>
              <a:ext cx="5769000" cy="307080"/>
              <a:chOff x="1676520" y="2819520"/>
              <a:chExt cx="5769000" cy="307080"/>
            </a:xfrm>
          </p:grpSpPr>
          <p:pic>
            <p:nvPicPr>
              <p:cNvPr id="2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6520" y="2819520"/>
                <a:ext cx="30456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1905120" y="2819520"/>
                <a:ext cx="554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ALK.GISADMIN.Flur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676520" y="3124080"/>
              <a:ext cx="5769000" cy="307080"/>
              <a:chOff x="1676520" y="3124080"/>
              <a:chExt cx="5769000" cy="307080"/>
            </a:xfrm>
          </p:grpSpPr>
          <p:pic>
            <p:nvPicPr>
              <p:cNvPr id="2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6520" y="3124080"/>
                <a:ext cx="30456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1905120" y="3124080"/>
                <a:ext cx="554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ALK.GISADMIN.Gebaeu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1905120" y="4038480"/>
              <a:ext cx="55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1676520" y="3733920"/>
              <a:ext cx="5769000" cy="307080"/>
              <a:chOff x="1676520" y="3733920"/>
              <a:chExt cx="5769000" cy="307080"/>
            </a:xfrm>
          </p:grpSpPr>
          <p:pic>
            <p:nvPicPr>
              <p:cNvPr id="2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676520" y="3733920"/>
                <a:ext cx="25704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1905120" y="3733920"/>
                <a:ext cx="554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LK.GISADMIN.Punk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676520" y="3429000"/>
              <a:ext cx="5769000" cy="307080"/>
              <a:chOff x="1676520" y="3429000"/>
              <a:chExt cx="5769000" cy="307080"/>
            </a:xfrm>
          </p:grpSpPr>
          <p:pic>
            <p:nvPicPr>
              <p:cNvPr id="29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676520" y="3429000"/>
                <a:ext cx="30456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1905120" y="3429000"/>
                <a:ext cx="554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LK.GISADMIN.Nutzu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9" name=""/>
            <p:cNvCxnSpPr>
              <a:stCxn id="282" idx="3"/>
              <a:endCxn id="287" idx="1"/>
            </p:cNvCxnSpPr>
            <p:nvPr/>
          </p:nvCxnSpPr>
          <p:spPr>
            <a:xfrm flipH="1" rot="16200000">
              <a:off x="1185120" y="2472120"/>
              <a:ext cx="450000" cy="53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" name=""/>
            <p:cNvCxnSpPr>
              <a:stCxn id="282" idx="3"/>
              <a:endCxn id="290" idx="1"/>
            </p:cNvCxnSpPr>
            <p:nvPr/>
          </p:nvCxnSpPr>
          <p:spPr>
            <a:xfrm flipH="1" rot="16200000">
              <a:off x="1032480" y="2624400"/>
              <a:ext cx="754920" cy="53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82" idx="3"/>
              <a:endCxn id="297" idx="1"/>
            </p:cNvCxnSpPr>
            <p:nvPr/>
          </p:nvCxnSpPr>
          <p:spPr>
            <a:xfrm flipH="1" rot="16200000">
              <a:off x="880200" y="2776680"/>
              <a:ext cx="1059480" cy="53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82" idx="3"/>
              <a:endCxn id="294" idx="1"/>
            </p:cNvCxnSpPr>
            <p:nvPr/>
          </p:nvCxnSpPr>
          <p:spPr>
            <a:xfrm flipH="1" rot="16200000">
              <a:off x="723960" y="2933280"/>
              <a:ext cx="1372320" cy="53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762120" y="1905120"/>
            <a:ext cx="3661920" cy="609480"/>
            <a:chOff x="762120" y="1905120"/>
            <a:chExt cx="3661920" cy="609480"/>
          </a:xfrm>
        </p:grpSpPr>
        <p:sp>
          <p:nvSpPr>
            <p:cNvPr id="304" name=""/>
            <p:cNvSpPr/>
            <p:nvPr/>
          </p:nvSpPr>
          <p:spPr>
            <a:xfrm>
              <a:off x="838080" y="1905120"/>
              <a:ext cx="609840" cy="609480"/>
            </a:xfrm>
            <a:prstGeom prst="can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2120" y="22096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ek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05240" y="2057400"/>
              <a:ext cx="281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enbank für Vektor - 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15360" y="6248520"/>
            <a:ext cx="668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bau eines verwaltungsübergreifenden Geoinformationssystems in Schleswig-Hols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 Beispiel Kreis Herzogtum Lauenbu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9144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071720" y="304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is Herzogtum Lauen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29200" y="304920"/>
            <a:ext cx="354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29200" y="228600"/>
            <a:ext cx="358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x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8320" y="116856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SDE in der Pr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143000" y="2454120"/>
            <a:ext cx="6454800" cy="3565440"/>
            <a:chOff x="1143000" y="2454120"/>
            <a:chExt cx="6454800" cy="3565440"/>
          </a:xfrm>
        </p:grpSpPr>
        <p:grpSp>
          <p:nvGrpSpPr>
            <p:cNvPr id="316" name=""/>
            <p:cNvGrpSpPr/>
            <p:nvPr/>
          </p:nvGrpSpPr>
          <p:grpSpPr>
            <a:xfrm>
              <a:off x="1676520" y="2590920"/>
              <a:ext cx="5921280" cy="380880"/>
              <a:chOff x="1676520" y="2590920"/>
              <a:chExt cx="5921280" cy="380880"/>
            </a:xfrm>
          </p:grpSpPr>
          <p:pic>
            <p:nvPicPr>
              <p:cNvPr id="3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6520" y="266688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2057400" y="2590920"/>
                <a:ext cx="554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vektor.GISADMIN.Abfall_Bod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9" name=""/>
            <p:cNvCxnSpPr/>
            <p:nvPr/>
          </p:nvCxnSpPr>
          <p:spPr>
            <a:xfrm flipH="1" rot="16200000">
              <a:off x="1262160" y="2395080"/>
              <a:ext cx="295560" cy="53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" name=""/>
            <p:cNvCxnSpPr/>
            <p:nvPr/>
          </p:nvCxnSpPr>
          <p:spPr>
            <a:xfrm flipH="1" rot="16200000">
              <a:off x="1071360" y="2585520"/>
              <a:ext cx="677160" cy="53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1" name=""/>
            <p:cNvCxnSpPr/>
            <p:nvPr/>
          </p:nvCxnSpPr>
          <p:spPr>
            <a:xfrm flipH="1" rot="16200000">
              <a:off x="880920" y="2775960"/>
              <a:ext cx="1058040" cy="53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2" name=""/>
            <p:cNvCxnSpPr/>
            <p:nvPr/>
          </p:nvCxnSpPr>
          <p:spPr>
            <a:xfrm flipH="1" rot="16200000">
              <a:off x="690480" y="2966400"/>
              <a:ext cx="1438920" cy="53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3" name=""/>
            <p:cNvCxnSpPr/>
            <p:nvPr/>
          </p:nvCxnSpPr>
          <p:spPr>
            <a:xfrm flipH="1" rot="16200000">
              <a:off x="493560" y="3163320"/>
              <a:ext cx="1832760" cy="53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24" name=""/>
            <p:cNvGrpSpPr/>
            <p:nvPr/>
          </p:nvGrpSpPr>
          <p:grpSpPr>
            <a:xfrm>
              <a:off x="1676520" y="2971800"/>
              <a:ext cx="5921280" cy="380880"/>
              <a:chOff x="1676520" y="2971800"/>
              <a:chExt cx="5921280" cy="380880"/>
            </a:xfrm>
          </p:grpSpPr>
          <p:pic>
            <p:nvPicPr>
              <p:cNvPr id="32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6520" y="304776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2057400" y="2971800"/>
                <a:ext cx="554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vektor.GISADMIN.Allgeme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1676520" y="3352680"/>
              <a:ext cx="5921280" cy="380880"/>
              <a:chOff x="1676520" y="3352680"/>
              <a:chExt cx="5921280" cy="380880"/>
            </a:xfrm>
          </p:grpSpPr>
          <p:pic>
            <p:nvPicPr>
              <p:cNvPr id="32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676520" y="342864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2057400" y="3352680"/>
                <a:ext cx="554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vektor.GISADMIN.Liegenschaf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1676520" y="3733920"/>
              <a:ext cx="5921280" cy="380880"/>
              <a:chOff x="1676520" y="3733920"/>
              <a:chExt cx="5921280" cy="380880"/>
            </a:xfrm>
          </p:grpSpPr>
          <p:pic>
            <p:nvPicPr>
              <p:cNvPr id="33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676520" y="380988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>
                <a:off x="2057400" y="3733920"/>
                <a:ext cx="554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vektor.GISADMIN.Natu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1676520" y="4114800"/>
              <a:ext cx="5921280" cy="380880"/>
              <a:chOff x="1676520" y="4114800"/>
              <a:chExt cx="5921280" cy="380880"/>
            </a:xfrm>
          </p:grpSpPr>
          <p:pic>
            <p:nvPicPr>
              <p:cNvPr id="33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676520" y="419076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>
                <a:off x="2057400" y="4114800"/>
                <a:ext cx="554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vektor.GISADMIN.Planu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676520" y="4495680"/>
              <a:ext cx="5921280" cy="380880"/>
              <a:chOff x="1676520" y="4495680"/>
              <a:chExt cx="5921280" cy="380880"/>
            </a:xfrm>
          </p:grpSpPr>
          <p:pic>
            <p:nvPicPr>
              <p:cNvPr id="33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676520" y="457164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"/>
              <p:cNvSpPr/>
              <p:nvPr/>
            </p:nvSpPr>
            <p:spPr>
              <a:xfrm>
                <a:off x="2057400" y="4495680"/>
                <a:ext cx="554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vektor.GISADMIN.Tourismu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1676520" y="4876920"/>
              <a:ext cx="5921280" cy="380880"/>
              <a:chOff x="1676520" y="4876920"/>
              <a:chExt cx="5921280" cy="380880"/>
            </a:xfrm>
          </p:grpSpPr>
          <p:pic>
            <p:nvPicPr>
              <p:cNvPr id="34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676520" y="495288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"/>
              <p:cNvSpPr/>
              <p:nvPr/>
            </p:nvSpPr>
            <p:spPr>
              <a:xfrm>
                <a:off x="2057400" y="4876920"/>
                <a:ext cx="554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vektor.GISADMIN.Verkeh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676520" y="5257800"/>
              <a:ext cx="5921280" cy="380880"/>
              <a:chOff x="1676520" y="5257800"/>
              <a:chExt cx="5921280" cy="3808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676520" y="533376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2057400" y="5257800"/>
                <a:ext cx="554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vektor.GISADMIN.Veterinaerwes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1676520" y="5638680"/>
              <a:ext cx="5921280" cy="380880"/>
              <a:chOff x="1676520" y="5638680"/>
              <a:chExt cx="5921280" cy="38088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76520" y="5714640"/>
                <a:ext cx="30456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"/>
              <p:cNvSpPr/>
              <p:nvPr/>
            </p:nvSpPr>
            <p:spPr>
              <a:xfrm>
                <a:off x="2057400" y="5638680"/>
                <a:ext cx="554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vektor.GISADMIN.Was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48" name=""/>
            <p:cNvCxnSpPr>
              <a:stCxn id="305" idx="2"/>
              <a:endCxn id="337" idx="1"/>
            </p:cNvCxnSpPr>
            <p:nvPr/>
          </p:nvCxnSpPr>
          <p:spPr>
            <a:xfrm flipH="1" rot="16200000">
              <a:off x="274680" y="3322080"/>
              <a:ext cx="2270520" cy="53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9" name=""/>
            <p:cNvCxnSpPr>
              <a:stCxn id="304" idx="3"/>
              <a:endCxn id="340" idx="1"/>
            </p:cNvCxnSpPr>
            <p:nvPr/>
          </p:nvCxnSpPr>
          <p:spPr>
            <a:xfrm flipH="1" rot="16200000">
              <a:off x="114120" y="3542760"/>
              <a:ext cx="2591640" cy="53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0" name=""/>
            <p:cNvCxnSpPr>
              <a:stCxn id="304" idx="3"/>
              <a:endCxn id="343" idx="1"/>
            </p:cNvCxnSpPr>
            <p:nvPr/>
          </p:nvCxnSpPr>
          <p:spPr>
            <a:xfrm flipH="1" rot="16200000">
              <a:off x="-76320" y="3733200"/>
              <a:ext cx="2972520" cy="53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1" name=""/>
            <p:cNvCxnSpPr>
              <a:stCxn id="304" idx="3"/>
              <a:endCxn id="346" idx="1"/>
            </p:cNvCxnSpPr>
            <p:nvPr/>
          </p:nvCxnSpPr>
          <p:spPr>
            <a:xfrm flipH="1" rot="16200000">
              <a:off x="-266760" y="3923640"/>
              <a:ext cx="3353400" cy="53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762120" y="1905120"/>
            <a:ext cx="7996680" cy="609480"/>
            <a:chOff x="762120" y="1905120"/>
            <a:chExt cx="7996680" cy="609480"/>
          </a:xfrm>
        </p:grpSpPr>
        <p:sp>
          <p:nvSpPr>
            <p:cNvPr id="353" name=""/>
            <p:cNvSpPr/>
            <p:nvPr/>
          </p:nvSpPr>
          <p:spPr>
            <a:xfrm>
              <a:off x="838080" y="1905120"/>
              <a:ext cx="609840" cy="609480"/>
            </a:xfrm>
            <a:prstGeom prst="can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120" y="22096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ek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05600" y="2057400"/>
              <a:ext cx="715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atenbank für Vektor – Daten mit Feature – Classes (Bsp. Allgemeine Dat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5360" y="6248520"/>
            <a:ext cx="668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bau eines verwaltungsübergreifenden Geoinformationssystems in Schleswig-Hols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 Beispiel Kreis Herzogtum Lauenbu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" y="9144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071720" y="304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is Herzogtum Lauen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29200" y="304920"/>
            <a:ext cx="354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29200" y="228600"/>
            <a:ext cx="358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x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8320" y="116856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SDE in der Pr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142640" y="2514600"/>
            <a:ext cx="7217280" cy="3200760"/>
            <a:chOff x="1142640" y="2514600"/>
            <a:chExt cx="7217280" cy="3200760"/>
          </a:xfrm>
        </p:grpSpPr>
        <p:grpSp>
          <p:nvGrpSpPr>
            <p:cNvPr id="365" name=""/>
            <p:cNvGrpSpPr/>
            <p:nvPr/>
          </p:nvGrpSpPr>
          <p:grpSpPr>
            <a:xfrm>
              <a:off x="2590920" y="4572000"/>
              <a:ext cx="5769000" cy="307080"/>
              <a:chOff x="2590920" y="4572000"/>
              <a:chExt cx="5769000" cy="307080"/>
            </a:xfrm>
          </p:grpSpPr>
          <p:pic>
            <p:nvPicPr>
              <p:cNvPr id="36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90920" y="4572000"/>
                <a:ext cx="25704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>
                <a:off x="2819520" y="4572000"/>
                <a:ext cx="554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vektor.GISADMIN.Gemeind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2590920" y="3048120"/>
              <a:ext cx="5769000" cy="307080"/>
              <a:chOff x="2590920" y="3048120"/>
              <a:chExt cx="5769000" cy="307080"/>
            </a:xfrm>
          </p:grpSpPr>
          <p:pic>
            <p:nvPicPr>
              <p:cNvPr id="3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0920" y="3048120"/>
                <a:ext cx="30456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>
                <a:off x="2819520" y="3048120"/>
                <a:ext cx="554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vektor.GISADMIN.Aem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590920" y="3657600"/>
              <a:ext cx="5769000" cy="307080"/>
              <a:chOff x="2590920" y="3657600"/>
              <a:chExt cx="5769000" cy="307080"/>
            </a:xfrm>
          </p:grpSpPr>
          <p:pic>
            <p:nvPicPr>
              <p:cNvPr id="3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90920" y="3657600"/>
                <a:ext cx="3049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"/>
              <p:cNvSpPr/>
              <p:nvPr/>
            </p:nvSpPr>
            <p:spPr>
              <a:xfrm>
                <a:off x="2819520" y="3657600"/>
                <a:ext cx="554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vektor.GISADMIN.Gemeindegrenz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590920" y="3352680"/>
              <a:ext cx="5769000" cy="307080"/>
              <a:chOff x="2590920" y="3352680"/>
              <a:chExt cx="5769000" cy="307080"/>
            </a:xfrm>
          </p:grpSpPr>
          <p:pic>
            <p:nvPicPr>
              <p:cNvPr id="37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90920" y="3352680"/>
                <a:ext cx="30456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2819520" y="3352680"/>
                <a:ext cx="554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vektor.GISADMIN.Gemeindegebie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2590920" y="3962520"/>
              <a:ext cx="5769000" cy="307080"/>
              <a:chOff x="2590920" y="3962520"/>
              <a:chExt cx="5769000" cy="307080"/>
            </a:xfrm>
          </p:grpSpPr>
          <p:pic>
            <p:nvPicPr>
              <p:cNvPr id="37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590920" y="3962520"/>
                <a:ext cx="3049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>
                <a:off x="2819520" y="3962520"/>
                <a:ext cx="554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vektor.GISADMIN.Kreisgrenz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2590920" y="4267080"/>
              <a:ext cx="5769000" cy="307080"/>
              <a:chOff x="2590920" y="4267080"/>
              <a:chExt cx="5769000" cy="307080"/>
            </a:xfrm>
          </p:grpSpPr>
          <p:pic>
            <p:nvPicPr>
              <p:cNvPr id="38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590920" y="4267080"/>
                <a:ext cx="30492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>
                <a:off x="2819520" y="4267080"/>
                <a:ext cx="554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vektor.GISADMIN.Kreisgrenze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1142640" y="2514600"/>
              <a:ext cx="6455160" cy="3200760"/>
              <a:chOff x="1142640" y="2514600"/>
              <a:chExt cx="6455160" cy="320076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1676520" y="2590920"/>
                <a:ext cx="5921280" cy="380880"/>
                <a:chOff x="1676520" y="2590920"/>
                <a:chExt cx="5921280" cy="380880"/>
              </a:xfrm>
            </p:grpSpPr>
            <p:pic>
              <p:nvPicPr>
                <p:cNvPr id="38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76520" y="2666880"/>
                  <a:ext cx="30456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6" name=""/>
                <p:cNvSpPr/>
                <p:nvPr/>
              </p:nvSpPr>
              <p:spPr>
                <a:xfrm>
                  <a:off x="2057400" y="2590920"/>
                  <a:ext cx="5540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600" spc="-1" strike="noStrike">
                      <a:solidFill>
                        <a:srgbClr val="000000"/>
                      </a:solidFill>
                      <a:latin typeface="Arial"/>
                    </a:rPr>
                    <a:t>vektor.GISADMIN.Allgemei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87" name=""/>
              <p:cNvCxnSpPr/>
              <p:nvPr/>
            </p:nvCxnSpPr>
            <p:spPr>
              <a:xfrm flipH="1" rot="16200000">
                <a:off x="1262160" y="2395080"/>
                <a:ext cx="295560" cy="5342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88" name=""/>
              <p:cNvCxnSpPr>
                <a:stCxn id="385" idx="2"/>
                <a:endCxn id="369" idx="1"/>
              </p:cNvCxnSpPr>
              <p:nvPr/>
            </p:nvCxnSpPr>
            <p:spPr>
              <a:xfrm flipH="1" rot="16200000">
                <a:off x="2098440" y="2700720"/>
                <a:ext cx="221400" cy="762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89" name=""/>
              <p:cNvCxnSpPr>
                <a:stCxn id="385" idx="2"/>
                <a:endCxn id="375" idx="1"/>
              </p:cNvCxnSpPr>
              <p:nvPr/>
            </p:nvCxnSpPr>
            <p:spPr>
              <a:xfrm flipH="1" rot="16200000">
                <a:off x="1946160" y="2853360"/>
                <a:ext cx="526320" cy="762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90" name=""/>
              <p:cNvCxnSpPr>
                <a:stCxn id="385" idx="2"/>
                <a:endCxn id="372" idx="1"/>
              </p:cNvCxnSpPr>
              <p:nvPr/>
            </p:nvCxnSpPr>
            <p:spPr>
              <a:xfrm flipH="1" rot="16200000">
                <a:off x="1793880" y="3005640"/>
                <a:ext cx="830880" cy="762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91" name=""/>
              <p:cNvCxnSpPr>
                <a:stCxn id="385" idx="2"/>
                <a:endCxn id="378" idx="1"/>
              </p:cNvCxnSpPr>
              <p:nvPr/>
            </p:nvCxnSpPr>
            <p:spPr>
              <a:xfrm flipH="1" rot="16200000">
                <a:off x="1641240" y="3157920"/>
                <a:ext cx="1135800" cy="762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92" name=""/>
              <p:cNvCxnSpPr>
                <a:stCxn id="385" idx="2"/>
                <a:endCxn id="381" idx="1"/>
              </p:cNvCxnSpPr>
              <p:nvPr/>
            </p:nvCxnSpPr>
            <p:spPr>
              <a:xfrm flipH="1" rot="16200000">
                <a:off x="1488960" y="3310560"/>
                <a:ext cx="1440360" cy="762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93" name=""/>
              <p:cNvCxnSpPr>
                <a:stCxn id="385" idx="2"/>
                <a:endCxn id="366" idx="1"/>
              </p:cNvCxnSpPr>
              <p:nvPr/>
            </p:nvCxnSpPr>
            <p:spPr>
              <a:xfrm flipH="1" rot="16200000">
                <a:off x="1332720" y="3466800"/>
                <a:ext cx="1753200" cy="762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394" name=""/>
              <p:cNvGrpSpPr/>
              <p:nvPr/>
            </p:nvGrpSpPr>
            <p:grpSpPr>
              <a:xfrm>
                <a:off x="1676520" y="4952880"/>
                <a:ext cx="5921280" cy="398880"/>
                <a:chOff x="1676520" y="4952880"/>
                <a:chExt cx="5921280" cy="398880"/>
              </a:xfrm>
            </p:grpSpPr>
            <p:pic>
              <p:nvPicPr>
                <p:cNvPr id="39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676520" y="5028840"/>
                  <a:ext cx="30456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6" name=""/>
                <p:cNvSpPr/>
                <p:nvPr/>
              </p:nvSpPr>
              <p:spPr>
                <a:xfrm>
                  <a:off x="2057400" y="4952880"/>
                  <a:ext cx="5540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...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97" name=""/>
              <p:cNvCxnSpPr>
                <a:stCxn id="353" idx="3"/>
                <a:endCxn id="395" idx="1"/>
              </p:cNvCxnSpPr>
              <p:nvPr/>
            </p:nvCxnSpPr>
            <p:spPr>
              <a:xfrm flipH="1" rot="16200000">
                <a:off x="76320" y="3580920"/>
                <a:ext cx="2667240" cy="5342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98" name=""/>
              <p:cNvCxnSpPr>
                <a:stCxn id="353" idx="3"/>
              </p:cNvCxnSpPr>
              <p:nvPr/>
            </p:nvCxnSpPr>
            <p:spPr>
              <a:xfrm>
                <a:off x="1142640" y="2514600"/>
                <a:ext cx="108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76201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ruktur der ArcSDE muss gut überlegt sein (Änderung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sind später schwer mögli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st wenige Datenbank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icht nach Fachdiensten o. a. strukturieren alle Daten na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Themen orientiert strukturieren (z. B. Wasser, allg. Da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rukturen anderer Behörden / Institutionen anschau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(spätere Zusammenarbeit / gemeinsame Datenhaltu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icht alle Daten in die ArcSDE üb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st viele Daten in einer Feature – Classes g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15360" y="6248520"/>
            <a:ext cx="668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bau eines verwaltungsübergreifenden Geoinformationssystems in Schleswig-Hols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 Beispiel Kreis Herzogtum Lauenbu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" y="9144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1"/>
          <a:stretch/>
        </p:blipFill>
        <p:spPr>
          <a:xfrm>
            <a:off x="533520" y="15228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071720" y="304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is Herzogtum Lauen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29200" y="304920"/>
            <a:ext cx="354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5029200" y="228600"/>
            <a:ext cx="358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örg Davids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Es ist alles total easy!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5360" y="6248520"/>
            <a:ext cx="668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bau eines verwaltungsübergreifenden Geoinformationssystems in Schleswig-Hols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 Beispiel Kreis Herzogtum Lauenbu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9144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071720" y="304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is Herzogtum Lauen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29200" y="304920"/>
            <a:ext cx="354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5029200" y="228600"/>
            <a:ext cx="358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15360" y="6248520"/>
            <a:ext cx="668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bau eines verwaltungsübergreifenden Geoinformationssystems in Schleswig-Hols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 Beispiel Kreis Herzogtum Lauenbu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9144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1071720" y="304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is Herzogtum Lauen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304920"/>
            <a:ext cx="354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29200" y="228600"/>
            <a:ext cx="358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takt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2920" y="1143000"/>
            <a:ext cx="33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ür weitere Inform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33720" y="2362320"/>
            <a:ext cx="54864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reis Herzogtum Lauenbu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chdienst Wasserwirtschaft / GIS-Kopfst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err Jörg David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arlachstraß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3909 Ratzebu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lefon: 04541 8885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l: davidsen@kreis-rz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10317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15360" y="6248520"/>
            <a:ext cx="668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bau eines verwaltungsübergreifenden Geoinformationssystems in Schleswig-Hols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 Beispiel Kreis Herzogtum Lauenbu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" y="9144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071720" y="304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is Herzogtum Lauen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23880" y="30477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ke für‘s Zuhöre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S – System des Kreises Herzogtum Lauenb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lö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xi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5360" y="6248520"/>
            <a:ext cx="668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bau eines verwaltungsübergreifenden Geoinformationssystems in Schleswig-Hols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 Beispiel Kreis Herzogtum Lauenbu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144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533520" y="15228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71720" y="304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is Herzogtum Lauen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304920"/>
            <a:ext cx="354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029200" y="228600"/>
            <a:ext cx="358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3760" y="1447920"/>
            <a:ext cx="3276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 Südosten Schleswig-Holst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äche: rd. 1.263 km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nwohner: rd. 186.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reisstadt: Ratzebu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5360" y="6248520"/>
            <a:ext cx="668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bau eines verwaltungsübergreifenden Geoinformationssystems in Schleswig-Hols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 Beispiel Kreis Herzogtum Lauenbu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9144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533520" y="15228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71720" y="304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is Herzogtum Lauen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304920"/>
            <a:ext cx="354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5029200" y="228600"/>
            <a:ext cx="358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457200" y="1066680"/>
            <a:ext cx="5029200" cy="4977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0880" y="99072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reis Herzogtum Lauenbu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886200"/>
            <a:ext cx="3276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rat: Gerd Kräm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d. 480 Mitarbei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Fachbere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d. 420 EDV -Arbeitsplät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08280" y="342900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reisverwal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3276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cGIS 9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 ArcView Single-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ArcEditor Concurrent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cIMS 9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cSDE 9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D-Analyst (Concurrent U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5360" y="6248520"/>
            <a:ext cx="668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bau eines verwaltungsübergreifenden Geoinformationssystems in Schleswig-Hols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 Beispiel Kreis Herzogtum Lauenbu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9144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533520" y="15228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71720" y="304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is Herzogtum Lauen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304920"/>
            <a:ext cx="354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5029200" y="228600"/>
            <a:ext cx="358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S -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066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gesetzte GIS -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2286000"/>
            <a:ext cx="3962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 ALB Datenbank (Hauswei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 ALB -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 ALK Arc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 ALK/ALB für ArcIMS + Standart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 ED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 F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 Miniclient für ArcI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 SDE Edit Arc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P SDE Edit ArcI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950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1"/>
          <a:stretch/>
        </p:blipFill>
        <p:spPr>
          <a:xfrm>
            <a:off x="1143000" y="1600200"/>
            <a:ext cx="1371600" cy="461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2"/>
          <a:stretch/>
        </p:blipFill>
        <p:spPr>
          <a:xfrm>
            <a:off x="4876920" y="1600200"/>
            <a:ext cx="233352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5360" y="6248520"/>
            <a:ext cx="668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bau eines verwaltungsübergreifenden Geoinformationssystems in Schleswig-Hols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 Beispiel Kreis Herzogtum Lauenbu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9144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71720" y="304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is Herzogtum Lauen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304920"/>
            <a:ext cx="354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0" y="228600"/>
            <a:ext cx="358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S -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84840" y="1066680"/>
            <a:ext cx="8237160" cy="4881240"/>
            <a:chOff x="384840" y="1066680"/>
            <a:chExt cx="8237160" cy="4881240"/>
          </a:xfrm>
        </p:grpSpPr>
        <p:sp>
          <p:nvSpPr>
            <p:cNvPr id="88" name=""/>
            <p:cNvSpPr/>
            <p:nvPr/>
          </p:nvSpPr>
          <p:spPr>
            <a:xfrm>
              <a:off x="447840" y="1066680"/>
              <a:ext cx="1663560" cy="4856400"/>
            </a:xfrm>
            <a:prstGeom prst="rect">
              <a:avLst/>
            </a:prstGeom>
            <a:solidFill>
              <a:srgbClr val="ccff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67480" y="1135080"/>
              <a:ext cx="1995480" cy="4788000"/>
            </a:xfrm>
            <a:prstGeom prst="rect">
              <a:avLst/>
            </a:prstGeom>
            <a:solidFill>
              <a:srgbClr val="99cc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78000" y="1135080"/>
              <a:ext cx="4256280" cy="4788000"/>
            </a:xfrm>
            <a:prstGeom prst="rect">
              <a:avLst/>
            </a:prstGeom>
            <a:solidFill>
              <a:srgbClr val="b2b2b2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44760" y="3008160"/>
              <a:ext cx="463680" cy="484200"/>
            </a:xfrm>
            <a:custGeom>
              <a:avLst/>
              <a:gdLst/>
              <a:ahLst/>
              <a:rect l="l" t="t" r="r" b="b"/>
              <a:pathLst>
                <a:path w="272" h="590">
                  <a:moveTo>
                    <a:pt x="227" y="590"/>
                  </a:moveTo>
                  <a:lnTo>
                    <a:pt x="0" y="273"/>
                  </a:lnTo>
                  <a:lnTo>
                    <a:pt x="90" y="0"/>
                  </a:lnTo>
                  <a:lnTo>
                    <a:pt x="272" y="46"/>
                  </a:lnTo>
                  <a:lnTo>
                    <a:pt x="227" y="59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00000">
              <a:off x="2311200" y="2038320"/>
              <a:ext cx="1595160" cy="166536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ff717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11560" y="2038320"/>
              <a:ext cx="1595160" cy="1665360"/>
            </a:xfrm>
            <a:prstGeom prst="cube">
              <a:avLst>
                <a:gd name="adj" fmla="val 25000"/>
              </a:avLst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ower"/>
            <p:cNvSpPr/>
            <p:nvPr/>
          </p:nvSpPr>
          <p:spPr>
            <a:xfrm>
              <a:off x="2774880" y="2522520"/>
              <a:ext cx="488880" cy="942840"/>
            </a:xfrm>
            <a:prstGeom prst="pie">
              <a:avLst/>
            </a:prstGeom>
            <a:gradFill rotWithShape="0">
              <a:gsLst>
                <a:gs pos="0">
                  <a:srgbClr val="f89678"/>
                </a:gs>
                <a:gs pos="100000">
                  <a:srgbClr val="fce4dd"/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241440" y="2938320"/>
              <a:ext cx="14634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39960" y="2800440"/>
              <a:ext cx="100080" cy="222120"/>
            </a:xfrm>
            <a:prstGeom prst="flowChartConnector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910880" y="2938320"/>
              <a:ext cx="863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09800" y="1830240"/>
              <a:ext cx="1440" cy="346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379160" y="4325760"/>
              <a:ext cx="5317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446120" y="2038320"/>
              <a:ext cx="4651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706920" y="2938320"/>
              <a:ext cx="1332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32440" y="2314440"/>
              <a:ext cx="1800" cy="298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832440" y="2453760"/>
              <a:ext cx="2667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832440" y="4325400"/>
              <a:ext cx="2667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32440" y="3424320"/>
              <a:ext cx="26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4772160" y="5089680"/>
              <a:ext cx="5968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7365960" y="3146400"/>
              <a:ext cx="569520" cy="415800"/>
              <a:chOff x="7365960" y="3146400"/>
              <a:chExt cx="569520" cy="415800"/>
            </a:xfrm>
          </p:grpSpPr>
          <p:sp>
            <p:nvSpPr>
              <p:cNvPr id="108" name=""/>
              <p:cNvSpPr/>
              <p:nvPr/>
            </p:nvSpPr>
            <p:spPr>
              <a:xfrm>
                <a:off x="7365960" y="3256560"/>
                <a:ext cx="266400" cy="276480"/>
              </a:xfrm>
              <a:custGeom>
                <a:avLst/>
                <a:gdLst/>
                <a:ahLst/>
                <a:rect l="l" t="t" r="r" b="b"/>
                <a:pathLst>
                  <a:path w="182" h="181">
                    <a:moveTo>
                      <a:pt x="136" y="181"/>
                    </a:moveTo>
                    <a:lnTo>
                      <a:pt x="0" y="91"/>
                    </a:lnTo>
                    <a:lnTo>
                      <a:pt x="46" y="0"/>
                    </a:lnTo>
                    <a:lnTo>
                      <a:pt x="182" y="45"/>
                    </a:lnTo>
                    <a:lnTo>
                      <a:pt x="136" y="18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537320" y="3146400"/>
                <a:ext cx="398160" cy="4158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d5e9fe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7365960" y="4049640"/>
              <a:ext cx="569520" cy="416160"/>
              <a:chOff x="7365960" y="4049640"/>
              <a:chExt cx="569520" cy="41616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5960" y="4159800"/>
                <a:ext cx="266400" cy="276480"/>
              </a:xfrm>
              <a:custGeom>
                <a:avLst/>
                <a:gdLst/>
                <a:ahLst/>
                <a:rect l="l" t="t" r="r" b="b"/>
                <a:pathLst>
                  <a:path w="182" h="181">
                    <a:moveTo>
                      <a:pt x="136" y="181"/>
                    </a:moveTo>
                    <a:lnTo>
                      <a:pt x="0" y="91"/>
                    </a:lnTo>
                    <a:lnTo>
                      <a:pt x="46" y="0"/>
                    </a:lnTo>
                    <a:lnTo>
                      <a:pt x="182" y="45"/>
                    </a:lnTo>
                    <a:lnTo>
                      <a:pt x="136" y="18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537320" y="4049640"/>
                <a:ext cx="398160" cy="4161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d5e9fe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365960" y="2174760"/>
              <a:ext cx="569520" cy="416160"/>
              <a:chOff x="7365960" y="2174760"/>
              <a:chExt cx="569520" cy="416160"/>
            </a:xfrm>
          </p:grpSpPr>
          <p:sp>
            <p:nvSpPr>
              <p:cNvPr id="114" name=""/>
              <p:cNvSpPr/>
              <p:nvPr/>
            </p:nvSpPr>
            <p:spPr>
              <a:xfrm>
                <a:off x="7365960" y="2284920"/>
                <a:ext cx="266400" cy="276480"/>
              </a:xfrm>
              <a:custGeom>
                <a:avLst/>
                <a:gdLst/>
                <a:ahLst/>
                <a:rect l="l" t="t" r="r" b="b"/>
                <a:pathLst>
                  <a:path w="182" h="181">
                    <a:moveTo>
                      <a:pt x="136" y="181"/>
                    </a:moveTo>
                    <a:lnTo>
                      <a:pt x="0" y="91"/>
                    </a:lnTo>
                    <a:lnTo>
                      <a:pt x="46" y="0"/>
                    </a:lnTo>
                    <a:lnTo>
                      <a:pt x="182" y="45"/>
                    </a:lnTo>
                    <a:lnTo>
                      <a:pt x="136" y="18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37320" y="2174760"/>
                <a:ext cx="398160" cy="41616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d5e9fe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900840" y="3909960"/>
              <a:ext cx="759960" cy="476280"/>
              <a:chOff x="6900840" y="3909960"/>
              <a:chExt cx="759960" cy="476280"/>
            </a:xfrm>
          </p:grpSpPr>
          <p:sp>
            <p:nvSpPr>
              <p:cNvPr id="117" name=""/>
              <p:cNvSpPr/>
              <p:nvPr/>
            </p:nvSpPr>
            <p:spPr>
              <a:xfrm>
                <a:off x="6900840" y="4098960"/>
                <a:ext cx="512640" cy="276120"/>
              </a:xfrm>
              <a:custGeom>
                <a:avLst/>
                <a:gdLst/>
                <a:ahLst/>
                <a:rect l="l" t="t" r="r" b="b"/>
                <a:pathLst>
                  <a:path w="408" h="181">
                    <a:moveTo>
                      <a:pt x="136" y="181"/>
                    </a:moveTo>
                    <a:lnTo>
                      <a:pt x="136" y="91"/>
                    </a:lnTo>
                    <a:lnTo>
                      <a:pt x="0" y="0"/>
                    </a:lnTo>
                    <a:lnTo>
                      <a:pt x="408" y="0"/>
                    </a:lnTo>
                    <a:lnTo>
                      <a:pt x="318" y="136"/>
                    </a:lnTo>
                    <a:lnTo>
                      <a:pt x="136" y="18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aptop"/>
              <p:cNvSpPr/>
              <p:nvPr/>
            </p:nvSpPr>
            <p:spPr>
              <a:xfrm>
                <a:off x="7096680" y="3909960"/>
                <a:ext cx="564120" cy="476280"/>
              </a:xfrm>
              <a:prstGeom prst="pi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d5e9fe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514440" y="1620720"/>
              <a:ext cx="1067760" cy="674640"/>
              <a:chOff x="514440" y="1620720"/>
              <a:chExt cx="1067760" cy="674640"/>
            </a:xfrm>
          </p:grpSpPr>
          <p:sp>
            <p:nvSpPr>
              <p:cNvPr id="120" name=""/>
              <p:cNvSpPr/>
              <p:nvPr/>
            </p:nvSpPr>
            <p:spPr>
              <a:xfrm>
                <a:off x="514440" y="19206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272" h="590">
                    <a:moveTo>
                      <a:pt x="227" y="590"/>
                    </a:moveTo>
                    <a:lnTo>
                      <a:pt x="0" y="273"/>
                    </a:lnTo>
                    <a:lnTo>
                      <a:pt x="90" y="0"/>
                    </a:lnTo>
                    <a:lnTo>
                      <a:pt x="272" y="46"/>
                    </a:lnTo>
                    <a:lnTo>
                      <a:pt x="227" y="59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computr3"/>
              <p:cNvSpPr/>
              <p:nvPr/>
            </p:nvSpPr>
            <p:spPr>
              <a:xfrm>
                <a:off x="717840" y="1620720"/>
                <a:ext cx="864360" cy="674640"/>
              </a:xfrm>
              <a:prstGeom prst="pie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ecfeec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900840" y="2038320"/>
              <a:ext cx="759960" cy="476280"/>
              <a:chOff x="6900840" y="2038320"/>
              <a:chExt cx="759960" cy="476280"/>
            </a:xfrm>
          </p:grpSpPr>
          <p:sp>
            <p:nvSpPr>
              <p:cNvPr id="123" name=""/>
              <p:cNvSpPr/>
              <p:nvPr/>
            </p:nvSpPr>
            <p:spPr>
              <a:xfrm>
                <a:off x="6900840" y="2227320"/>
                <a:ext cx="512640" cy="276120"/>
              </a:xfrm>
              <a:custGeom>
                <a:avLst/>
                <a:gdLst/>
                <a:ahLst/>
                <a:rect l="l" t="t" r="r" b="b"/>
                <a:pathLst>
                  <a:path w="408" h="181">
                    <a:moveTo>
                      <a:pt x="136" y="181"/>
                    </a:moveTo>
                    <a:lnTo>
                      <a:pt x="136" y="91"/>
                    </a:lnTo>
                    <a:lnTo>
                      <a:pt x="0" y="0"/>
                    </a:lnTo>
                    <a:lnTo>
                      <a:pt x="408" y="0"/>
                    </a:lnTo>
                    <a:lnTo>
                      <a:pt x="318" y="136"/>
                    </a:lnTo>
                    <a:lnTo>
                      <a:pt x="136" y="18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aptop"/>
              <p:cNvSpPr/>
              <p:nvPr/>
            </p:nvSpPr>
            <p:spPr>
              <a:xfrm>
                <a:off x="7096680" y="2038320"/>
                <a:ext cx="564120" cy="476280"/>
              </a:xfrm>
              <a:prstGeom prst="pi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d5e9fe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900840" y="3008160"/>
              <a:ext cx="759960" cy="478080"/>
              <a:chOff x="6900840" y="3008160"/>
              <a:chExt cx="759960" cy="478080"/>
            </a:xfrm>
          </p:grpSpPr>
          <p:sp>
            <p:nvSpPr>
              <p:cNvPr id="126" name=""/>
              <p:cNvSpPr/>
              <p:nvPr/>
            </p:nvSpPr>
            <p:spPr>
              <a:xfrm>
                <a:off x="6900840" y="3197880"/>
                <a:ext cx="512640" cy="277200"/>
              </a:xfrm>
              <a:custGeom>
                <a:avLst/>
                <a:gdLst/>
                <a:ahLst/>
                <a:rect l="l" t="t" r="r" b="b"/>
                <a:pathLst>
                  <a:path w="408" h="181">
                    <a:moveTo>
                      <a:pt x="136" y="181"/>
                    </a:moveTo>
                    <a:lnTo>
                      <a:pt x="136" y="91"/>
                    </a:lnTo>
                    <a:lnTo>
                      <a:pt x="0" y="0"/>
                    </a:lnTo>
                    <a:lnTo>
                      <a:pt x="408" y="0"/>
                    </a:lnTo>
                    <a:lnTo>
                      <a:pt x="318" y="136"/>
                    </a:lnTo>
                    <a:lnTo>
                      <a:pt x="136" y="18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aptop"/>
              <p:cNvSpPr/>
              <p:nvPr/>
            </p:nvSpPr>
            <p:spPr>
              <a:xfrm>
                <a:off x="7096680" y="3008160"/>
                <a:ext cx="564120" cy="478080"/>
              </a:xfrm>
              <a:prstGeom prst="pi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d5e9fe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447840" y="2730600"/>
              <a:ext cx="1069560" cy="674640"/>
              <a:chOff x="447840" y="2730600"/>
              <a:chExt cx="1069560" cy="674640"/>
            </a:xfrm>
          </p:grpSpPr>
          <p:sp>
            <p:nvSpPr>
              <p:cNvPr id="129" name=""/>
              <p:cNvSpPr/>
              <p:nvPr/>
            </p:nvSpPr>
            <p:spPr>
              <a:xfrm>
                <a:off x="447840" y="3030480"/>
                <a:ext cx="281880" cy="336240"/>
              </a:xfrm>
              <a:custGeom>
                <a:avLst/>
                <a:gdLst/>
                <a:ahLst/>
                <a:rect l="l" t="t" r="r" b="b"/>
                <a:pathLst>
                  <a:path w="272" h="590">
                    <a:moveTo>
                      <a:pt x="227" y="590"/>
                    </a:moveTo>
                    <a:lnTo>
                      <a:pt x="0" y="273"/>
                    </a:lnTo>
                    <a:lnTo>
                      <a:pt x="90" y="0"/>
                    </a:lnTo>
                    <a:lnTo>
                      <a:pt x="272" y="46"/>
                    </a:lnTo>
                    <a:lnTo>
                      <a:pt x="227" y="59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computr3"/>
              <p:cNvSpPr/>
              <p:nvPr/>
            </p:nvSpPr>
            <p:spPr>
              <a:xfrm>
                <a:off x="651600" y="2730600"/>
                <a:ext cx="865800" cy="674640"/>
              </a:xfrm>
              <a:prstGeom prst="pie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ecfeec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14440" y="3909960"/>
              <a:ext cx="1067760" cy="674640"/>
              <a:chOff x="514440" y="3909960"/>
              <a:chExt cx="1067760" cy="674640"/>
            </a:xfrm>
          </p:grpSpPr>
          <p:sp>
            <p:nvSpPr>
              <p:cNvPr id="132" name=""/>
              <p:cNvSpPr/>
              <p:nvPr/>
            </p:nvSpPr>
            <p:spPr>
              <a:xfrm>
                <a:off x="514440" y="420984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272" h="590">
                    <a:moveTo>
                      <a:pt x="227" y="590"/>
                    </a:moveTo>
                    <a:lnTo>
                      <a:pt x="0" y="273"/>
                    </a:lnTo>
                    <a:lnTo>
                      <a:pt x="90" y="0"/>
                    </a:lnTo>
                    <a:lnTo>
                      <a:pt x="272" y="46"/>
                    </a:lnTo>
                    <a:lnTo>
                      <a:pt x="227" y="59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computr3"/>
              <p:cNvSpPr/>
              <p:nvPr/>
            </p:nvSpPr>
            <p:spPr>
              <a:xfrm>
                <a:off x="717840" y="3909960"/>
                <a:ext cx="864360" cy="674640"/>
              </a:xfrm>
              <a:prstGeom prst="pie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ecfeec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2364120" y="3733920"/>
              <a:ext cx="144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Proxy-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970520" y="3979440"/>
              <a:ext cx="1861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970520" y="3286080"/>
              <a:ext cx="1440" cy="180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236920" y="2937960"/>
              <a:ext cx="15951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5038560" y="4118040"/>
              <a:ext cx="1133280" cy="1317240"/>
              <a:chOff x="5038560" y="4118040"/>
              <a:chExt cx="1133280" cy="1317240"/>
            </a:xfrm>
          </p:grpSpPr>
          <p:sp>
            <p:nvSpPr>
              <p:cNvPr id="139" name=""/>
              <p:cNvSpPr/>
              <p:nvPr/>
            </p:nvSpPr>
            <p:spPr>
              <a:xfrm>
                <a:off x="5305320" y="4880520"/>
                <a:ext cx="315000" cy="499680"/>
              </a:xfrm>
              <a:custGeom>
                <a:avLst/>
                <a:gdLst/>
                <a:ahLst/>
                <a:rect l="l" t="t" r="r" b="b"/>
                <a:pathLst>
                  <a:path w="215" h="327">
                    <a:moveTo>
                      <a:pt x="187" y="327"/>
                    </a:moveTo>
                    <a:cubicBezTo>
                      <a:pt x="160" y="301"/>
                      <a:pt x="140" y="262"/>
                      <a:pt x="110" y="240"/>
                    </a:cubicBezTo>
                    <a:cubicBezTo>
                      <a:pt x="92" y="226"/>
                      <a:pt x="52" y="202"/>
                      <a:pt x="52" y="202"/>
                    </a:cubicBezTo>
                    <a:cubicBezTo>
                      <a:pt x="46" y="192"/>
                      <a:pt x="41" y="181"/>
                      <a:pt x="33" y="173"/>
                    </a:cubicBezTo>
                    <a:cubicBezTo>
                      <a:pt x="25" y="165"/>
                      <a:pt x="7" y="165"/>
                      <a:pt x="4" y="154"/>
                    </a:cubicBezTo>
                    <a:cubicBezTo>
                      <a:pt x="0" y="136"/>
                      <a:pt x="16" y="90"/>
                      <a:pt x="23" y="68"/>
                    </a:cubicBezTo>
                    <a:cubicBezTo>
                      <a:pt x="58" y="79"/>
                      <a:pt x="76" y="89"/>
                      <a:pt x="119" y="68"/>
                    </a:cubicBezTo>
                    <a:cubicBezTo>
                      <a:pt x="128" y="63"/>
                      <a:pt x="123" y="47"/>
                      <a:pt x="129" y="39"/>
                    </a:cubicBezTo>
                    <a:cubicBezTo>
                      <a:pt x="136" y="30"/>
                      <a:pt x="147" y="25"/>
                      <a:pt x="158" y="20"/>
                    </a:cubicBezTo>
                    <a:cubicBezTo>
                      <a:pt x="176" y="12"/>
                      <a:pt x="215" y="0"/>
                      <a:pt x="215" y="0"/>
                    </a:cubicBezTo>
                    <a:lnTo>
                      <a:pt x="187" y="32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038560" y="4604040"/>
                <a:ext cx="464760" cy="482760"/>
              </a:xfrm>
              <a:custGeom>
                <a:avLst/>
                <a:gdLst/>
                <a:ahLst/>
                <a:rect l="l" t="t" r="r" b="b"/>
                <a:pathLst>
                  <a:path w="272" h="590">
                    <a:moveTo>
                      <a:pt x="227" y="590"/>
                    </a:moveTo>
                    <a:lnTo>
                      <a:pt x="0" y="273"/>
                    </a:lnTo>
                    <a:lnTo>
                      <a:pt x="90" y="0"/>
                    </a:lnTo>
                    <a:lnTo>
                      <a:pt x="272" y="46"/>
                    </a:lnTo>
                    <a:lnTo>
                      <a:pt x="227" y="59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tower"/>
              <p:cNvSpPr/>
              <p:nvPr/>
            </p:nvSpPr>
            <p:spPr>
              <a:xfrm>
                <a:off x="5371200" y="4118040"/>
                <a:ext cx="488160" cy="941400"/>
              </a:xfrm>
              <a:prstGeom prst="pie">
                <a:avLst/>
              </a:prstGeom>
              <a:gradFill rotWithShape="0">
                <a:gsLst>
                  <a:gs pos="0">
                    <a:srgbClr val="f89678"/>
                  </a:gs>
                  <a:gs pos="100000">
                    <a:srgbClr val="fce4dd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05640" y="4604040"/>
                <a:ext cx="466200" cy="6235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89678"/>
                  </a:gs>
                  <a:gs pos="100000">
                    <a:srgbClr val="fce4dd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72440" y="4811760"/>
                <a:ext cx="466200" cy="6235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89678"/>
                  </a:gs>
                  <a:gs pos="100000">
                    <a:srgbClr val="fce4dd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639960" y="4118040"/>
              <a:ext cx="1133640" cy="1387080"/>
              <a:chOff x="3639960" y="4118040"/>
              <a:chExt cx="1133640" cy="1387080"/>
            </a:xfrm>
          </p:grpSpPr>
          <p:sp>
            <p:nvSpPr>
              <p:cNvPr id="145" name=""/>
              <p:cNvSpPr/>
              <p:nvPr/>
            </p:nvSpPr>
            <p:spPr>
              <a:xfrm>
                <a:off x="3960000" y="4910400"/>
                <a:ext cx="315720" cy="500040"/>
              </a:xfrm>
              <a:custGeom>
                <a:avLst/>
                <a:gdLst/>
                <a:ahLst/>
                <a:rect l="l" t="t" r="r" b="b"/>
                <a:pathLst>
                  <a:path w="215" h="327">
                    <a:moveTo>
                      <a:pt x="187" y="327"/>
                    </a:moveTo>
                    <a:cubicBezTo>
                      <a:pt x="160" y="301"/>
                      <a:pt x="140" y="262"/>
                      <a:pt x="110" y="240"/>
                    </a:cubicBezTo>
                    <a:cubicBezTo>
                      <a:pt x="92" y="226"/>
                      <a:pt x="52" y="202"/>
                      <a:pt x="52" y="202"/>
                    </a:cubicBezTo>
                    <a:cubicBezTo>
                      <a:pt x="46" y="192"/>
                      <a:pt x="41" y="181"/>
                      <a:pt x="33" y="173"/>
                    </a:cubicBezTo>
                    <a:cubicBezTo>
                      <a:pt x="25" y="165"/>
                      <a:pt x="7" y="165"/>
                      <a:pt x="4" y="154"/>
                    </a:cubicBezTo>
                    <a:cubicBezTo>
                      <a:pt x="0" y="136"/>
                      <a:pt x="16" y="90"/>
                      <a:pt x="23" y="68"/>
                    </a:cubicBezTo>
                    <a:cubicBezTo>
                      <a:pt x="58" y="79"/>
                      <a:pt x="76" y="89"/>
                      <a:pt x="119" y="68"/>
                    </a:cubicBezTo>
                    <a:cubicBezTo>
                      <a:pt x="128" y="63"/>
                      <a:pt x="123" y="47"/>
                      <a:pt x="129" y="39"/>
                    </a:cubicBezTo>
                    <a:cubicBezTo>
                      <a:pt x="136" y="30"/>
                      <a:pt x="147" y="25"/>
                      <a:pt x="158" y="20"/>
                    </a:cubicBezTo>
                    <a:cubicBezTo>
                      <a:pt x="176" y="12"/>
                      <a:pt x="215" y="0"/>
                      <a:pt x="215" y="0"/>
                    </a:cubicBezTo>
                    <a:lnTo>
                      <a:pt x="187" y="32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3639960" y="4118040"/>
                <a:ext cx="822600" cy="969120"/>
                <a:chOff x="3639960" y="4118040"/>
                <a:chExt cx="822600" cy="9691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639960" y="4604400"/>
                  <a:ext cx="465480" cy="482760"/>
                </a:xfrm>
                <a:custGeom>
                  <a:avLst/>
                  <a:gdLst/>
                  <a:ahLst/>
                  <a:rect l="l" t="t" r="r" b="b"/>
                  <a:pathLst>
                    <a:path w="272" h="590">
                      <a:moveTo>
                        <a:pt x="227" y="590"/>
                      </a:moveTo>
                      <a:lnTo>
                        <a:pt x="0" y="273"/>
                      </a:lnTo>
                      <a:lnTo>
                        <a:pt x="90" y="0"/>
                      </a:lnTo>
                      <a:lnTo>
                        <a:pt x="272" y="46"/>
                      </a:lnTo>
                      <a:lnTo>
                        <a:pt x="227" y="59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tower"/>
                <p:cNvSpPr/>
                <p:nvPr/>
              </p:nvSpPr>
              <p:spPr>
                <a:xfrm>
                  <a:off x="3973320" y="4118040"/>
                  <a:ext cx="489240" cy="941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89678"/>
                    </a:gs>
                    <a:gs pos="100000">
                      <a:srgbClr val="fce4dd"/>
                    </a:gs>
                  </a:gsLst>
                  <a:lin ang="54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4306680" y="4673160"/>
                <a:ext cx="466920" cy="6238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89678"/>
                  </a:gs>
                  <a:gs pos="100000">
                    <a:srgbClr val="fce4dd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240440" y="4881240"/>
                <a:ext cx="466920" cy="6238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89678"/>
                  </a:gs>
                  <a:gs pos="100000">
                    <a:srgbClr val="fce4dd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rot="16200000">
              <a:off x="1618200" y="4601520"/>
              <a:ext cx="92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21480" y="169056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0000"/>
                  </a:solidFill>
                  <a:latin typeface="Arial"/>
                </a:rPr>
                <a:t>DM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24040" y="1447920"/>
              <a:ext cx="1384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Internet M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ArcI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4120" y="5334120"/>
              <a:ext cx="2098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Geodaten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SQL Server/ArcS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94800" y="5367240"/>
              <a:ext cx="125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Fachdaten-</a:t>
              </a:r>
              <a:br>
                <a:rPr sz="1600"/>
              </a:b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32280" y="1135080"/>
              <a:ext cx="1989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Anwendungen mit </a:t>
              </a:r>
              <a:br>
                <a:rPr sz="1600"/>
              </a:b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lokal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Fachdatenbank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4840" y="1066680"/>
              <a:ext cx="176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Browserbasier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Cli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4438800" y="2314440"/>
              <a:ext cx="820080" cy="969840"/>
              <a:chOff x="4438800" y="2314440"/>
              <a:chExt cx="820080" cy="969840"/>
            </a:xfrm>
          </p:grpSpPr>
          <p:sp>
            <p:nvSpPr>
              <p:cNvPr id="159" name=""/>
              <p:cNvSpPr/>
              <p:nvPr/>
            </p:nvSpPr>
            <p:spPr>
              <a:xfrm>
                <a:off x="4438800" y="2801160"/>
                <a:ext cx="464040" cy="483120"/>
              </a:xfrm>
              <a:custGeom>
                <a:avLst/>
                <a:gdLst/>
                <a:ahLst/>
                <a:rect l="l" t="t" r="r" b="b"/>
                <a:pathLst>
                  <a:path w="272" h="590">
                    <a:moveTo>
                      <a:pt x="227" y="590"/>
                    </a:moveTo>
                    <a:lnTo>
                      <a:pt x="0" y="273"/>
                    </a:lnTo>
                    <a:lnTo>
                      <a:pt x="90" y="0"/>
                    </a:lnTo>
                    <a:lnTo>
                      <a:pt x="272" y="46"/>
                    </a:lnTo>
                    <a:lnTo>
                      <a:pt x="227" y="59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tower"/>
              <p:cNvSpPr/>
              <p:nvPr/>
            </p:nvSpPr>
            <p:spPr>
              <a:xfrm>
                <a:off x="4771080" y="2314440"/>
                <a:ext cx="487800" cy="942480"/>
              </a:xfrm>
              <a:prstGeom prst="pie">
                <a:avLst/>
              </a:prstGeom>
              <a:gradFill rotWithShape="0">
                <a:gsLst>
                  <a:gs pos="0">
                    <a:srgbClr val="f89678"/>
                  </a:gs>
                  <a:gs pos="100000">
                    <a:srgbClr val="fce4dd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flipV="1" rot="5400000">
              <a:off x="6480360" y="4676760"/>
              <a:ext cx="104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Intra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379160" y="3146400"/>
              <a:ext cx="531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oland Westha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Das ist alles total easy!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5360" y="6248520"/>
            <a:ext cx="668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bau eines verwaltungsübergreifenden Geoinformationssystems in Schleswig-Hols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 Beispiel Kreis Herzogtum Lauenbu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9144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071720" y="304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is Herzogtum Lauen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304920"/>
            <a:ext cx="354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5029200" y="228600"/>
            <a:ext cx="358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5360" y="6248520"/>
            <a:ext cx="668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bau eines verwaltungsübergreifenden Geoinformationssystems in Schleswig-Hols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 Beispiel Kreis Herzogtum Lauenbu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9144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071720" y="304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is Herzogtum Lauen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304920"/>
            <a:ext cx="354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29200" y="228600"/>
            <a:ext cx="358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0280" y="1066680"/>
            <a:ext cx="61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ser größtes Problem bei der GIS – Einführ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79400" y="1600200"/>
            <a:ext cx="54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ktur (Datenbanken) auf dem Geodaten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200" y="2133720"/>
            <a:ext cx="5171760" cy="3202200"/>
            <a:chOff x="304200" y="2133720"/>
            <a:chExt cx="5171760" cy="3202200"/>
          </a:xfrm>
        </p:grpSpPr>
        <p:sp>
          <p:nvSpPr>
            <p:cNvPr id="181" name="tower"/>
            <p:cNvSpPr/>
            <p:nvPr/>
          </p:nvSpPr>
          <p:spPr>
            <a:xfrm>
              <a:off x="2664000" y="2895840"/>
              <a:ext cx="500040" cy="64584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60c0f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5800" y="3992760"/>
              <a:ext cx="642960" cy="655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60c0f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04840" y="3992760"/>
              <a:ext cx="641520" cy="655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60c0f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57640" y="3992760"/>
              <a:ext cx="641160" cy="655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60c0f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43480" y="3992760"/>
              <a:ext cx="642960" cy="655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60c0f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2120" y="41911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B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" name=""/>
            <p:cNvCxnSpPr>
              <a:stCxn id="182" idx="1"/>
              <a:endCxn id="181" idx="10"/>
            </p:cNvCxnSpPr>
            <p:nvPr/>
          </p:nvCxnSpPr>
          <p:spPr>
            <a:xfrm flipH="1" flipV="1" rot="5400000">
              <a:off x="1731600" y="2815560"/>
              <a:ext cx="451800" cy="1902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8" name=""/>
            <p:cNvCxnSpPr>
              <a:stCxn id="181" idx="11"/>
              <a:endCxn id="185" idx="1"/>
            </p:cNvCxnSpPr>
            <p:nvPr/>
          </p:nvCxnSpPr>
          <p:spPr>
            <a:xfrm flipH="1" rot="16200000">
              <a:off x="3610440" y="2838240"/>
              <a:ext cx="451800" cy="1857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9" name=""/>
            <p:cNvCxnSpPr>
              <a:stCxn id="181" idx="12"/>
              <a:endCxn id="183" idx="1"/>
            </p:cNvCxnSpPr>
            <p:nvPr/>
          </p:nvCxnSpPr>
          <p:spPr>
            <a:xfrm rot="5400000">
              <a:off x="2390760" y="3475440"/>
              <a:ext cx="451800" cy="583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84" idx="1"/>
              <a:endCxn id="181" idx="13"/>
            </p:cNvCxnSpPr>
            <p:nvPr/>
          </p:nvCxnSpPr>
          <p:spPr>
            <a:xfrm flipV="1" rot="16200000">
              <a:off x="3017160" y="3431520"/>
              <a:ext cx="451800" cy="670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1" name=""/>
            <p:cNvSpPr/>
            <p:nvPr/>
          </p:nvSpPr>
          <p:spPr>
            <a:xfrm>
              <a:off x="3352680" y="4191120"/>
              <a:ext cx="57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B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7400" y="4191120"/>
              <a:ext cx="57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B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4191120"/>
              <a:ext cx="57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B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38280" y="213372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200" y="4876920"/>
              <a:ext cx="120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oda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chbereich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99480" y="4876920"/>
              <a:ext cx="120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oda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chbereich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71080" y="4876920"/>
              <a:ext cx="120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oda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chbereich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66360" y="4876920"/>
              <a:ext cx="120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oda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achbereich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095880" y="2133720"/>
            <a:ext cx="2210040" cy="3202200"/>
            <a:chOff x="6095880" y="2133720"/>
            <a:chExt cx="2210040" cy="3202200"/>
          </a:xfrm>
        </p:grpSpPr>
        <p:sp>
          <p:nvSpPr>
            <p:cNvPr id="200" name=""/>
            <p:cNvSpPr/>
            <p:nvPr/>
          </p:nvSpPr>
          <p:spPr>
            <a:xfrm>
              <a:off x="6095880" y="2133720"/>
              <a:ext cx="22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der so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ower"/>
            <p:cNvSpPr/>
            <p:nvPr/>
          </p:nvSpPr>
          <p:spPr>
            <a:xfrm>
              <a:off x="6934320" y="2895840"/>
              <a:ext cx="500040" cy="645840"/>
            </a:xfrm>
            <a:prstGeom prst="pi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60c0f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3886200"/>
              <a:ext cx="642960" cy="655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60c0f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34320" y="40849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B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4" name=""/>
            <p:cNvCxnSpPr>
              <a:stCxn id="202" idx="1"/>
              <a:endCxn id="201" idx="10"/>
            </p:cNvCxnSpPr>
            <p:nvPr/>
          </p:nvCxnSpPr>
          <p:spPr>
            <a:xfrm flipH="1" flipV="1">
              <a:off x="7178400" y="3540960"/>
              <a:ext cx="21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5" name=""/>
            <p:cNvSpPr/>
            <p:nvPr/>
          </p:nvSpPr>
          <p:spPr>
            <a:xfrm>
              <a:off x="6399000" y="4876920"/>
              <a:ext cx="1524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oda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ler Fachberei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123720" y="556272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der noch ande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5360" y="6248520"/>
            <a:ext cx="668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bau eines verwaltungsübergreifenden Geoinformationssystems in Schleswig-Hols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 Beispiel Kreis Herzogtum Lauenbu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9144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071720" y="304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is Herzogtum Lauen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304920"/>
            <a:ext cx="354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29200" y="228600"/>
            <a:ext cx="358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90960" y="1066680"/>
            <a:ext cx="66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se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ößtes Problem bei der GIS – Einführ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2720" y="1676520"/>
            <a:ext cx="66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tenstruktur (Feature-Classes) in der (den) Datenbank(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38080" y="2133720"/>
            <a:ext cx="7467480" cy="3960720"/>
            <a:chOff x="838080" y="2133720"/>
            <a:chExt cx="7467480" cy="3960720"/>
          </a:xfrm>
        </p:grpSpPr>
        <p:grpSp>
          <p:nvGrpSpPr>
            <p:cNvPr id="217" name=""/>
            <p:cNvGrpSpPr/>
            <p:nvPr/>
          </p:nvGrpSpPr>
          <p:grpSpPr>
            <a:xfrm>
              <a:off x="3352680" y="2133720"/>
              <a:ext cx="4952880" cy="3960720"/>
              <a:chOff x="3352680" y="2133720"/>
              <a:chExt cx="4952880" cy="3960720"/>
            </a:xfrm>
          </p:grpSpPr>
          <p:pic>
            <p:nvPicPr>
              <p:cNvPr id="21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2680" y="2133720"/>
                <a:ext cx="4952880" cy="396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5790960" y="2895480"/>
                <a:ext cx="9144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ff0000"/>
                    </a:solidFill>
                    <a:latin typeface="Arial"/>
                  </a:rPr>
                  <a:t>?</a:t>
                </a:r>
                <a:endParaRPr b="0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tower"/>
            <p:cNvSpPr/>
            <p:nvPr/>
          </p:nvSpPr>
          <p:spPr>
            <a:xfrm>
              <a:off x="838080" y="3276720"/>
              <a:ext cx="1295640" cy="1676160"/>
            </a:xfrm>
            <a:prstGeom prst="pi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33480" y="3962520"/>
              <a:ext cx="743040" cy="772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60c0f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90720" y="4343400"/>
              <a:ext cx="660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aten-b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6000" y="3886200"/>
              <a:ext cx="762120" cy="685800"/>
            </a:xfrm>
            <a:custGeom>
              <a:avLst/>
              <a:gdLst>
                <a:gd name="textAreaLeft" fmla="*/ 118800 w 762120"/>
                <a:gd name="textAreaRight" fmla="*/ 667080 w 76212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29000" y="2743200"/>
              <a:ext cx="285840" cy="228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60c0f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34640" y="2743200"/>
              <a:ext cx="79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nba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72000" y="28195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Feature - Class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62485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15360" y="6248520"/>
            <a:ext cx="668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fbau eines verwaltungsübergreifenden Geoinformationssystems in Schleswig-Hols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 Beispiel Kreis Herzogtum Lauenbur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9144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071720" y="304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is Herzogtum Lauen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304920"/>
            <a:ext cx="354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29200" y="228600"/>
            <a:ext cx="358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lö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7960" y="1168560"/>
            <a:ext cx="73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atz für die Struktur der Datenbanken auf dem Geodaten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752480"/>
            <a:ext cx="73152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ge: Welche Geodaten habe ich überhaupt, die auf dem Server gespeichert werden soll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n verwaltungsmäßiges Denken nach Fachbereichen 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Fachübergreifendes Denken und Handel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7600" y="327672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ö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62120" y="5486400"/>
            <a:ext cx="3661920" cy="609480"/>
            <a:chOff x="762120" y="5486400"/>
            <a:chExt cx="3661920" cy="609480"/>
          </a:xfrm>
        </p:grpSpPr>
        <p:sp>
          <p:nvSpPr>
            <p:cNvPr id="238" name=""/>
            <p:cNvSpPr/>
            <p:nvPr/>
          </p:nvSpPr>
          <p:spPr>
            <a:xfrm>
              <a:off x="838080" y="5486400"/>
              <a:ext cx="609840" cy="609480"/>
            </a:xfrm>
            <a:prstGeom prst="can">
              <a:avLst>
                <a:gd name="adj" fmla="val 250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2120" y="579096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ek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05240" y="5638680"/>
              <a:ext cx="281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enbank für Vektor - 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62120" y="4648320"/>
            <a:ext cx="3672720" cy="609480"/>
            <a:chOff x="762120" y="4648320"/>
            <a:chExt cx="3672720" cy="609480"/>
          </a:xfrm>
        </p:grpSpPr>
        <p:sp>
          <p:nvSpPr>
            <p:cNvPr id="242" name=""/>
            <p:cNvSpPr/>
            <p:nvPr/>
          </p:nvSpPr>
          <p:spPr>
            <a:xfrm>
              <a:off x="838440" y="4648320"/>
              <a:ext cx="609480" cy="609480"/>
            </a:xfrm>
            <a:prstGeom prst="can">
              <a:avLst>
                <a:gd name="adj" fmla="val 25000"/>
              </a:avLst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2120" y="495324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a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05240" y="4800600"/>
              <a:ext cx="282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enbank für Raster - 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52880" y="3809880"/>
            <a:ext cx="3470040" cy="609480"/>
            <a:chOff x="4952880" y="3809880"/>
            <a:chExt cx="3470040" cy="609480"/>
          </a:xfrm>
        </p:grpSpPr>
        <p:sp>
          <p:nvSpPr>
            <p:cNvPr id="246" name=""/>
            <p:cNvSpPr/>
            <p:nvPr/>
          </p:nvSpPr>
          <p:spPr>
            <a:xfrm>
              <a:off x="5029200" y="3809880"/>
              <a:ext cx="609480" cy="609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52880" y="411444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962160"/>
              <a:ext cx="262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enbank für Test - 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762120" y="3809880"/>
            <a:ext cx="3458160" cy="609480"/>
            <a:chOff x="762120" y="3809880"/>
            <a:chExt cx="3458160" cy="609480"/>
          </a:xfrm>
        </p:grpSpPr>
        <p:sp>
          <p:nvSpPr>
            <p:cNvPr id="250" name=""/>
            <p:cNvSpPr/>
            <p:nvPr/>
          </p:nvSpPr>
          <p:spPr>
            <a:xfrm>
              <a:off x="762120" y="411480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L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8080" y="3809880"/>
              <a:ext cx="60984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60c0f1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04160" y="3962160"/>
              <a:ext cx="261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enbank für ALK - Da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120" y="411480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L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2:10:42Z</dcterms:created>
  <dc:creator>Kreis Herzogtum Lauenburg</dc:creator>
  <dc:description/>
  <dc:language>en-US</dc:language>
  <cp:lastModifiedBy>4421-09</cp:lastModifiedBy>
  <dcterms:modified xsi:type="dcterms:W3CDTF">2006-11-30T08:17:52Z</dcterms:modified>
  <cp:revision>70</cp:revision>
  <dc:subject/>
  <dc:title>KomFIT 2006</dc:title>
</cp:coreProperties>
</file>