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45354-6D17-4267-8BBA-79B1BD20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731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560" y="4074840"/>
            <a:ext cx="8731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AABEB-F5D6-42BD-B0A8-51F93B5F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260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8640" y="1447920"/>
            <a:ext cx="4260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560" y="4074840"/>
            <a:ext cx="4260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8640" y="4074840"/>
            <a:ext cx="4260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E3748-89DF-47AE-8C32-88B38B4A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2811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6920" y="1447920"/>
            <a:ext cx="2811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08920" y="1447920"/>
            <a:ext cx="2811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560" y="4074840"/>
            <a:ext cx="2811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6920" y="4074840"/>
            <a:ext cx="2811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08920" y="4074840"/>
            <a:ext cx="2811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845DB-D739-491C-9B77-FF9F0822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8F73-5AFD-4766-B7D3-6FD66B34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560" y="1447920"/>
            <a:ext cx="8731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2934-608C-487B-8DBD-18595A1F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731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488B-4D94-42C3-A47D-C3120902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260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8640" y="1447920"/>
            <a:ext cx="4260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ABF0-D303-4C76-A73D-BF1C1F32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A3B2-820D-49DE-8EBE-967B09F1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4560" y="685440"/>
            <a:ext cx="8731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370A-3B7D-4F41-A404-1D773AC4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260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8640" y="1447920"/>
            <a:ext cx="4260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560" y="4074840"/>
            <a:ext cx="4260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8CEB-D898-4016-94FC-D49D0B3A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560" y="1447920"/>
            <a:ext cx="8731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989F9-0777-4077-8284-DBCF704B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260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8640" y="1447920"/>
            <a:ext cx="4260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78640" y="4074840"/>
            <a:ext cx="4260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2612-D3AD-461A-8249-1E660501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260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8640" y="1447920"/>
            <a:ext cx="4260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560" y="4074840"/>
            <a:ext cx="8731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E034-11E3-4ECD-AAA7-48607319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731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560" y="4074840"/>
            <a:ext cx="8731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0633-BD04-4FE0-BB10-38E6312B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260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8640" y="1447920"/>
            <a:ext cx="4260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560" y="4074840"/>
            <a:ext cx="4260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78640" y="4074840"/>
            <a:ext cx="4260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F684-7F54-4505-B49C-5F9490F1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2811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6920" y="1447920"/>
            <a:ext cx="2811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08920" y="1447920"/>
            <a:ext cx="2811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560" y="4074840"/>
            <a:ext cx="2811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6920" y="4074840"/>
            <a:ext cx="2811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08920" y="4074840"/>
            <a:ext cx="2811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C813-223A-4779-8D96-F2E26795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731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860DC-14A9-4A48-84E0-E519C8CA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260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8640" y="1447920"/>
            <a:ext cx="4260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3A859-F7FC-4797-8C79-961F7052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DB027-C039-451C-A256-04EE7E7E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560" y="685440"/>
            <a:ext cx="8731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F3886-52C7-4D36-BD65-99F03FA8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260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8640" y="1447920"/>
            <a:ext cx="4260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560" y="4074840"/>
            <a:ext cx="4260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FBE5C-51D6-4100-AA5E-0B89FB15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260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8640" y="1447920"/>
            <a:ext cx="4260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8640" y="4074840"/>
            <a:ext cx="4260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4F2D4-30EA-44C5-8C8B-4C6B5DDA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260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8640" y="1447920"/>
            <a:ext cx="4260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560" y="4074840"/>
            <a:ext cx="8731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B9C7B-8F86-44A0-A9E7-4586C6D6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47920"/>
            <a:ext cx="8731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1458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d7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d7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67280" y="6552720"/>
            <a:ext cx="1376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d7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4B54-ADD9-4F6B-AE28-1181B4229CE6}" type="slidenum">
              <a:rPr b="0" lang="en-US" sz="1000" spc="-1" strike="noStrike">
                <a:solidFill>
                  <a:srgbClr val="777d7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242120" y="39600"/>
            <a:ext cx="1825560" cy="493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380880"/>
            <a:ext cx="181080" cy="6477120"/>
          </a:xfrm>
          <a:prstGeom prst="rect">
            <a:avLst/>
          </a:prstGeom>
          <a:solidFill>
            <a:srgbClr val="1f41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19080">
            <a:solidFill>
              <a:srgbClr val="f3b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9080">
            <a:solidFill>
              <a:srgbClr val="f3b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1835280" y="6552720"/>
            <a:ext cx="5757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d7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d7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1412640"/>
            <a:ext cx="873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04920" y="6552720"/>
            <a:ext cx="1458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d7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d7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1835280" y="6552720"/>
            <a:ext cx="5757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d7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d7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667280" y="6552720"/>
            <a:ext cx="1368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77d7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9FE5-E87D-4664-8E26-CA575FA14E15}" type="slidenum">
              <a:rPr b="0" lang="en-US" sz="1000" spc="-1" strike="noStrike">
                <a:solidFill>
                  <a:srgbClr val="777d7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238880" y="39600"/>
            <a:ext cx="1825920" cy="493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80880"/>
            <a:ext cx="181080" cy="6477120"/>
          </a:xfrm>
          <a:prstGeom prst="rect">
            <a:avLst/>
          </a:prstGeom>
          <a:solidFill>
            <a:srgbClr val="1f41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19080">
            <a:solidFill>
              <a:srgbClr val="f3b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9080">
            <a:solidFill>
              <a:srgbClr val="f3b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g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Zentrale Datenhaltung und dezentrale Datenerfassung - Wie passt das zusammen?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FB15-89D4-440E-B4D0-6D88FE248910}" type="slidenum">
              <a:t>1</a:t>
            </a:fld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3960" y="1085760"/>
            <a:ext cx="1663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61080" y="1085760"/>
            <a:ext cx="15778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3360" y="1816200"/>
            <a:ext cx="85885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ditierung von ArcSDE-Daten über Onlineverbind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0440" y="2333520"/>
            <a:ext cx="420696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106560" indent="-106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 ArcEditor als Standardt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6560" indent="-106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stützt Multiuserbetri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6560" indent="-106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leichzeitiges editieren derselben Daten von unterschiedlichen Nutzern nicht möglich (Konfliktmanagement bei der Speicheru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2333520"/>
            <a:ext cx="414972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151920" indent="-151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nd. ArcEditor Lizenz erforderl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51920" indent="-151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rmanenter Connect zur Datenbank erforderl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51920" indent="-151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mobile Datenbearbeitung im Gelände mögl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entrale Datenhaltung und dezentrale Datenerfassung - Wie passt das zusammen?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C2E2D-95B2-435B-BCD8-02CFC188426D}" type="slidenum">
              <a:t>10</a:t>
            </a:fld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img0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entrale Datenhaltung und dezentrale Datenerfassung - Wie passt das zusammen?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0041B-24A3-4EB2-993D-46B282689C2A}" type="slidenum">
              <a:t>11</a:t>
            </a:fld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3960" y="1085760"/>
            <a:ext cx="1663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61080" y="1085760"/>
            <a:ext cx="15778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3360" y="1816200"/>
            <a:ext cx="86454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ditierung von ArcSDE-Daten über Offlineverbindung (Disconnected Edit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0440" y="2333520"/>
            <a:ext cx="42544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108360" indent="-108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 ArcEditor als Standardt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8360" indent="-108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stützt Multiuserbetri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8360" indent="-108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rmanenter Connect zur Datenbank ist nicht erforderl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8360" indent="-108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8360" indent="-108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76920" y="2333520"/>
            <a:ext cx="4267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63360" indent="-6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nd. ArcEditor Lizenz erforderl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3360" indent="-6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mobile Datenbearbeitung im Gelände mögl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3360" indent="-6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tzer kann nicht erkennen, welche Daten bereits in Bearbeitung s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3360" indent="-6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leichzeitiges editieren derselben Daten von unterschiedlichen Nutzern möglich (Lösung: Versionierung und Konfliktmanagement – optimistisches Lock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3360" indent="-63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entrale Datenhaltung und dezentrale Datenerfassung - Wie passt das zusammen?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EAFC6-0B22-46CC-AFC2-07411362D28C}" type="slidenum">
              <a:t>12</a:t>
            </a:fld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img0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entrale Datenhaltung und dezentrale Datenerfassung - Wie passt das zusammen?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90CC6-DD68-4468-B298-B3624D02FA65}" type="slidenum">
              <a:t>13</a:t>
            </a:fld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3960" y="1085760"/>
            <a:ext cx="1663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61080" y="1085760"/>
            <a:ext cx="15778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3360" y="1816200"/>
            <a:ext cx="88106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ditierung von ArcSDE-Daten über Offlineverbindung (ArcPad Toolbar unter ArcG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0440" y="2333520"/>
            <a:ext cx="432108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115560" indent="-115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ndardtool in ArcG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5560" indent="-115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rmanenter Connect zur Datenbank ist nicht erforderl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5560" indent="-115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bearbeitung im Gelände mit ArcPad wird unterstütz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5560" indent="-115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cPad Projektdatei kann direkt erzeugt werden (APM-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5560" indent="-115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mbologien können für ArcPad übernommen we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2333520"/>
            <a:ext cx="426708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106560" indent="-106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nd. ArcEditor Lizenz erforderl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6560" indent="-106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arbeitung der Daten ist nur mit ArcPad möglich (kein anderes G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6560" indent="-106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tzer kann nicht erkennen, welche Daten bereits in Bearbeitung s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6560" indent="-106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leichzeitiges editieren derselben Daten von unterschiedlichen Nutzern möglich (Lösung: Versionierung und Konfliktmanagement – optimistisches Lock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6560" indent="-106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entrale Datenhaltung und dezentrale Datenerfassung - Wie passt das zusammen?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6F63A-37C9-4433-A764-8C31C9ADE196}" type="slidenum">
              <a:t>14</a:t>
            </a:fld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 machen Ihren Daten Bein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3284640"/>
            <a:ext cx="2089080" cy="2665440"/>
          </a:xfrm>
          <a:prstGeom prst="can">
            <a:avLst>
              <a:gd name="adj" fmla="val 1586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20" y="458136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daten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04920" y="1268280"/>
            <a:ext cx="8731080" cy="4471560"/>
            <a:chOff x="304920" y="1268280"/>
            <a:chExt cx="8731080" cy="447156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5867280" y="1268280"/>
              <a:ext cx="3014640" cy="134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"/>
            <p:cNvGrpSpPr/>
            <p:nvPr/>
          </p:nvGrpSpPr>
          <p:grpSpPr>
            <a:xfrm>
              <a:off x="899640" y="2852640"/>
              <a:ext cx="7603200" cy="2887200"/>
              <a:chOff x="899640" y="2852640"/>
              <a:chExt cx="7603200" cy="2887200"/>
            </a:xfrm>
          </p:grpSpPr>
          <p:sp>
            <p:nvSpPr>
              <p:cNvPr id="177" name=""/>
              <p:cNvSpPr/>
              <p:nvPr/>
            </p:nvSpPr>
            <p:spPr>
              <a:xfrm>
                <a:off x="1979640" y="3429000"/>
                <a:ext cx="216000" cy="2160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 flipV="1">
                <a:off x="1763280" y="3500280"/>
                <a:ext cx="144360" cy="1447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2268360" y="3357720"/>
                <a:ext cx="142920" cy="28728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flipV="1">
                <a:off x="2268000" y="3068280"/>
                <a:ext cx="142920" cy="28908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flipV="1">
                <a:off x="3203640" y="4581360"/>
                <a:ext cx="87120" cy="4608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flipV="1">
                <a:off x="3117960" y="4348080"/>
                <a:ext cx="85680" cy="23328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2987640" y="4160880"/>
                <a:ext cx="130320" cy="1872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771640" y="4076640"/>
                <a:ext cx="144720" cy="2160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flipV="1">
                <a:off x="2787120" y="4292640"/>
                <a:ext cx="55800" cy="2160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2842920" y="4508280"/>
                <a:ext cx="73080" cy="5076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90760" y="3505320"/>
                <a:ext cx="130320" cy="1396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2197800">
                <a:off x="3060360" y="3634920"/>
                <a:ext cx="216000" cy="51444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3300"/>
                    </a:solidFill>
                    <a:latin typeface="Arial"/>
                  </a:rPr>
                  <a:t>D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2987640" y="3499920"/>
                <a:ext cx="101520" cy="16668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3433680" y="3716280"/>
                <a:ext cx="201600" cy="907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3635280" y="3670200"/>
                <a:ext cx="216000" cy="4608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2975040" y="3213000"/>
                <a:ext cx="12600" cy="3096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flipV="1">
                <a:off x="4049640" y="5235480"/>
                <a:ext cx="97200" cy="169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4050000" y="5031360"/>
                <a:ext cx="26280" cy="20484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flipV="1">
                <a:off x="3912840" y="4893120"/>
                <a:ext cx="181080" cy="13896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500000">
                <a:off x="3914640" y="4365360"/>
                <a:ext cx="216000" cy="514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3300"/>
                    </a:solidFill>
                    <a:latin typeface="Arial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4976640" y="5238720"/>
                <a:ext cx="216000" cy="4608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flipV="1">
                <a:off x="4847760" y="5145120"/>
                <a:ext cx="128520" cy="13968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4745160" y="5145120"/>
                <a:ext cx="87120" cy="936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321160" y="4424400"/>
                <a:ext cx="203400" cy="210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720000">
                <a:off x="5176440" y="4712760"/>
                <a:ext cx="216000" cy="5144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3300"/>
                    </a:solidFill>
                    <a:latin typeface="Arial"/>
                  </a:rPr>
                  <a:t>T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4846320" y="4713120"/>
                <a:ext cx="25884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537160" y="4784760"/>
                <a:ext cx="130320" cy="1872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5667480" y="4925880"/>
                <a:ext cx="215640" cy="4608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4716360" y="4713120"/>
                <a:ext cx="130320" cy="14004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 flipV="1">
                <a:off x="6693840" y="5702400"/>
                <a:ext cx="97560" cy="162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6694560" y="5497560"/>
                <a:ext cx="23760" cy="20556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flipV="1">
                <a:off x="6536160" y="5361840"/>
                <a:ext cx="182520" cy="13716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6345000" y="5361480"/>
                <a:ext cx="190800" cy="1116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flipV="1">
                <a:off x="6178680" y="5379840"/>
                <a:ext cx="165960" cy="9216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6125760" y="5381640"/>
                <a:ext cx="53280" cy="1159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77720" y="4910040"/>
                <a:ext cx="182880" cy="1368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6960960" y="4934520"/>
                <a:ext cx="190800" cy="1116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8082720" y="5732640"/>
                <a:ext cx="98280" cy="72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flipV="1">
                <a:off x="8057880" y="5534640"/>
                <a:ext cx="24480" cy="2052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7848720" y="5444640"/>
                <a:ext cx="209520" cy="900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7689600" y="5445360"/>
                <a:ext cx="159120" cy="15336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flipV="1">
                <a:off x="7507080" y="5546160"/>
                <a:ext cx="182880" cy="5076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482600" y="5546880"/>
                <a:ext cx="24840" cy="12564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9687800">
                <a:off x="7896240" y="4724280"/>
                <a:ext cx="130320" cy="1396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286200">
                <a:off x="7810200" y="4896000"/>
                <a:ext cx="216000" cy="514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3300"/>
                    </a:solidFill>
                    <a:latin typeface="Arial"/>
                  </a:rPr>
                  <a:t>N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7534800" y="4938840"/>
                <a:ext cx="219600" cy="13608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34560" y="4989960"/>
                <a:ext cx="209520" cy="907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8343720" y="4928040"/>
                <a:ext cx="159120" cy="15336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7498440" y="5075280"/>
                <a:ext cx="36720" cy="1872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3924000" y="4221000"/>
                <a:ext cx="73080" cy="1447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3924360" y="4005000"/>
                <a:ext cx="0" cy="21564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213080" y="4435560"/>
                <a:ext cx="21600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4429080" y="4363560"/>
                <a:ext cx="144360" cy="7164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781440" y="4869000"/>
                <a:ext cx="71280" cy="21744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3708360" y="5086080"/>
                <a:ext cx="144360" cy="1429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3710160" y="5229360"/>
                <a:ext cx="71280" cy="727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94440" y="5229360"/>
                <a:ext cx="71280" cy="21564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65720" y="5445000"/>
                <a:ext cx="0" cy="2160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265720" y="5661000"/>
                <a:ext cx="1443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116000" y="3500280"/>
                <a:ext cx="216000" cy="2160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899640" y="3645000"/>
                <a:ext cx="142920" cy="21564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900000" y="3860640"/>
                <a:ext cx="71640" cy="1447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6372360" y="4654440"/>
                <a:ext cx="72720" cy="1447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6372360" y="4438440"/>
                <a:ext cx="0" cy="21564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588000" y="4583160"/>
                <a:ext cx="142920" cy="2160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260000">
                <a:off x="4070160" y="4148280"/>
                <a:ext cx="142560" cy="2156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1332000" y="3573000"/>
                <a:ext cx="144360" cy="1429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476360" y="3573360"/>
                <a:ext cx="142920" cy="1429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480000">
                <a:off x="6505200" y="4838400"/>
                <a:ext cx="216000" cy="5144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3300"/>
                    </a:solidFill>
                    <a:latin typeface="Arial"/>
                  </a:rPr>
                  <a:t>E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211640" y="2852640"/>
                <a:ext cx="2016000" cy="865440"/>
              </a:xfrm>
              <a:prstGeom prst="cloudCallout">
                <a:avLst>
                  <a:gd name="adj1" fmla="val -41259"/>
                  <a:gd name="adj2" fmla="val 8156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ir wollen mobil sein!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304920" y="1447920"/>
              <a:ext cx="87310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04920" y="685800"/>
            <a:ext cx="873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ösungsansatz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entrale Datenhaltung und dezentrale Datenerfassung - Wie passt das zusammen?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533E4-DF04-428F-ABD8-3E4D25B38705}" type="slidenum">
              <a:t>15</a:t>
            </a:fld>
          </a:p>
        </p:txBody>
      </p:sp>
    </p:spTree>
  </p:cSld>
  <p:transition spd="slow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 bringen sie sicher wieder nach Hau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3284640"/>
            <a:ext cx="2089080" cy="2665440"/>
          </a:xfrm>
          <a:prstGeom prst="can">
            <a:avLst>
              <a:gd name="adj" fmla="val 1586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30520" y="458136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daten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867280" y="1268280"/>
            <a:ext cx="3014640" cy="134460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2155680" y="3214080"/>
            <a:ext cx="716040" cy="380160"/>
            <a:chOff x="2155680" y="3214080"/>
            <a:chExt cx="716040" cy="380160"/>
          </a:xfrm>
        </p:grpSpPr>
        <p:sp>
          <p:nvSpPr>
            <p:cNvPr id="254" name=""/>
            <p:cNvSpPr/>
            <p:nvPr/>
          </p:nvSpPr>
          <p:spPr>
            <a:xfrm flipH="1" flipV="1">
              <a:off x="2760840" y="3464640"/>
              <a:ext cx="110880" cy="3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524680" y="3464640"/>
              <a:ext cx="236520" cy="100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2278080" y="3564000"/>
              <a:ext cx="246240" cy="28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2155680" y="3313080"/>
              <a:ext cx="12960" cy="2811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2183040" y="3214080"/>
              <a:ext cx="197280" cy="112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2380320" y="3214440"/>
              <a:ext cx="101520" cy="244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 rot="21360000">
            <a:off x="3048120" y="4005360"/>
            <a:ext cx="215640" cy="514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152040" y="5394600"/>
            <a:ext cx="731880" cy="358920"/>
            <a:chOff x="6152040" y="5394600"/>
            <a:chExt cx="731880" cy="358920"/>
          </a:xfrm>
        </p:grpSpPr>
        <p:sp>
          <p:nvSpPr>
            <p:cNvPr id="262" name=""/>
            <p:cNvSpPr/>
            <p:nvPr/>
          </p:nvSpPr>
          <p:spPr>
            <a:xfrm flipV="1">
              <a:off x="6152040" y="5740200"/>
              <a:ext cx="105120" cy="13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6228720" y="5532840"/>
              <a:ext cx="32040" cy="2077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234120" y="5400720"/>
              <a:ext cx="194400" cy="133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32480" y="5394600"/>
              <a:ext cx="210600" cy="1177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643800" y="5417640"/>
              <a:ext cx="177840" cy="88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22720" y="5416560"/>
              <a:ext cx="61200" cy="1184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6633360" y="4910040"/>
            <a:ext cx="182520" cy="1368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816600" y="4934520"/>
            <a:ext cx="190800" cy="111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339680" y="4695840"/>
            <a:ext cx="1161360" cy="1046880"/>
            <a:chOff x="7339680" y="4695840"/>
            <a:chExt cx="1161360" cy="1046880"/>
          </a:xfrm>
        </p:grpSpPr>
        <p:sp>
          <p:nvSpPr>
            <p:cNvPr id="271" name=""/>
            <p:cNvSpPr/>
            <p:nvPr/>
          </p:nvSpPr>
          <p:spPr>
            <a:xfrm>
              <a:off x="7707600" y="5729400"/>
              <a:ext cx="108000" cy="13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7824240" y="5531760"/>
              <a:ext cx="15120" cy="210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7851960" y="5448960"/>
              <a:ext cx="223920" cy="813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081280" y="5437800"/>
              <a:ext cx="183600" cy="1684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8267760" y="5551200"/>
              <a:ext cx="197280" cy="417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466120" y="5543640"/>
              <a:ext cx="34920" cy="1317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912200">
              <a:off x="7880760" y="4723920"/>
              <a:ext cx="147600" cy="1396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21313800">
              <a:off x="7880040" y="4895640"/>
              <a:ext cx="244800" cy="514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190360" y="4929840"/>
              <a:ext cx="248760" cy="1544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7527960" y="4994640"/>
              <a:ext cx="224280" cy="813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7339680" y="4920480"/>
              <a:ext cx="183600" cy="1684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433000" y="5070600"/>
              <a:ext cx="51840" cy="196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356080" y="5180040"/>
            <a:ext cx="200160" cy="460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556240" y="5086440"/>
            <a:ext cx="119160" cy="1396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89440" y="5086440"/>
            <a:ext cx="81000" cy="93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047560" y="4365720"/>
            <a:ext cx="189000" cy="210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rot="20880000">
            <a:off x="5169960" y="4654440"/>
            <a:ext cx="200160" cy="514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37080" y="4654440"/>
            <a:ext cx="23976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916160" y="4726080"/>
            <a:ext cx="120600" cy="187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4716360" y="4867200"/>
            <a:ext cx="200160" cy="460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76840" y="4654440"/>
            <a:ext cx="120600" cy="1396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287680" y="5170320"/>
            <a:ext cx="66600" cy="216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88040" y="5386320"/>
            <a:ext cx="0" cy="216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154120" y="5602320"/>
            <a:ext cx="13356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6227280" y="4654440"/>
            <a:ext cx="73080" cy="1447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227640" y="4438440"/>
            <a:ext cx="0" cy="215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43640" y="4583160"/>
            <a:ext cx="142920" cy="216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952800" y="5452560"/>
            <a:ext cx="104760" cy="15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4025880" y="5246280"/>
            <a:ext cx="34200" cy="207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011840" y="5110200"/>
            <a:ext cx="191520" cy="1357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rot="20100000">
            <a:off x="3970080" y="4581000"/>
            <a:ext cx="233280" cy="514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114800" y="4436640"/>
            <a:ext cx="79200" cy="144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194000" y="4221000"/>
            <a:ext cx="0" cy="216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3648240" y="4651200"/>
            <a:ext cx="233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3503160" y="4579920"/>
            <a:ext cx="157320" cy="712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270320" y="5084640"/>
            <a:ext cx="77760" cy="217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4269960" y="5301720"/>
            <a:ext cx="157320" cy="1429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348080" y="5444640"/>
            <a:ext cx="77760" cy="730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20340000">
            <a:off x="3880800" y="4363560"/>
            <a:ext cx="154080" cy="216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480000">
            <a:off x="6360840" y="4838400"/>
            <a:ext cx="215640" cy="514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11640" y="2852640"/>
            <a:ext cx="2016000" cy="865440"/>
          </a:xfrm>
          <a:prstGeom prst="cloudCallout">
            <a:avLst>
              <a:gd name="adj1" fmla="val -41259"/>
              <a:gd name="adj2" fmla="val 81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r wollen nach Haus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920" y="1447920"/>
            <a:ext cx="873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975760" y="3716280"/>
            <a:ext cx="189000" cy="211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36840" y="4076640"/>
            <a:ext cx="23976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76600" y="4076640"/>
            <a:ext cx="120600" cy="1396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2842920" y="3931920"/>
            <a:ext cx="73080" cy="144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843280" y="3716280"/>
            <a:ext cx="0" cy="216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987280" y="4508640"/>
            <a:ext cx="66600" cy="215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87640" y="4724280"/>
            <a:ext cx="0" cy="216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2854440" y="4940280"/>
            <a:ext cx="1332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131640" y="4506840"/>
            <a:ext cx="215640" cy="505800"/>
            <a:chOff x="3131640" y="4506840"/>
            <a:chExt cx="215640" cy="505800"/>
          </a:xfrm>
        </p:grpSpPr>
        <p:sp>
          <p:nvSpPr>
            <p:cNvPr id="322" name=""/>
            <p:cNvSpPr/>
            <p:nvPr/>
          </p:nvSpPr>
          <p:spPr>
            <a:xfrm flipH="1">
              <a:off x="3132000" y="4506840"/>
              <a:ext cx="106560" cy="2538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3131640" y="4760280"/>
              <a:ext cx="215640" cy="1666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238560" y="4927320"/>
              <a:ext cx="106920" cy="85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343160" y="3051360"/>
            <a:ext cx="593280" cy="611280"/>
            <a:chOff x="1343160" y="3051360"/>
            <a:chExt cx="593280" cy="611280"/>
          </a:xfrm>
        </p:grpSpPr>
        <p:sp>
          <p:nvSpPr>
            <p:cNvPr id="326" name=""/>
            <p:cNvSpPr/>
            <p:nvPr/>
          </p:nvSpPr>
          <p:spPr>
            <a:xfrm flipH="1">
              <a:off x="1835640" y="3051360"/>
              <a:ext cx="100800" cy="60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1763640" y="3112200"/>
              <a:ext cx="72360" cy="2458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628640" y="3358440"/>
              <a:ext cx="134280" cy="208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1343160" y="3474000"/>
              <a:ext cx="209160" cy="1886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1362600" y="3247920"/>
              <a:ext cx="38160" cy="223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1401120" y="3184920"/>
              <a:ext cx="83160" cy="630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entrale Datenhaltung und dezentrale Datenerfassung - Wie passt das zusammen?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4E00F-F0A2-4DF7-B873-1FE6867C897D}" type="slidenum">
              <a:t>16</a:t>
            </a:fld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img0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entrale Datenhaltung und dezentrale Datenerfassung - Wie passt das zusammen?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05657-9380-4C3B-88FB-FDD001B5FB53}" type="slidenum">
              <a:t>17</a:t>
            </a:fld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img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entrale Datenhaltung und dezentrale Datenerfassung - Wie passt das zusammen?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56FB2-A25A-4A5B-98F0-6E3114F2484D}" type="slidenum">
              <a:t>18</a:t>
            </a:fld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ld-Daten einpflegen 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33440" y="3673440"/>
            <a:ext cx="8531280" cy="2610000"/>
            <a:chOff x="433440" y="3673440"/>
            <a:chExt cx="8531280" cy="2610000"/>
          </a:xfrm>
        </p:grpSpPr>
        <p:pic>
          <p:nvPicPr>
            <p:cNvPr id="336" name="" descr=""/>
            <p:cNvPicPr/>
            <p:nvPr/>
          </p:nvPicPr>
          <p:blipFill>
            <a:blip r:embed="rId1"/>
            <a:stretch/>
          </p:blipFill>
          <p:spPr>
            <a:xfrm>
              <a:off x="3348000" y="3673440"/>
              <a:ext cx="360036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433440" y="3673440"/>
              <a:ext cx="1925640" cy="2502000"/>
            </a:xfrm>
            <a:prstGeom prst="can">
              <a:avLst>
                <a:gd name="adj" fmla="val 158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1360" y="4154400"/>
              <a:ext cx="151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Geodatenba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rcS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803160" y="4954680"/>
              <a:ext cx="1008000" cy="1008000"/>
              <a:chOff x="803160" y="4954680"/>
              <a:chExt cx="1008000" cy="1008000"/>
            </a:xfrm>
          </p:grpSpPr>
          <p:sp>
            <p:nvSpPr>
              <p:cNvPr id="340" name=""/>
              <p:cNvSpPr/>
              <p:nvPr/>
            </p:nvSpPr>
            <p:spPr>
              <a:xfrm>
                <a:off x="1018800" y="5170680"/>
                <a:ext cx="647640" cy="503280"/>
              </a:xfrm>
              <a:custGeom>
                <a:avLst/>
                <a:gdLst/>
                <a:ahLst/>
                <a:rect l="l" t="t" r="r" b="b"/>
                <a:pathLst>
                  <a:path w="408" h="317">
                    <a:moveTo>
                      <a:pt x="181" y="317"/>
                    </a:moveTo>
                    <a:lnTo>
                      <a:pt x="0" y="227"/>
                    </a:lnTo>
                    <a:lnTo>
                      <a:pt x="0" y="91"/>
                    </a:lnTo>
                    <a:lnTo>
                      <a:pt x="136" y="0"/>
                    </a:lnTo>
                    <a:lnTo>
                      <a:pt x="317" y="45"/>
                    </a:lnTo>
                    <a:lnTo>
                      <a:pt x="408" y="227"/>
                    </a:lnTo>
                    <a:lnTo>
                      <a:pt x="181" y="317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03160" y="5170680"/>
                <a:ext cx="215640" cy="576360"/>
              </a:xfrm>
              <a:custGeom>
                <a:avLst/>
                <a:gdLst/>
                <a:ahLst/>
                <a:rect l="l" t="t" r="r" b="b"/>
                <a:pathLst>
                  <a:path w="136" h="363">
                    <a:moveTo>
                      <a:pt x="0" y="0"/>
                    </a:moveTo>
                    <a:lnTo>
                      <a:pt x="136" y="91"/>
                    </a:lnTo>
                    <a:lnTo>
                      <a:pt x="136" y="227"/>
                    </a:lnTo>
                    <a:lnTo>
                      <a:pt x="45" y="363"/>
                    </a:lnTo>
                    <a:lnTo>
                      <a:pt x="0" y="3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03160" y="5531040"/>
                <a:ext cx="502920" cy="431640"/>
              </a:xfrm>
              <a:custGeom>
                <a:avLst/>
                <a:gdLst/>
                <a:ahLst/>
                <a:rect l="l" t="t" r="r" b="b"/>
                <a:pathLst>
                  <a:path w="317" h="272">
                    <a:moveTo>
                      <a:pt x="0" y="136"/>
                    </a:moveTo>
                    <a:lnTo>
                      <a:pt x="45" y="136"/>
                    </a:lnTo>
                    <a:lnTo>
                      <a:pt x="136" y="0"/>
                    </a:lnTo>
                    <a:lnTo>
                      <a:pt x="317" y="90"/>
                    </a:lnTo>
                    <a:lnTo>
                      <a:pt x="272" y="272"/>
                    </a:lnTo>
                    <a:lnTo>
                      <a:pt x="0" y="272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234800" y="5531040"/>
                <a:ext cx="576360" cy="431640"/>
              </a:xfrm>
              <a:custGeom>
                <a:avLst/>
                <a:gdLst/>
                <a:ahLst/>
                <a:rect l="l" t="t" r="r" b="b"/>
                <a:pathLst>
                  <a:path w="363" h="272">
                    <a:moveTo>
                      <a:pt x="0" y="272"/>
                    </a:moveTo>
                    <a:lnTo>
                      <a:pt x="45" y="90"/>
                    </a:lnTo>
                    <a:lnTo>
                      <a:pt x="272" y="0"/>
                    </a:lnTo>
                    <a:lnTo>
                      <a:pt x="363" y="272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03160" y="4954680"/>
                <a:ext cx="647640" cy="360360"/>
              </a:xfrm>
              <a:custGeom>
                <a:avLst/>
                <a:gdLst/>
                <a:ahLst/>
                <a:rect l="l" t="t" r="r" b="b"/>
                <a:pathLst>
                  <a:path w="408" h="227">
                    <a:moveTo>
                      <a:pt x="0" y="136"/>
                    </a:moveTo>
                    <a:lnTo>
                      <a:pt x="0" y="0"/>
                    </a:lnTo>
                    <a:lnTo>
                      <a:pt x="408" y="0"/>
                    </a:lnTo>
                    <a:lnTo>
                      <a:pt x="272" y="136"/>
                    </a:lnTo>
                    <a:lnTo>
                      <a:pt x="136" y="227"/>
                    </a:lnTo>
                    <a:lnTo>
                      <a:pt x="0" y="136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234800" y="4954680"/>
                <a:ext cx="576360" cy="576360"/>
              </a:xfrm>
              <a:custGeom>
                <a:avLst/>
                <a:gdLst/>
                <a:ahLst/>
                <a:rect l="l" t="t" r="r" b="b"/>
                <a:pathLst>
                  <a:path w="363" h="363">
                    <a:moveTo>
                      <a:pt x="136" y="0"/>
                    </a:moveTo>
                    <a:lnTo>
                      <a:pt x="363" y="0"/>
                    </a:lnTo>
                    <a:lnTo>
                      <a:pt x="363" y="363"/>
                    </a:lnTo>
                    <a:lnTo>
                      <a:pt x="272" y="363"/>
                    </a:lnTo>
                    <a:lnTo>
                      <a:pt x="181" y="181"/>
                    </a:lnTo>
                    <a:lnTo>
                      <a:pt x="0" y="136"/>
                    </a:lnTo>
                    <a:lnTo>
                      <a:pt x="136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666440" y="5531040"/>
                <a:ext cx="144720" cy="431640"/>
              </a:xfrm>
              <a:custGeom>
                <a:avLst/>
                <a:gdLst/>
                <a:ahLst/>
                <a:rect l="l" t="t" r="r" b="b"/>
                <a:pathLst>
                  <a:path w="91" h="272">
                    <a:moveTo>
                      <a:pt x="91" y="0"/>
                    </a:moveTo>
                    <a:lnTo>
                      <a:pt x="91" y="272"/>
                    </a:lnTo>
                    <a:lnTo>
                      <a:pt x="0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47" name="" descr=""/>
            <p:cNvPicPr/>
            <p:nvPr/>
          </p:nvPicPr>
          <p:blipFill>
            <a:blip r:embed="rId5"/>
            <a:stretch/>
          </p:blipFill>
          <p:spPr>
            <a:xfrm>
              <a:off x="8061480" y="4267080"/>
              <a:ext cx="903240" cy="172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8" name=""/>
            <p:cNvGrpSpPr/>
            <p:nvPr/>
          </p:nvGrpSpPr>
          <p:grpSpPr>
            <a:xfrm>
              <a:off x="7812000" y="5059440"/>
              <a:ext cx="1007640" cy="718920"/>
              <a:chOff x="7812000" y="5059440"/>
              <a:chExt cx="1007640" cy="718920"/>
            </a:xfrm>
          </p:grpSpPr>
          <p:sp>
            <p:nvSpPr>
              <p:cNvPr id="349" name=""/>
              <p:cNvSpPr/>
              <p:nvPr/>
            </p:nvSpPr>
            <p:spPr>
              <a:xfrm>
                <a:off x="8027640" y="5275080"/>
                <a:ext cx="647280" cy="503280"/>
              </a:xfrm>
              <a:custGeom>
                <a:avLst/>
                <a:gdLst/>
                <a:ahLst/>
                <a:rect l="l" t="t" r="r" b="b"/>
                <a:pathLst>
                  <a:path w="408" h="317">
                    <a:moveTo>
                      <a:pt x="181" y="317"/>
                    </a:moveTo>
                    <a:lnTo>
                      <a:pt x="0" y="227"/>
                    </a:lnTo>
                    <a:lnTo>
                      <a:pt x="0" y="91"/>
                    </a:lnTo>
                    <a:lnTo>
                      <a:pt x="136" y="0"/>
                    </a:lnTo>
                    <a:lnTo>
                      <a:pt x="317" y="45"/>
                    </a:lnTo>
                    <a:lnTo>
                      <a:pt x="408" y="227"/>
                    </a:lnTo>
                    <a:lnTo>
                      <a:pt x="181" y="317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812000" y="5059440"/>
                <a:ext cx="647640" cy="360360"/>
              </a:xfrm>
              <a:custGeom>
                <a:avLst/>
                <a:gdLst/>
                <a:ahLst/>
                <a:rect l="l" t="t" r="r" b="b"/>
                <a:pathLst>
                  <a:path w="408" h="227">
                    <a:moveTo>
                      <a:pt x="0" y="136"/>
                    </a:moveTo>
                    <a:lnTo>
                      <a:pt x="0" y="0"/>
                    </a:lnTo>
                    <a:lnTo>
                      <a:pt x="408" y="0"/>
                    </a:lnTo>
                    <a:lnTo>
                      <a:pt x="272" y="136"/>
                    </a:lnTo>
                    <a:lnTo>
                      <a:pt x="136" y="227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243640" y="5059440"/>
                <a:ext cx="576000" cy="576000"/>
              </a:xfrm>
              <a:custGeom>
                <a:avLst/>
                <a:gdLst/>
                <a:ahLst/>
                <a:rect l="l" t="t" r="r" b="b"/>
                <a:pathLst>
                  <a:path w="363" h="363">
                    <a:moveTo>
                      <a:pt x="136" y="0"/>
                    </a:moveTo>
                    <a:lnTo>
                      <a:pt x="363" y="0"/>
                    </a:lnTo>
                    <a:lnTo>
                      <a:pt x="363" y="363"/>
                    </a:lnTo>
                    <a:lnTo>
                      <a:pt x="272" y="363"/>
                    </a:lnTo>
                    <a:lnTo>
                      <a:pt x="181" y="181"/>
                    </a:lnTo>
                    <a:lnTo>
                      <a:pt x="0" y="136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2" name=""/>
          <p:cNvGrpSpPr/>
          <p:nvPr/>
        </p:nvGrpSpPr>
        <p:grpSpPr>
          <a:xfrm>
            <a:off x="7821720" y="4772160"/>
            <a:ext cx="1008000" cy="1008000"/>
            <a:chOff x="7821720" y="4772160"/>
            <a:chExt cx="1008000" cy="1008000"/>
          </a:xfrm>
        </p:grpSpPr>
        <p:sp>
          <p:nvSpPr>
            <p:cNvPr id="353" name=""/>
            <p:cNvSpPr/>
            <p:nvPr/>
          </p:nvSpPr>
          <p:spPr>
            <a:xfrm>
              <a:off x="8037720" y="5276880"/>
              <a:ext cx="647640" cy="503280"/>
            </a:xfrm>
            <a:custGeom>
              <a:avLst/>
              <a:gdLst/>
              <a:ahLst/>
              <a:rect l="l" t="t" r="r" b="b"/>
              <a:pathLst>
                <a:path w="408" h="317">
                  <a:moveTo>
                    <a:pt x="181" y="317"/>
                  </a:moveTo>
                  <a:lnTo>
                    <a:pt x="0" y="227"/>
                  </a:lnTo>
                  <a:lnTo>
                    <a:pt x="0" y="91"/>
                  </a:lnTo>
                  <a:lnTo>
                    <a:pt x="136" y="0"/>
                  </a:lnTo>
                  <a:lnTo>
                    <a:pt x="317" y="45"/>
                  </a:lnTo>
                  <a:lnTo>
                    <a:pt x="408" y="227"/>
                  </a:lnTo>
                  <a:lnTo>
                    <a:pt x="181" y="31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53360" y="5060880"/>
              <a:ext cx="576360" cy="576360"/>
            </a:xfrm>
            <a:custGeom>
              <a:avLst/>
              <a:gdLst/>
              <a:ahLst/>
              <a:rect l="l" t="t" r="r" b="b"/>
              <a:pathLst>
                <a:path w="363" h="363">
                  <a:moveTo>
                    <a:pt x="136" y="0"/>
                  </a:moveTo>
                  <a:lnTo>
                    <a:pt x="363" y="0"/>
                  </a:lnTo>
                  <a:lnTo>
                    <a:pt x="363" y="363"/>
                  </a:lnTo>
                  <a:lnTo>
                    <a:pt x="272" y="363"/>
                  </a:lnTo>
                  <a:lnTo>
                    <a:pt x="181" y="181"/>
                  </a:lnTo>
                  <a:lnTo>
                    <a:pt x="0" y="136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21720" y="4772160"/>
              <a:ext cx="647640" cy="649080"/>
            </a:xfrm>
            <a:custGeom>
              <a:avLst/>
              <a:gdLst/>
              <a:ahLst/>
              <a:rect l="l" t="t" r="r" b="b"/>
              <a:pathLst>
                <a:path w="408" h="409">
                  <a:moveTo>
                    <a:pt x="0" y="182"/>
                  </a:moveTo>
                  <a:lnTo>
                    <a:pt x="272" y="0"/>
                  </a:lnTo>
                  <a:lnTo>
                    <a:pt x="408" y="182"/>
                  </a:lnTo>
                  <a:lnTo>
                    <a:pt x="272" y="318"/>
                  </a:lnTo>
                  <a:lnTo>
                    <a:pt x="136" y="409"/>
                  </a:lnTo>
                  <a:lnTo>
                    <a:pt x="0" y="318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651640" y="4411800"/>
            <a:ext cx="2089080" cy="1008000"/>
            <a:chOff x="5651640" y="4411800"/>
            <a:chExt cx="2089080" cy="1008000"/>
          </a:xfrm>
        </p:grpSpPr>
        <p:sp>
          <p:nvSpPr>
            <p:cNvPr id="357" name=""/>
            <p:cNvSpPr/>
            <p:nvPr/>
          </p:nvSpPr>
          <p:spPr>
            <a:xfrm>
              <a:off x="7021440" y="5203800"/>
              <a:ext cx="71928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651640" y="4411800"/>
              <a:ext cx="1008000" cy="1008000"/>
              <a:chOff x="5651640" y="4411800"/>
              <a:chExt cx="1008000" cy="1008000"/>
            </a:xfrm>
          </p:grpSpPr>
          <p:sp>
            <p:nvSpPr>
              <p:cNvPr id="359" name=""/>
              <p:cNvSpPr/>
              <p:nvPr/>
            </p:nvSpPr>
            <p:spPr>
              <a:xfrm>
                <a:off x="5867640" y="4916520"/>
                <a:ext cx="647640" cy="503280"/>
              </a:xfrm>
              <a:custGeom>
                <a:avLst/>
                <a:gdLst/>
                <a:ahLst/>
                <a:rect l="l" t="t" r="r" b="b"/>
                <a:pathLst>
                  <a:path w="408" h="317">
                    <a:moveTo>
                      <a:pt x="181" y="317"/>
                    </a:moveTo>
                    <a:lnTo>
                      <a:pt x="0" y="227"/>
                    </a:lnTo>
                    <a:lnTo>
                      <a:pt x="0" y="91"/>
                    </a:lnTo>
                    <a:lnTo>
                      <a:pt x="136" y="0"/>
                    </a:lnTo>
                    <a:lnTo>
                      <a:pt x="317" y="45"/>
                    </a:lnTo>
                    <a:lnTo>
                      <a:pt x="408" y="227"/>
                    </a:lnTo>
                    <a:lnTo>
                      <a:pt x="181" y="317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083280" y="4700520"/>
                <a:ext cx="576360" cy="576360"/>
              </a:xfrm>
              <a:custGeom>
                <a:avLst/>
                <a:gdLst/>
                <a:ahLst/>
                <a:rect l="l" t="t" r="r" b="b"/>
                <a:pathLst>
                  <a:path w="363" h="363">
                    <a:moveTo>
                      <a:pt x="136" y="0"/>
                    </a:moveTo>
                    <a:lnTo>
                      <a:pt x="363" y="0"/>
                    </a:lnTo>
                    <a:lnTo>
                      <a:pt x="363" y="363"/>
                    </a:lnTo>
                    <a:lnTo>
                      <a:pt x="272" y="363"/>
                    </a:lnTo>
                    <a:lnTo>
                      <a:pt x="181" y="181"/>
                    </a:lnTo>
                    <a:lnTo>
                      <a:pt x="0" y="136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651640" y="4411800"/>
                <a:ext cx="647640" cy="649080"/>
              </a:xfrm>
              <a:custGeom>
                <a:avLst/>
                <a:gdLst/>
                <a:ahLst/>
                <a:rect l="l" t="t" r="r" b="b"/>
                <a:pathLst>
                  <a:path w="408" h="409">
                    <a:moveTo>
                      <a:pt x="0" y="182"/>
                    </a:moveTo>
                    <a:lnTo>
                      <a:pt x="272" y="0"/>
                    </a:lnTo>
                    <a:lnTo>
                      <a:pt x="408" y="182"/>
                    </a:lnTo>
                    <a:lnTo>
                      <a:pt x="272" y="318"/>
                    </a:lnTo>
                    <a:lnTo>
                      <a:pt x="136" y="409"/>
                    </a:lnTo>
                    <a:lnTo>
                      <a:pt x="0" y="318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2" name=""/>
          <p:cNvSpPr/>
          <p:nvPr/>
        </p:nvSpPr>
        <p:spPr>
          <a:xfrm>
            <a:off x="408600" y="2065320"/>
            <a:ext cx="52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Bearbeitete Daten vom mobilen Gerät kop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21920" y="2449440"/>
            <a:ext cx="86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Daten der Transaktion mit shapeTRAX (ArcView) nach ArcSDE zurückschreib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838600" y="4162320"/>
            <a:ext cx="3001680" cy="2081160"/>
            <a:chOff x="2838600" y="4162320"/>
            <a:chExt cx="3001680" cy="2081160"/>
          </a:xfrm>
        </p:grpSpPr>
        <p:pic>
          <p:nvPicPr>
            <p:cNvPr id="365" name="" descr=""/>
            <p:cNvPicPr/>
            <p:nvPr/>
          </p:nvPicPr>
          <p:blipFill>
            <a:blip r:embed="rId6"/>
            <a:stretch/>
          </p:blipFill>
          <p:spPr>
            <a:xfrm>
              <a:off x="3276720" y="4676760"/>
              <a:ext cx="2563560" cy="15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7"/>
            <a:stretch/>
          </p:blipFill>
          <p:spPr>
            <a:xfrm>
              <a:off x="2838600" y="4162320"/>
              <a:ext cx="130176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3114720" y="4314960"/>
              <a:ext cx="258840" cy="353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14360" y="283680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Ferti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8"/>
          <a:srcRect l="0" t="16073" r="0" b="0"/>
          <a:stretch/>
        </p:blipFill>
        <p:spPr>
          <a:xfrm>
            <a:off x="4943520" y="824040"/>
            <a:ext cx="3402000" cy="12729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24080" y="166536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hape Import nach ArcS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803160" y="4665600"/>
            <a:ext cx="2376360" cy="1296720"/>
            <a:chOff x="803160" y="4665600"/>
            <a:chExt cx="2376360" cy="1296720"/>
          </a:xfrm>
        </p:grpSpPr>
        <p:sp>
          <p:nvSpPr>
            <p:cNvPr id="372" name=""/>
            <p:cNvSpPr/>
            <p:nvPr/>
          </p:nvSpPr>
          <p:spPr>
            <a:xfrm>
              <a:off x="1955520" y="5459400"/>
              <a:ext cx="12240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803160" y="4665600"/>
              <a:ext cx="1007640" cy="1296720"/>
              <a:chOff x="803160" y="4665600"/>
              <a:chExt cx="1007640" cy="1296720"/>
            </a:xfrm>
          </p:grpSpPr>
          <p:sp>
            <p:nvSpPr>
              <p:cNvPr id="374" name=""/>
              <p:cNvSpPr/>
              <p:nvPr/>
            </p:nvSpPr>
            <p:spPr>
              <a:xfrm>
                <a:off x="1018800" y="5170320"/>
                <a:ext cx="647280" cy="503280"/>
              </a:xfrm>
              <a:custGeom>
                <a:avLst/>
                <a:gdLst/>
                <a:ahLst/>
                <a:rect l="l" t="t" r="r" b="b"/>
                <a:pathLst>
                  <a:path w="408" h="317">
                    <a:moveTo>
                      <a:pt x="181" y="317"/>
                    </a:moveTo>
                    <a:lnTo>
                      <a:pt x="0" y="227"/>
                    </a:lnTo>
                    <a:lnTo>
                      <a:pt x="0" y="91"/>
                    </a:lnTo>
                    <a:lnTo>
                      <a:pt x="136" y="0"/>
                    </a:lnTo>
                    <a:lnTo>
                      <a:pt x="317" y="45"/>
                    </a:lnTo>
                    <a:lnTo>
                      <a:pt x="408" y="227"/>
                    </a:lnTo>
                    <a:lnTo>
                      <a:pt x="181" y="317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03160" y="5170320"/>
                <a:ext cx="215640" cy="576360"/>
              </a:xfrm>
              <a:custGeom>
                <a:avLst/>
                <a:gdLst/>
                <a:ahLst/>
                <a:rect l="l" t="t" r="r" b="b"/>
                <a:pathLst>
                  <a:path w="136" h="363">
                    <a:moveTo>
                      <a:pt x="0" y="0"/>
                    </a:moveTo>
                    <a:lnTo>
                      <a:pt x="136" y="91"/>
                    </a:lnTo>
                    <a:lnTo>
                      <a:pt x="136" y="227"/>
                    </a:lnTo>
                    <a:lnTo>
                      <a:pt x="45" y="363"/>
                    </a:lnTo>
                    <a:lnTo>
                      <a:pt x="0" y="3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03160" y="5530680"/>
                <a:ext cx="502920" cy="431640"/>
              </a:xfrm>
              <a:custGeom>
                <a:avLst/>
                <a:gdLst/>
                <a:ahLst/>
                <a:rect l="l" t="t" r="r" b="b"/>
                <a:pathLst>
                  <a:path w="317" h="272">
                    <a:moveTo>
                      <a:pt x="0" y="136"/>
                    </a:moveTo>
                    <a:lnTo>
                      <a:pt x="45" y="136"/>
                    </a:lnTo>
                    <a:lnTo>
                      <a:pt x="136" y="0"/>
                    </a:lnTo>
                    <a:lnTo>
                      <a:pt x="317" y="90"/>
                    </a:lnTo>
                    <a:lnTo>
                      <a:pt x="272" y="272"/>
                    </a:lnTo>
                    <a:lnTo>
                      <a:pt x="0" y="272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234800" y="5530680"/>
                <a:ext cx="576000" cy="431640"/>
              </a:xfrm>
              <a:custGeom>
                <a:avLst/>
                <a:gdLst/>
                <a:ahLst/>
                <a:rect l="l" t="t" r="r" b="b"/>
                <a:pathLst>
                  <a:path w="363" h="272">
                    <a:moveTo>
                      <a:pt x="0" y="272"/>
                    </a:moveTo>
                    <a:lnTo>
                      <a:pt x="45" y="90"/>
                    </a:lnTo>
                    <a:lnTo>
                      <a:pt x="272" y="0"/>
                    </a:lnTo>
                    <a:lnTo>
                      <a:pt x="363" y="272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234800" y="4954320"/>
                <a:ext cx="576000" cy="576360"/>
              </a:xfrm>
              <a:custGeom>
                <a:avLst/>
                <a:gdLst/>
                <a:ahLst/>
                <a:rect l="l" t="t" r="r" b="b"/>
                <a:pathLst>
                  <a:path w="363" h="363">
                    <a:moveTo>
                      <a:pt x="136" y="0"/>
                    </a:moveTo>
                    <a:lnTo>
                      <a:pt x="363" y="0"/>
                    </a:lnTo>
                    <a:lnTo>
                      <a:pt x="363" y="363"/>
                    </a:lnTo>
                    <a:lnTo>
                      <a:pt x="272" y="363"/>
                    </a:lnTo>
                    <a:lnTo>
                      <a:pt x="181" y="181"/>
                    </a:lnTo>
                    <a:lnTo>
                      <a:pt x="0" y="136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666440" y="5530680"/>
                <a:ext cx="144360" cy="431640"/>
              </a:xfrm>
              <a:custGeom>
                <a:avLst/>
                <a:gdLst/>
                <a:ahLst/>
                <a:rect l="l" t="t" r="r" b="b"/>
                <a:pathLst>
                  <a:path w="91" h="272">
                    <a:moveTo>
                      <a:pt x="91" y="0"/>
                    </a:moveTo>
                    <a:lnTo>
                      <a:pt x="91" y="272"/>
                    </a:lnTo>
                    <a:lnTo>
                      <a:pt x="0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03160" y="4665600"/>
                <a:ext cx="647640" cy="649080"/>
              </a:xfrm>
              <a:custGeom>
                <a:avLst/>
                <a:gdLst/>
                <a:ahLst/>
                <a:rect l="l" t="t" r="r" b="b"/>
                <a:pathLst>
                  <a:path w="408" h="409">
                    <a:moveTo>
                      <a:pt x="0" y="182"/>
                    </a:moveTo>
                    <a:lnTo>
                      <a:pt x="272" y="0"/>
                    </a:lnTo>
                    <a:lnTo>
                      <a:pt x="408" y="182"/>
                    </a:lnTo>
                    <a:lnTo>
                      <a:pt x="272" y="318"/>
                    </a:lnTo>
                    <a:lnTo>
                      <a:pt x="136" y="409"/>
                    </a:lnTo>
                    <a:lnTo>
                      <a:pt x="0" y="318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entrale Datenhaltung und dezentrale Datenerfassung - Wie passt das zusammen?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D06E0-028C-43D8-94FA-1905CF275BFD}" type="slidenum">
              <a:t>19</a:t>
            </a:fld>
          </a:p>
        </p:txBody>
      </p:sp>
    </p:spTree>
  </p:cSld>
  <p:transition spd="slow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g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entrale Datenhaltung und dezentrale Datenerfassung - Wie passt das zusammen?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677BE-2AAE-4BE6-8C7B-FA69F6F6B28F}" type="slidenum">
              <a:t>2</a:t>
            </a:fld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3960" y="1085760"/>
            <a:ext cx="1663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61000" y="1085760"/>
            <a:ext cx="15778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3360" y="1720800"/>
            <a:ext cx="88106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ditierung von ArcSDE-Daten über die shapeTRAX-Erweit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0440" y="2238480"/>
            <a:ext cx="518796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95760" indent="-95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rmanenter Connect zur Datenbank ist nicht erforderl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tzer kann erkennen, welche Daten bereits in Bearbeitung s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hapefiles als Quasistandard werden erzeu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hapefiles können von vielen Systemen bearbeitet werden (auch ArcP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leichzeitiges editieren derselben Daten von unterschiedlichen Nutzern nicht mögl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ltiuserbetrieb wird unterstütz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stützung von versionierten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u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nicht-versionierten ArcSDE-Lay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reibender Zugriff auf ArcSDE-Datenbanken wird für ArcView 9 ermögl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95920" y="2238480"/>
            <a:ext cx="327672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Standardtool in ArcG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pologien unter ArcSDE werden z. Z. nicht unterstütz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entrale Datenhaltung und dezentrale Datenerfassung - Wie passt das zusammen?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4256B-0D95-49A4-A731-138556FCEB10}" type="slidenum">
              <a:t>20</a:t>
            </a:fld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usammenfass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73108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ntrale Datenhaltung und dezentrale Datenerfassung / -bearbeitung passen grundsätzlich zusam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1040" y="2349360"/>
            <a:ext cx="82645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128520" indent="-128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e gute Vorbereitung / Koordination der Arbeitsabläufe ist allerdings erforderlich um spätere Konflikte zu vermeid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7800" y="3193920"/>
            <a:ext cx="87314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schiedliche Tools zur Unterstützung Ihrer Arbeitsabläufe stehen ber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920" y="3790800"/>
            <a:ext cx="83026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128520" indent="-128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Einsatz dieser unterschiedlichen Tools hängt stark von dem Ziel Ihrer Arbeit und den Strukturen in Ihrem Unternehmen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1040" y="4654440"/>
            <a:ext cx="83026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128520" indent="-128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Einsatz mehrerer unterschiedlicher Tools muss genau überdacht werden – Inkonsistenzen der Daten auf der DB müssen vermieden wer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entrale Datenhaltung und dezentrale Datenerfassung - Wie passt das zusammen?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56072-D29E-47DD-A4C3-B62F91DE8AB1}" type="slidenum">
              <a:t>21</a:t>
            </a:fld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3920" y="1057320"/>
            <a:ext cx="8483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tere Informationen zur zentralen Datenhaltung und dezentralen Datenerfassung finden Sie 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1040" y="2768760"/>
            <a:ext cx="86648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200" spc="-1" strike="noStrike">
                <a:solidFill>
                  <a:srgbClr val="000066"/>
                </a:solidFill>
                <a:latin typeface="Arial"/>
              </a:rPr>
              <a:t>www.inovagis.co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entrale Datenhaltung und dezentrale Datenerfassung - Wie passt das zusammen?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C2A52-6A37-43FC-9991-A67EABADD98A}" type="slidenum">
              <a:t>22</a:t>
            </a:fld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 liegt das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310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einer modernen IT-Landschaft werden (Geo-)Daten an einem einzigen Ort (zentralen Ort) vorgehalten, oftmals aber an ganz anderen Standorten bearbeitet (mehrere unterschiedliche Standor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11040" y="2540160"/>
            <a:ext cx="8731440" cy="3441600"/>
            <a:chOff x="311040" y="2540160"/>
            <a:chExt cx="8731440" cy="3441600"/>
          </a:xfrm>
        </p:grpSpPr>
        <p:sp>
          <p:nvSpPr>
            <p:cNvPr id="95" name=""/>
            <p:cNvSpPr/>
            <p:nvPr/>
          </p:nvSpPr>
          <p:spPr>
            <a:xfrm>
              <a:off x="311040" y="2540160"/>
              <a:ext cx="873144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e Datenhaltung ist also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ent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e Datenbearbeitung ist also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zent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120680" y="3797280"/>
              <a:ext cx="6283440" cy="2184480"/>
              <a:chOff x="1120680" y="3797280"/>
              <a:chExt cx="6283440" cy="2184480"/>
            </a:xfrm>
          </p:grpSpPr>
          <p:sp>
            <p:nvSpPr>
              <p:cNvPr id="97" name=""/>
              <p:cNvSpPr/>
              <p:nvPr/>
            </p:nvSpPr>
            <p:spPr>
              <a:xfrm>
                <a:off x="3533760" y="4952880"/>
                <a:ext cx="1952640" cy="10288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14480" y="4267080"/>
                <a:ext cx="1047960" cy="552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li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311640" y="3797280"/>
                <a:ext cx="1047600" cy="552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li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041800" y="3851280"/>
                <a:ext cx="1047960" cy="552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li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356520" y="4680000"/>
                <a:ext cx="1047600" cy="5522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li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120680" y="5168880"/>
                <a:ext cx="1047960" cy="5526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li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entrale Datenhaltung und dezentrale Datenerfassung - Wie passt das zusammen?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89D29-3151-46FB-AE78-E30CD70C9501}" type="slidenum">
              <a:t>3</a:t>
            </a:fld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 liegt das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310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einer modernen IT-Landschaft werden (Geo-)Daten an einem einzigen Ort (zentralen Ort) vorgehalten, oftmals aber an ganz anderen Standorten bearbeitet (mehrere unterschiedliche Standor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440" y="3114720"/>
            <a:ext cx="84265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indent="86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sollen die Daten zentral gespeichert werden? (Art der Datenhaltung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86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 sollen die zentral gespeicherten Daten bearbeitet 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86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r darf die zentral gespeicherten Daten bearbeit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86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viele Personen sollen/können die zentral gespeicherten Daten bearbeit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86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gelangen die Daten vom Server zum Clien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86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gelangen die Daten vom Client zum Serv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86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können die Daten auf der Datenbank gegen Inkonsistenzen gesiche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rden? (Lockingmechanism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86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7800" y="2565360"/>
            <a:ext cx="8731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aus ergeben sich mehrere, z. T. voneinander abhängige, Fragestellunge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entrale Datenhaltung und dezentrale Datenerfassung - Wie passt das zusammen?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6C280-372C-42D9-9C2E-BF6946D0EE34}" type="slidenum">
              <a:t>4</a:t>
            </a:fld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nhal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397160"/>
            <a:ext cx="26827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nhaltungssyste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38120" y="1397160"/>
            <a:ext cx="8470800" cy="4863960"/>
            <a:chOff x="438120" y="1397160"/>
            <a:chExt cx="8470800" cy="4863960"/>
          </a:xfrm>
        </p:grpSpPr>
        <p:sp>
          <p:nvSpPr>
            <p:cNvPr id="110" name=""/>
            <p:cNvSpPr/>
            <p:nvPr/>
          </p:nvSpPr>
          <p:spPr>
            <a:xfrm>
              <a:off x="438120" y="3349800"/>
              <a:ext cx="28544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ilebasierte Datenhalt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723960" y="4159080"/>
              <a:ext cx="1979640" cy="692280"/>
              <a:chOff x="723960" y="4159080"/>
              <a:chExt cx="1979640" cy="692280"/>
            </a:xfrm>
          </p:grpSpPr>
          <p:sp>
            <p:nvSpPr>
              <p:cNvPr id="112" name=""/>
              <p:cNvSpPr/>
              <p:nvPr/>
            </p:nvSpPr>
            <p:spPr>
              <a:xfrm>
                <a:off x="1190880" y="4635360"/>
                <a:ext cx="1512720" cy="216000"/>
              </a:xfrm>
              <a:prstGeom prst="parallelogram">
                <a:avLst>
                  <a:gd name="adj" fmla="val 175083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22400" y="4485960"/>
                <a:ext cx="1513080" cy="216000"/>
              </a:xfrm>
              <a:prstGeom prst="parallelogram">
                <a:avLst>
                  <a:gd name="adj" fmla="val 175125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35200" y="4336920"/>
                <a:ext cx="1512720" cy="216000"/>
              </a:xfrm>
              <a:prstGeom prst="parallelogram">
                <a:avLst>
                  <a:gd name="adj" fmla="val 175083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23960" y="4159080"/>
                <a:ext cx="1513080" cy="216000"/>
              </a:xfrm>
              <a:prstGeom prst="parallelogram">
                <a:avLst>
                  <a:gd name="adj" fmla="val 175125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3073320" y="1397160"/>
              <a:ext cx="5835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ilebasierte Datenhaltu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kleine Datenmengen, 1 bis wenige Nutze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8560" y="5457960"/>
              <a:ext cx="3038400" cy="803160"/>
              <a:chOff x="628560" y="5457960"/>
              <a:chExt cx="3038400" cy="803160"/>
            </a:xfrm>
          </p:grpSpPr>
          <p:sp>
            <p:nvSpPr>
              <p:cNvPr id="118" name=""/>
              <p:cNvSpPr/>
              <p:nvPr/>
            </p:nvSpPr>
            <p:spPr>
              <a:xfrm>
                <a:off x="1126800" y="5460840"/>
                <a:ext cx="254016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Shapefi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Personal Geodataba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8560" y="5457960"/>
                <a:ext cx="625320" cy="79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z.B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3070080" y="1965240"/>
            <a:ext cx="6016680" cy="4314960"/>
            <a:chOff x="3070080" y="1965240"/>
            <a:chExt cx="6016680" cy="4314960"/>
          </a:xfrm>
        </p:grpSpPr>
        <p:grpSp>
          <p:nvGrpSpPr>
            <p:cNvPr id="121" name=""/>
            <p:cNvGrpSpPr/>
            <p:nvPr/>
          </p:nvGrpSpPr>
          <p:grpSpPr>
            <a:xfrm>
              <a:off x="6465960" y="3776760"/>
              <a:ext cx="1584360" cy="1439640"/>
              <a:chOff x="6465960" y="3776760"/>
              <a:chExt cx="1584360" cy="1439640"/>
            </a:xfrm>
          </p:grpSpPr>
          <p:sp>
            <p:nvSpPr>
              <p:cNvPr id="122" name=""/>
              <p:cNvSpPr/>
              <p:nvPr/>
            </p:nvSpPr>
            <p:spPr>
              <a:xfrm>
                <a:off x="6465960" y="3776760"/>
                <a:ext cx="1584360" cy="1439640"/>
              </a:xfrm>
              <a:prstGeom prst="can">
                <a:avLst>
                  <a:gd name="adj" fmla="val 1586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558120" y="4251240"/>
                <a:ext cx="1374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Geo-DBM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5489640" y="3276720"/>
              <a:ext cx="359712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enbankbasierte Datenhalt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6337440" y="5470560"/>
              <a:ext cx="2228760" cy="809640"/>
              <a:chOff x="6337440" y="5470560"/>
              <a:chExt cx="2228760" cy="809640"/>
            </a:xfrm>
          </p:grpSpPr>
          <p:sp>
            <p:nvSpPr>
              <p:cNvPr id="126" name=""/>
              <p:cNvSpPr/>
              <p:nvPr/>
            </p:nvSpPr>
            <p:spPr>
              <a:xfrm>
                <a:off x="6836040" y="5470560"/>
                <a:ext cx="1730160" cy="80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ArcS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337440" y="5473800"/>
                <a:ext cx="625320" cy="80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z.B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3070080" y="1965240"/>
              <a:ext cx="583596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enbankbasierte Datenhaltu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große Datenmengen, viele Nutze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entrale Datenhaltung und dezentrale Datenerfassung - Wie passt das zusammen?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D6592-49C4-4399-893F-EFE7FF10B6D0}" type="slidenum">
              <a:t>5</a:t>
            </a:fld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731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entr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enhal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1825560"/>
            <a:ext cx="873108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le Nutz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userfähigk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ße Datenme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gabe von Berechtigungen (Daten sichten bzw. bearbeit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9840" y="1397160"/>
            <a:ext cx="65498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chtige Aspekte de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zentra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enhalt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465960" y="3776760"/>
            <a:ext cx="1584360" cy="1439640"/>
            <a:chOff x="6465960" y="3776760"/>
            <a:chExt cx="1584360" cy="1439640"/>
          </a:xfrm>
        </p:grpSpPr>
        <p:sp>
          <p:nvSpPr>
            <p:cNvPr id="133" name=""/>
            <p:cNvSpPr/>
            <p:nvPr/>
          </p:nvSpPr>
          <p:spPr>
            <a:xfrm>
              <a:off x="6465960" y="3776760"/>
              <a:ext cx="1584360" cy="1439640"/>
            </a:xfrm>
            <a:prstGeom prst="can">
              <a:avLst>
                <a:gd name="adj" fmla="val 15861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58120" y="4251240"/>
              <a:ext cx="137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Geo-DB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489640" y="3276720"/>
            <a:ext cx="35971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nbankbasierte Datenhal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8120" y="3349800"/>
            <a:ext cx="28544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lebasierte Datenhal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23960" y="4159080"/>
            <a:ext cx="1979640" cy="692280"/>
            <a:chOff x="723960" y="4159080"/>
            <a:chExt cx="1979640" cy="692280"/>
          </a:xfrm>
        </p:grpSpPr>
        <p:sp>
          <p:nvSpPr>
            <p:cNvPr id="138" name=""/>
            <p:cNvSpPr/>
            <p:nvPr/>
          </p:nvSpPr>
          <p:spPr>
            <a:xfrm>
              <a:off x="1190880" y="4635360"/>
              <a:ext cx="1512720" cy="216000"/>
            </a:xfrm>
            <a:prstGeom prst="parallelogram">
              <a:avLst>
                <a:gd name="adj" fmla="val 17508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22400" y="4485960"/>
              <a:ext cx="1513080" cy="216000"/>
            </a:xfrm>
            <a:prstGeom prst="parallelogram">
              <a:avLst>
                <a:gd name="adj" fmla="val 175125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5200" y="4336920"/>
              <a:ext cx="1512720" cy="216000"/>
            </a:xfrm>
            <a:prstGeom prst="parallelogram">
              <a:avLst>
                <a:gd name="adj" fmla="val 17508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3960" y="4159080"/>
              <a:ext cx="1513080" cy="216000"/>
            </a:xfrm>
            <a:prstGeom prst="parallelogram">
              <a:avLst>
                <a:gd name="adj" fmla="val 175125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28560" y="5457960"/>
            <a:ext cx="3038400" cy="803160"/>
            <a:chOff x="628560" y="5457960"/>
            <a:chExt cx="3038400" cy="803160"/>
          </a:xfrm>
        </p:grpSpPr>
        <p:sp>
          <p:nvSpPr>
            <p:cNvPr id="143" name=""/>
            <p:cNvSpPr/>
            <p:nvPr/>
          </p:nvSpPr>
          <p:spPr>
            <a:xfrm>
              <a:off x="1126800" y="5460840"/>
              <a:ext cx="254016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hape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ersonal Geodata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8560" y="5457960"/>
              <a:ext cx="62532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.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337440" y="5470560"/>
            <a:ext cx="2228760" cy="809640"/>
            <a:chOff x="6337440" y="5470560"/>
            <a:chExt cx="2228760" cy="809640"/>
          </a:xfrm>
        </p:grpSpPr>
        <p:sp>
          <p:nvSpPr>
            <p:cNvPr id="146" name=""/>
            <p:cNvSpPr/>
            <p:nvPr/>
          </p:nvSpPr>
          <p:spPr>
            <a:xfrm>
              <a:off x="6836040" y="5470560"/>
              <a:ext cx="173016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rcS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37440" y="5473800"/>
              <a:ext cx="6253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.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65000" y="3586320"/>
            <a:ext cx="2379600" cy="2381400"/>
            <a:chOff x="765000" y="3586320"/>
            <a:chExt cx="2379600" cy="2381400"/>
          </a:xfrm>
        </p:grpSpPr>
        <p:sp>
          <p:nvSpPr>
            <p:cNvPr id="149" name=""/>
            <p:cNvSpPr/>
            <p:nvPr/>
          </p:nvSpPr>
          <p:spPr>
            <a:xfrm>
              <a:off x="768600" y="3586320"/>
              <a:ext cx="2376000" cy="237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65000" y="3591360"/>
              <a:ext cx="2376360" cy="2376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entrale Datenhaltung und dezentrale Datenerfassung - Wie passt das zusammen?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1EF22-3E01-4995-8E9A-8FEE687319B8}" type="slidenum">
              <a:t>6</a:t>
            </a:fld>
          </a:p>
        </p:txBody>
      </p:sp>
    </p:spTree>
  </p:cSld>
  <p:transition spd="slow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img0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entrale Datenhaltung und dezentrale Datenerfassung - Wie passt das zusammen?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CB917-D647-421B-88F6-C6225A5925D5}" type="slidenum">
              <a:t>7</a:t>
            </a:fld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g008" descr=""/>
          <p:cNvPicPr/>
          <p:nvPr/>
        </p:nvPicPr>
        <p:blipFill>
          <a:blip r:embed="rId1"/>
          <a:stretch/>
        </p:blipFill>
        <p:spPr>
          <a:xfrm>
            <a:off x="0" y="-165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entrale Datenhaltung und dezentrale Datenerfassung - Wie passt das zusammen?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BBF30-8F2E-48B4-A207-A3DAD4EADBC0}" type="slidenum">
              <a:t>8</a:t>
            </a:fld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img0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entrale Datenhaltung und dezentrale Datenerfassung - Wie passt das zusammen?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1397B-5AF4-42CA-BA2F-120F5CC2B1EC}" type="slidenum">
              <a:t>9</a:t>
            </a:fld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14:12:08Z</dcterms:created>
  <dc:creator>Inovagis</dc:creator>
  <dc:description/>
  <dc:language>en-US</dc:language>
  <cp:lastModifiedBy>Kohlus</cp:lastModifiedBy>
  <dcterms:modified xsi:type="dcterms:W3CDTF">2007-03-17T18:28:58Z</dcterms:modified>
  <cp:revision>330</cp:revision>
  <dc:subject/>
  <dc:title>Effiziente Datenerfassung im Gelände –  Tipps für die tägliche Arbe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9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kumente und Einstellungen\kohlus\userdaten\dokumente\Einzelprojekte\gis-kueste\2006-hamburg</vt:lpwstr>
  </property>
  <property fmtid="{D5CDD505-2E9C-101B-9397-08002B2CF9AE}" pid="14" name="ScreenSize">
    <vt:r8>3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