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9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94200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3960" y="175248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9420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3960" y="39420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640" y="175248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2480" y="175248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9420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640" y="39420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2480" y="3942000"/>
            <a:ext cx="255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3960" y="175248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30456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175248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9420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6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48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3960" y="394200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480"/>
            <a:ext cx="3867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942000"/>
            <a:ext cx="7924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9480"/>
            <a:ext cx="533520" cy="624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43800" y="0"/>
            <a:ext cx="1600200" cy="5943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72400" y="289080"/>
            <a:ext cx="1162080" cy="115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96080" y="6095880"/>
            <a:ext cx="129564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Möglichkeiten der mobilen Datenerhebung in der Geodatabase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- Technische Grundlagen und Anwendungsbeispiele -</a:t>
            </a:r>
            <a:endParaRPr b="1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SRI Anwendertreffen Küst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27. November 2006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g0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g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g0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g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g0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azit - Hardwar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6933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eistungsfähigkei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großes Display (10.4“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tandard Betriebssystem und Softw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kizzen und Texterkennu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ontra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(Kosten im direkten Vergleich zu Handheld- Systemen mit Windows CE / DO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oftwar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g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g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cc"/>
                </a:solidFill>
                <a:latin typeface="Arial"/>
              </a:rPr>
              <a:t>... in Kombination mit Fachanwendungen</a:t>
            </a:r>
            <a:endParaRPr b="1" lang="en-US" sz="27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duktfamilien 3A und 4C von AED-SICAD, greenlab geoinformatics und ARC-BERLIN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Katastervermessu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Ingenieurvermessu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Planerstellu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Kommunale Anwendunge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rstanwendunge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inzipiell kombinierbar mit allen Geodatabase-basierten ArcGIS Applikationen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Vortragender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165040"/>
            <a:ext cx="69912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Andy Frei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ARC-BERLIN GmbH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azit - Softwar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6933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eistungsfähige Basissoftwa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Umfangreiche Fachapplikationen verfügba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Personal Geodatabase als Datencontainer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Objektbezogene Felderfassu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Punkt-, Linien-, Flächen-Geometrie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achdatenerfassun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Planerstellung im Feld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chnittstellen zu CAD und GI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ontra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nwendungsbeispiel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Projektbeispiel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Katastervermessung (3A Editor Mobile)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MEA-Projekt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Überblick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6933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ierung ein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l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ktronisc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gs- und Ablaufverfahrens (MEA) in der Vermessungs- und Katasterverwaltung Brandenburg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l ist die Einführung eines geschlossenen, integrativen Geschäftsprozesses (Workflows) im Zuge der allgemeinen ALKIS Einführung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3048120"/>
            <a:ext cx="914400" cy="1295280"/>
          </a:xfrm>
          <a:custGeom>
            <a:avLst/>
            <a:gdLst>
              <a:gd name="textAreaLeft" fmla="*/ 122400 w 914400"/>
              <a:gd name="textAreaRight" fmla="*/ 792000 w 9144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851360" y="2540160"/>
          <a:ext cx="167652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1360" y="2540160"/>
                    <a:ext cx="16765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6933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Zunehmend werden die bereits vorhandenen Daten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m Felde zur Verfügung stehen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amit besteht die Möglichkeit, auch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e Objektmodellierung im Gelände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vorzunehmen, ggf. ergänzt durch häusliche Bearbeitung. Die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rhebungsdaten sind dann nahezu fertig strukturiert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ür eine Fortführungsverarbeitung in ALKIS.“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(Auszug aus der GeoInfoDok)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g0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g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pplikationen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7640" y="1676520"/>
            <a:ext cx="7047000" cy="4267080"/>
          </a:xfrm>
          <a:prstGeom prst="rect">
            <a:avLst/>
          </a:prstGeom>
          <a:solidFill>
            <a:srgbClr val="d3d7e3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215040" y="5153040"/>
            <a:ext cx="1190520" cy="6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22480" y="5291280"/>
            <a:ext cx="1122120" cy="39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075040" y="3538440"/>
            <a:ext cx="4251240" cy="14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76480" y="2465280"/>
            <a:ext cx="1770120" cy="9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92720" y="2465280"/>
            <a:ext cx="1962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98600" y="4260960"/>
            <a:ext cx="5532480" cy="1440"/>
          </a:xfrm>
          <a:prstGeom prst="line">
            <a:avLst/>
          </a:prstGeom>
          <a:ln w="25560">
            <a:solidFill>
              <a:srgbClr val="294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36720" y="3301560"/>
            <a:ext cx="6530760" cy="1998000"/>
          </a:xfrm>
          <a:prstGeom prst="rect">
            <a:avLst/>
          </a:prstGeom>
          <a:solidFill>
            <a:srgbClr val="91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nhaltungskompo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1937880"/>
            <a:ext cx="3476520" cy="2272680"/>
          </a:xfrm>
          <a:prstGeom prst="rect">
            <a:avLst/>
          </a:prstGeom>
          <a:solidFill>
            <a:srgbClr val="4263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A Editor (Mob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hebung, Qualifizierung, Fortfü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81560" y="1941840"/>
            <a:ext cx="3085920" cy="2263680"/>
          </a:xfrm>
          <a:prstGeom prst="rect">
            <a:avLst/>
          </a:prstGeom>
          <a:solidFill>
            <a:srgbClr val="4263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A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skunft/Bereit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s Karte und B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6880" y="1981080"/>
            <a:ext cx="247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Kataster-Profi“: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Katasteramt / Vermessungs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1981080"/>
            <a:ext cx="273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„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allgemeiner Nutzer“: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achprofi / Bür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g0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Beispiel Zerlegung / Vermessungsstell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95600"/>
            <a:ext cx="701028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ürger stellt Antrag auf Zerlegung bei der Vermessungsst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finition eines Projekts mit elektronischem Laufze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nfordern der Bestandsdaten beim Kataster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Laden der Bestandsdaten in lokale Projekt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xportieren der kompletten Projekt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nden der kompletten Projektdaten an das Katasteramt über die virtuelle Postst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752160" y="2063880"/>
            <a:ext cx="1915560" cy="2266200"/>
            <a:chOff x="6752160" y="2063880"/>
            <a:chExt cx="1915560" cy="22662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6794640" y="2529000"/>
              <a:ext cx="1823400" cy="18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752160" y="2063880"/>
              <a:ext cx="191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nen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Mobile Geodaten-Erfassung mit ArcGI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Hardwarevoraussetzunge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Feld-PC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Meßgeräte (Tachymeter, GP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Zwei unterschiedliche Anwendungsbeispiel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Katastervermessung (3A Editor Mobile) - MEA Projek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Mobiles Arbeiten im Forst (gl-survey) - BVVG/TGG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Beispiel Zerlegung / Katasteramt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95600"/>
            <a:ext cx="701028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mpfang der kompletten Projektdaten über die virtuelle Postst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mport der kompletten Projektdaten z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Registrierung in zentraler Projektverwal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Konfliktmanagement, ggf. Rückmeldung an Vermessungsst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Ermittlung der zum Projekt benötigten Vermessungsunter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nden der Vermessungsunterlagen an die Vermessungsstelle über die virtuelle Postst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04120" y="1973160"/>
            <a:ext cx="1915560" cy="2166840"/>
            <a:chOff x="6504120" y="1973160"/>
            <a:chExt cx="1915560" cy="216684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642000" y="2432880"/>
              <a:ext cx="1760400" cy="170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04120" y="1973160"/>
              <a:ext cx="191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nen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Beispiel Zerlegung / Vermessungsstell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695600"/>
            <a:ext cx="701028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servierung von Punkt- und Flurstückskenn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Berechnung der Absteckkoordin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752160" y="2063880"/>
            <a:ext cx="1915560" cy="2266200"/>
            <a:chOff x="6752160" y="2063880"/>
            <a:chExt cx="1915560" cy="22662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6794640" y="2529000"/>
              <a:ext cx="1823400" cy="18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752160" y="2063880"/>
              <a:ext cx="191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nen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Beispiel Zerlegung / Vermessungsstell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695600"/>
            <a:ext cx="701028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</a:rPr>
              <a:t>Feldvermessung mit Tachy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d4d4d"/>
                </a:solidFill>
                <a:latin typeface="Arial"/>
              </a:rPr>
              <a:t>Freie Station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d4d4d"/>
                </a:solidFill>
                <a:latin typeface="Arial"/>
              </a:rPr>
              <a:t>Absteck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d4d4d"/>
                </a:solidFill>
                <a:latin typeface="Arial"/>
              </a:rPr>
              <a:t>Aufmes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</a:rPr>
              <a:t>Vermessungsr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</a:rPr>
              <a:t>Punktidentitätsnachw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</a:rPr>
              <a:t>Bildung der neuen Flurstücke 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d4d4d"/>
                </a:solidFill>
                <a:latin typeface="Arial"/>
              </a:rPr>
              <a:t>Veränderung der L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d4d4d"/>
                </a:solidFill>
                <a:latin typeface="Arial"/>
              </a:rPr>
              <a:t>Flächenabgle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d4d4d"/>
                </a:solidFill>
                <a:latin typeface="Arial"/>
              </a:rPr>
              <a:t>Dokumentation nachweispflichtiger Verän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d4d4d"/>
                </a:solidFill>
                <a:latin typeface="Arial"/>
              </a:rPr>
              <a:t>Prüf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4d4d4d"/>
                </a:solidFill>
                <a:latin typeface="Arial"/>
              </a:rPr>
              <a:t>Grenzniederschrift einschl. Elektronischer Unterschr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95880" y="1752480"/>
            <a:ext cx="2092320" cy="2554200"/>
            <a:chOff x="5195880" y="1752480"/>
            <a:chExt cx="2092320" cy="25542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372280" y="2244240"/>
              <a:ext cx="1898280" cy="20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195880" y="1752480"/>
              <a:ext cx="20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Narrow"/>
                </a:rPr>
                <a:t>Aussen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Beispiel Zerlegung / Vermessungsstell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695600"/>
            <a:ext cx="701028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lausibilisierung (Prüf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xportieren der kompletten Projekt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nden der kompletten Projektdaten an das 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Katasteramt über die virtuelle Postst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752160" y="2063880"/>
            <a:ext cx="1915560" cy="2266200"/>
            <a:chOff x="6752160" y="2063880"/>
            <a:chExt cx="1915560" cy="226620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794640" y="2529000"/>
              <a:ext cx="1823400" cy="18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752160" y="2063880"/>
              <a:ext cx="191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nen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Beispiel Zerlegung / Vermessungsstell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695600"/>
            <a:ext cx="701028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Empfang der kompletten Projektdaten über die virtuelle Postst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mport der kompletten Projekt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Qualifizierung (Vollständige Prüf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tführung der Bestands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utomatisches Erzeugen des Fortführungsnachweises</a:t>
            </a:r>
            <a:br>
              <a:rPr sz="1800"/>
            </a:b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(Textteil und Grafi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utomatisches Erzeugen der Mittei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nschreiben an Eigentü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Fortführungsmitteilung an Eigentümer und Grundb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Flurstücksnachwe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uszug aus der Liegenschaftska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504120" y="1973160"/>
            <a:ext cx="1915560" cy="2166840"/>
            <a:chOff x="6504120" y="1973160"/>
            <a:chExt cx="1915560" cy="216684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6642000" y="2432880"/>
              <a:ext cx="1760400" cy="170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504120" y="1973160"/>
              <a:ext cx="191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nendien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g0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Ergebnis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69339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Erhebliche Beschleunigung in der Abwicklung eines Auftrags von der Auftragserteilung bis zur Übernahme der Vermessungsergebnisse ins Liegenschaftskataster</a:t>
            </a:r>
            <a:br>
              <a:rPr sz="2000"/>
            </a:b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Entlastung der Verwaltung bei der Bereitstellung von Vermessungsunterlagen</a:t>
            </a:r>
            <a:br>
              <a:rPr sz="2000"/>
            </a:b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Die Daten sind abrufbereit und stehen dem ÖbVI jederzeit, auch im Außendienst, zur Verfügung</a:t>
            </a:r>
            <a:br>
              <a:rPr sz="2000"/>
            </a:b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Durchgängig elektronischer Arbeitsprozess und lückenloser Nachweis der Prozessweg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2286000"/>
            <a:ext cx="69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Projektbeispiel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 Mobiles Arbeiten im Forst (gl-survey)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TGG / BVV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g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g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g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9560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azit: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ie Technologie steht zur Verfügung!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g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Investitionssicherheit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SRI Basistechnologi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ntegration in Geodatabase-basierte ArcGIS Applikationen möglich (z.B. die Produktlinien </a:t>
            </a:r>
            <a:br>
              <a:rPr sz="20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3A und 4C von AED-SICAD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lexibilitä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Wirtschaftlichkeit (e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e Hard- und Software für Innen- und Außendienst)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Vielen Dank für Ihre Aufmerksamkeit!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2165040"/>
            <a:ext cx="69912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d4d4d"/>
                </a:solidFill>
                <a:latin typeface="Arial"/>
              </a:rPr>
              <a:t>Weitere Informationen: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Andy Freier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TEL: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030 762933 59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FAX: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030 762933 70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eMail: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66cc"/>
                </a:solidFill>
                <a:latin typeface="Arial"/>
              </a:rPr>
              <a:t>freier.andy@arc-bln.d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Web:</a:t>
            </a:r>
            <a:r>
              <a:rPr b="0" lang="de-DE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66cc"/>
                </a:solidFill>
                <a:latin typeface="Arial"/>
              </a:rPr>
              <a:t>www.arc-bln.d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Voraussetzung: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rcGIS als Fachlösung und die Geodatabase als die zentrale Datenhaltungskomponent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Bei Kataster- und Vermessungsämter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In Fachämtern des kommunalen Umfeld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In Landes- und Bundesbehörde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Bei Energieversorger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Bei kommunalen Dienstleistern und Ingenieurbüro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atenaufnahme erfolgt zu einem hohem Prozentsatz im Gelände, aber mit unterschiedlichen Anforderungen an Messgenauigkeit und Komplexität der Datenmodell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Ziel: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in Rechner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ine Softwar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dentische Daten für Innen- und Außendiens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Vermeidung von Medienbrüchen: Datenkonsistenz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Verkürzung des Workflows: Effizienzgewin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öglichkeit des flexiblen Einsatzes in unterschiedlichsten Anwendungsszenarien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Hardwar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Tablet PCs (Kenngrößen)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Windows Betriebssystem </a:t>
            </a:r>
            <a:br>
              <a:rPr sz="1600"/>
            </a:b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(2000 / XP / XP Tablet PC)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10,4“/12“-Display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512 MB RAM bis 2 GB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Festplatten &gt; 40 GB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Prozessor 400 MHz – 1.2 GHz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Gewicht 1,5 – 2,1 kg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IP Standard von „k. A.“ bis IP 65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2454120"/>
            <a:ext cx="38606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Akkulaufzeit 3 – 9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emperaturbereich -20 bis +60 </a:t>
            </a:r>
            <a:r>
              <a:rPr b="1" lang="en-US" sz="1600" spc="-1" strike="noStrike">
                <a:solidFill>
                  <a:srgbClr val="4d4d4d"/>
                </a:solidFill>
                <a:latin typeface="Symbol"/>
                <a:ea typeface="Symbol"/>
              </a:rPr>
              <a:t>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astatur, Laufwerke über separate Docking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Spezielles Zubehör für Einsatz im F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Trageg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Schutzhü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</a:rPr>
              <a:t>Zusatzak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752480"/>
            <a:ext cx="41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Vollwertiger PC im „Buchformat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IP Standards (Industrial Protection)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IN 40 050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Kennzahl aus zwei Ziffern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1. Ziffer = Berührungs- und Fremdkörperschutz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2. Ziffer = Wasserschutz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Bsp.: IP 54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5 = staubgeschützt und Schutz gegen Zugang zu gefährdeten Teilen mit einem Drah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4 = spritzwassergeschütz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0:35:19Z</dcterms:created>
  <dc:creator>bmitre</dc:creator>
  <dc:description/>
  <dc:language>en-US</dc:language>
  <cp:lastModifiedBy>Kohlus</cp:lastModifiedBy>
  <dcterms:modified xsi:type="dcterms:W3CDTF">2007-03-17T18:12:40Z</dcterms:modified>
  <cp:revision>209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9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kumente und Einstellungen\kohlus\userdaten\dokumente\Einzelprojekte\gis-kueste\2006-hamburg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