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72288" cy="9774238"/>
</p:presentation>
</file>

<file path=ppt/commentAuthors.xml><?xml version="1.0" encoding="utf-8"?>
<p:cmAuthorLst xmlns:p="http://schemas.openxmlformats.org/presentationml/2006/main">
  <p:cmAuthor id="0" name="Jörn Pätzel" initials="J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6-04-03T18:38:44.843000000" idx="1">
    <p:pos x="-542" y="3290"/>
    <p:text>Geänder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61F6-91D6-4731-A96B-358B4ED37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B6A5-2C6F-43DF-8252-A06766AE4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244A-E3CE-4897-A297-5FF0A3C01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6846-E7CE-4C2D-9DF1-6DAF39BE6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ABDA-18A6-4411-BF3E-99CE2ACB3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2E48-EF3F-4EFB-B8C7-EB6B3722E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3C32-7B22-4B6E-AD36-AD6B55D56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02A9-525D-40DC-9EB5-32BB71566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685800"/>
            <a:ext cx="708660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CB54-A7A4-4572-9F04-D5F5F49C0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7C79-1D1F-47F7-B5F5-D81D85095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7779-DD33-4571-BC12-8D66D9218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D591-5F46-463E-B212-9083871C7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1268280"/>
            <a:ext cx="8281800" cy="0"/>
          </a:xfrm>
          <a:prstGeom prst="line">
            <a:avLst/>
          </a:prstGeom>
          <a:ln w="9360">
            <a:solidFill>
              <a:srgbClr val="007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fa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0920" y="6453360"/>
            <a:ext cx="7313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GIS-Anwendergruppe Küste</a:t>
            </a: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 2006 (</a:t>
            </a: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GISCON HydroTools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18280" y="879480"/>
            <a:ext cx="19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304920"/>
            <a:ext cx="38088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304920"/>
            <a:ext cx="22860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304920"/>
            <a:ext cx="15264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95280" y="304920"/>
            <a:ext cx="7632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077320" y="6454800"/>
            <a:ext cx="761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F1DC-08A8-41D0-85D1-F616D5461DA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11280" y="645336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596360" y="115920"/>
            <a:ext cx="139536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6d97"/>
                </a:solidFill>
                <a:latin typeface="Verdana"/>
              </a:rPr>
              <a:t>GISCON HydroTools</a:t>
            </a:r>
            <a:r>
              <a:rPr b="0" lang="en-US" sz="3100" spc="-1" strike="noStrike" baseline="100000">
                <a:solidFill>
                  <a:srgbClr val="006d97"/>
                </a:solidFill>
                <a:latin typeface="Verdana"/>
              </a:rPr>
              <a:t>®</a:t>
            </a:r>
            <a:endParaRPr b="1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Routenereignistechnologi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ventmanagement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pl.-Geoökologe Michael Sander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ISCON Geoinformatik Gmb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62B8-3EC6-4814-ACC1-1A6DEBD16C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M-Werte neu setzen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Änderungen der Routen Geometrien werden die Stationierungswerte für die gesamte Route an die geometrische Länge angepass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olge: Ereignisse sind nicht mehr korrekt lokalisier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630080" y="2781360"/>
            <a:ext cx="6546600" cy="2093760"/>
            <a:chOff x="1630080" y="2781360"/>
            <a:chExt cx="6546600" cy="2093760"/>
          </a:xfrm>
        </p:grpSpPr>
        <p:sp>
          <p:nvSpPr>
            <p:cNvPr id="197" name=""/>
            <p:cNvSpPr/>
            <p:nvPr/>
          </p:nvSpPr>
          <p:spPr>
            <a:xfrm>
              <a:off x="2216160" y="3164040"/>
              <a:ext cx="4032360" cy="384120"/>
            </a:xfrm>
            <a:custGeom>
              <a:avLst/>
              <a:gdLst/>
              <a:ahLst/>
              <a:rect l="l" t="t" r="r" b="b"/>
              <a:pathLst>
                <a:path w="2540" h="242">
                  <a:moveTo>
                    <a:pt x="0" y="151"/>
                  </a:moveTo>
                  <a:cubicBezTo>
                    <a:pt x="7" y="154"/>
                    <a:pt x="15" y="158"/>
                    <a:pt x="45" y="151"/>
                  </a:cubicBezTo>
                  <a:cubicBezTo>
                    <a:pt x="75" y="144"/>
                    <a:pt x="128" y="129"/>
                    <a:pt x="181" y="106"/>
                  </a:cubicBezTo>
                  <a:cubicBezTo>
                    <a:pt x="234" y="83"/>
                    <a:pt x="303" y="30"/>
                    <a:pt x="363" y="15"/>
                  </a:cubicBezTo>
                  <a:cubicBezTo>
                    <a:pt x="423" y="0"/>
                    <a:pt x="491" y="7"/>
                    <a:pt x="544" y="15"/>
                  </a:cubicBezTo>
                  <a:cubicBezTo>
                    <a:pt x="597" y="23"/>
                    <a:pt x="604" y="38"/>
                    <a:pt x="680" y="61"/>
                  </a:cubicBezTo>
                  <a:cubicBezTo>
                    <a:pt x="756" y="84"/>
                    <a:pt x="907" y="121"/>
                    <a:pt x="998" y="151"/>
                  </a:cubicBezTo>
                  <a:cubicBezTo>
                    <a:pt x="1089" y="181"/>
                    <a:pt x="1127" y="242"/>
                    <a:pt x="1225" y="242"/>
                  </a:cubicBezTo>
                  <a:cubicBezTo>
                    <a:pt x="1323" y="242"/>
                    <a:pt x="1497" y="181"/>
                    <a:pt x="1588" y="151"/>
                  </a:cubicBezTo>
                  <a:cubicBezTo>
                    <a:pt x="1679" y="121"/>
                    <a:pt x="1701" y="84"/>
                    <a:pt x="1769" y="61"/>
                  </a:cubicBezTo>
                  <a:cubicBezTo>
                    <a:pt x="1837" y="38"/>
                    <a:pt x="1913" y="23"/>
                    <a:pt x="1996" y="15"/>
                  </a:cubicBezTo>
                  <a:cubicBezTo>
                    <a:pt x="2079" y="7"/>
                    <a:pt x="2185" y="7"/>
                    <a:pt x="2268" y="15"/>
                  </a:cubicBezTo>
                  <a:cubicBezTo>
                    <a:pt x="2351" y="23"/>
                    <a:pt x="2450" y="53"/>
                    <a:pt x="2495" y="61"/>
                  </a:cubicBezTo>
                  <a:cubicBezTo>
                    <a:pt x="2540" y="69"/>
                    <a:pt x="2540" y="65"/>
                    <a:pt x="2540" y="61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71800" y="3260880"/>
              <a:ext cx="287280" cy="287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38600" y="3030480"/>
              <a:ext cx="287280" cy="287280"/>
            </a:xfrm>
            <a:prstGeom prst="star5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9800" y="3116160"/>
              <a:ext cx="287640" cy="287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32520" y="3116160"/>
              <a:ext cx="287280" cy="287280"/>
            </a:xfrm>
            <a:prstGeom prst="star5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7440" y="3835440"/>
              <a:ext cx="4032360" cy="1039680"/>
            </a:xfrm>
            <a:custGeom>
              <a:avLst/>
              <a:gdLst/>
              <a:ahLst/>
              <a:rect l="l" t="t" r="r" b="b"/>
              <a:pathLst>
                <a:path w="2540" h="655">
                  <a:moveTo>
                    <a:pt x="0" y="564"/>
                  </a:moveTo>
                  <a:cubicBezTo>
                    <a:pt x="7" y="567"/>
                    <a:pt x="15" y="571"/>
                    <a:pt x="45" y="564"/>
                  </a:cubicBezTo>
                  <a:cubicBezTo>
                    <a:pt x="75" y="557"/>
                    <a:pt x="149" y="588"/>
                    <a:pt x="181" y="519"/>
                  </a:cubicBezTo>
                  <a:cubicBezTo>
                    <a:pt x="213" y="450"/>
                    <a:pt x="205" y="234"/>
                    <a:pt x="237" y="149"/>
                  </a:cubicBezTo>
                  <a:cubicBezTo>
                    <a:pt x="269" y="64"/>
                    <a:pt x="308" y="18"/>
                    <a:pt x="371" y="9"/>
                  </a:cubicBezTo>
                  <a:cubicBezTo>
                    <a:pt x="434" y="0"/>
                    <a:pt x="578" y="39"/>
                    <a:pt x="617" y="93"/>
                  </a:cubicBezTo>
                  <a:cubicBezTo>
                    <a:pt x="656" y="147"/>
                    <a:pt x="618" y="263"/>
                    <a:pt x="606" y="333"/>
                  </a:cubicBezTo>
                  <a:cubicBezTo>
                    <a:pt x="594" y="403"/>
                    <a:pt x="479" y="474"/>
                    <a:pt x="544" y="512"/>
                  </a:cubicBezTo>
                  <a:cubicBezTo>
                    <a:pt x="609" y="550"/>
                    <a:pt x="885" y="540"/>
                    <a:pt x="998" y="564"/>
                  </a:cubicBezTo>
                  <a:cubicBezTo>
                    <a:pt x="1111" y="588"/>
                    <a:pt x="1127" y="655"/>
                    <a:pt x="1225" y="655"/>
                  </a:cubicBezTo>
                  <a:cubicBezTo>
                    <a:pt x="1323" y="655"/>
                    <a:pt x="1497" y="594"/>
                    <a:pt x="1588" y="564"/>
                  </a:cubicBezTo>
                  <a:cubicBezTo>
                    <a:pt x="1679" y="534"/>
                    <a:pt x="1701" y="497"/>
                    <a:pt x="1769" y="474"/>
                  </a:cubicBezTo>
                  <a:cubicBezTo>
                    <a:pt x="1837" y="451"/>
                    <a:pt x="1913" y="436"/>
                    <a:pt x="1996" y="428"/>
                  </a:cubicBezTo>
                  <a:cubicBezTo>
                    <a:pt x="2079" y="420"/>
                    <a:pt x="2185" y="420"/>
                    <a:pt x="2268" y="428"/>
                  </a:cubicBezTo>
                  <a:cubicBezTo>
                    <a:pt x="2351" y="436"/>
                    <a:pt x="2450" y="466"/>
                    <a:pt x="2495" y="474"/>
                  </a:cubicBezTo>
                  <a:cubicBezTo>
                    <a:pt x="2540" y="482"/>
                    <a:pt x="2540" y="478"/>
                    <a:pt x="2540" y="474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3080" y="4556160"/>
              <a:ext cx="287280" cy="287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63800" y="3670200"/>
              <a:ext cx="287280" cy="287280"/>
            </a:xfrm>
            <a:prstGeom prst="star5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51440" y="4411800"/>
              <a:ext cx="287280" cy="287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03800" y="4411800"/>
              <a:ext cx="287640" cy="287280"/>
            </a:xfrm>
            <a:prstGeom prst="star5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79720" y="2995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7840" y="27813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13560" y="282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73840" y="282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55680" y="4292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30080" y="3860640"/>
              <a:ext cx="64692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10+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400" y="4076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6680" y="4076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79800" y="4486320"/>
              <a:ext cx="287280" cy="28728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29200" y="41972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10200" y="27813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95800" y="3165480"/>
              <a:ext cx="287280" cy="28728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84080" y="3716280"/>
              <a:ext cx="19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Änderung 10 K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71680" y="3860640"/>
              <a:ext cx="504720" cy="1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C50B-B0CD-4A5D-B04A-3A17FA830B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„</a:t>
            </a: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M-Werte Neu setzen“ Methode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5960" y="1371600"/>
            <a:ext cx="82771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tomatische Rekalibrierung bei Routenfortschreibung über die HydroTools Editierwerkzeug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eignisse werden automatisch um Differenzbetrag verschoben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eignisse auf geänderten Geometrien werden über den Eventmanager markiert und notwendige Bearbeitungen dokumentier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Folge: Fallmanagement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und automatische 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Anpassung 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der Ereignisse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68360" y="2871720"/>
            <a:ext cx="6653520" cy="3208320"/>
            <a:chOff x="2268360" y="2871720"/>
            <a:chExt cx="6653520" cy="320832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4067280" y="2871720"/>
              <a:ext cx="4854600" cy="32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124160" y="4869000"/>
              <a:ext cx="1168560" cy="156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8360" y="3213000"/>
              <a:ext cx="1729080" cy="172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B0FF-7128-4394-AC06-A82E86C8A4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690480"/>
            <a:ext cx="7086600" cy="4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Zusammenfassung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ydroTool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aktive Werkzeuge zur Bearbeitung von Ereigniss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alysefunktionen für Ereigniss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terstützen den Fortschreibungsprozes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ehen als Personal und Professional Version zur Verfüg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ind am Arbeitsfluss - orientie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11CF-6DB7-49C3-8B1D-3A7F4FE956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Kontakt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33"/>
                </a:solidFill>
                <a:latin typeface="Verdana"/>
              </a:rPr>
              <a:t>GISCON </a:t>
            </a: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Geoinformatik Gmb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Rebenring 3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38106 Braunschwe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Tel.: 0049-(0)531-380 43 7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www.giscon.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Verdana"/>
              </a:rPr>
              <a:t>Michael Sand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michael.sander@giscon.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F297-00B1-42E1-8B2A-2B879DC8F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Module der HydroTools</a:t>
            </a:r>
            <a:r>
              <a:rPr b="0" lang="en-US" sz="1600" spc="-1" strike="noStrike" baseline="100000">
                <a:solidFill>
                  <a:srgbClr val="007faa"/>
                </a:solidFill>
                <a:latin typeface="Verdana"/>
              </a:rPr>
              <a:t>®</a:t>
            </a: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2880" y="1409760"/>
            <a:ext cx="6585120" cy="49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EB43-4C03-4662-9922-2797C0AC33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Lineare Referenzierung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teilung von Liniengeometrien (Routen) durch Positionsangaben (z.B. Flusskilometer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kalisierung von Sach-Informationen (Ereignissen) durch Positionsangabe auf der Geometri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402680" y="4365720"/>
            <a:ext cx="892440" cy="468360"/>
            <a:chOff x="7402680" y="4365720"/>
            <a:chExt cx="892440" cy="468360"/>
          </a:xfrm>
        </p:grpSpPr>
        <p:sp>
          <p:nvSpPr>
            <p:cNvPr id="54" name=""/>
            <p:cNvSpPr/>
            <p:nvPr/>
          </p:nvSpPr>
          <p:spPr>
            <a:xfrm>
              <a:off x="7402680" y="4726080"/>
              <a:ext cx="107640" cy="108000"/>
            </a:xfrm>
            <a:prstGeom prst="flowChartConnector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5960" y="43657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3300"/>
                  </a:solidFill>
                  <a:latin typeface="Arial"/>
                </a:rPr>
                <a:t>Que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3240" y="5157720"/>
            <a:ext cx="1192320" cy="368280"/>
            <a:chOff x="903240" y="5157720"/>
            <a:chExt cx="1192320" cy="368280"/>
          </a:xfrm>
        </p:grpSpPr>
        <p:sp>
          <p:nvSpPr>
            <p:cNvPr id="57" name=""/>
            <p:cNvSpPr/>
            <p:nvPr/>
          </p:nvSpPr>
          <p:spPr>
            <a:xfrm>
              <a:off x="1987560" y="5157720"/>
              <a:ext cx="108000" cy="108000"/>
            </a:xfrm>
            <a:prstGeom prst="flowChartConnector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03240" y="515772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3300"/>
                  </a:solidFill>
                  <a:latin typeface="Arial"/>
                </a:rPr>
                <a:t>Münd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104920" y="4518000"/>
            <a:ext cx="5313600" cy="1008000"/>
            <a:chOff x="2104920" y="4518000"/>
            <a:chExt cx="5313600" cy="1008000"/>
          </a:xfrm>
        </p:grpSpPr>
        <p:cxnSp>
          <p:nvCxnSpPr>
            <p:cNvPr id="60" name=""/>
            <p:cNvCxnSpPr/>
            <p:nvPr/>
          </p:nvCxnSpPr>
          <p:spPr>
            <a:xfrm flipV="1" rot="10800000">
              <a:off x="2104920" y="4779000"/>
              <a:ext cx="2121480" cy="432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4920">
              <a:solidFill>
                <a:srgbClr val="3333cc"/>
              </a:solidFill>
              <a:miter/>
            </a:ln>
          </p:spPr>
        </p:cxnSp>
        <p:cxnSp>
          <p:nvCxnSpPr>
            <p:cNvPr id="61" name=""/>
            <p:cNvCxnSpPr>
              <a:endCxn id="62" idx="2"/>
            </p:cNvCxnSpPr>
            <p:nvPr/>
          </p:nvCxnSpPr>
          <p:spPr>
            <a:xfrm rot="10800000">
              <a:off x="4225320" y="4779360"/>
              <a:ext cx="3193200" cy="48240"/>
            </a:xfrm>
            <a:prstGeom prst="curvedConnector5">
              <a:avLst>
                <a:gd name="adj1" fmla="val 37929"/>
                <a:gd name="adj2" fmla="val 323308"/>
                <a:gd name="adj3" fmla="val 37929"/>
              </a:avLst>
            </a:prstGeom>
            <a:ln w="34920">
              <a:solidFill>
                <a:srgbClr val="3333cc"/>
              </a:solidFill>
              <a:miter/>
            </a:ln>
          </p:spPr>
        </p:cxnSp>
        <p:sp>
          <p:nvSpPr>
            <p:cNvPr id="63" name=""/>
            <p:cNvSpPr/>
            <p:nvPr/>
          </p:nvSpPr>
          <p:spPr>
            <a:xfrm>
              <a:off x="6375600" y="515772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Flu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641040" y="4726080"/>
            <a:ext cx="1826640" cy="785520"/>
            <a:chOff x="3641040" y="4726080"/>
            <a:chExt cx="1826640" cy="785520"/>
          </a:xfrm>
        </p:grpSpPr>
        <p:sp>
          <p:nvSpPr>
            <p:cNvPr id="62" name=""/>
            <p:cNvSpPr/>
            <p:nvPr/>
          </p:nvSpPr>
          <p:spPr>
            <a:xfrm>
              <a:off x="4235400" y="4726080"/>
              <a:ext cx="108000" cy="108000"/>
            </a:xfrm>
            <a:prstGeom prst="flowChartConnector">
              <a:avLst/>
            </a:prstGeom>
            <a:solidFill>
              <a:srgbClr val="99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1040" y="486900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996633"/>
                  </a:solidFill>
                  <a:latin typeface="Arial"/>
                </a:rPr>
                <a:t>Einleitungsste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996633"/>
                  </a:solidFill>
                  <a:latin typeface="Arial"/>
                </a:rPr>
                <a:t>Position: k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327200" y="3860640"/>
            <a:ext cx="2311200" cy="871920"/>
            <a:chOff x="4327200" y="3860640"/>
            <a:chExt cx="2311200" cy="871920"/>
          </a:xfrm>
        </p:grpSpPr>
        <p:sp>
          <p:nvSpPr>
            <p:cNvPr id="67" name=""/>
            <p:cNvSpPr/>
            <p:nvPr/>
          </p:nvSpPr>
          <p:spPr>
            <a:xfrm>
              <a:off x="4502520" y="3860640"/>
              <a:ext cx="213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996633"/>
                  </a:solidFill>
                  <a:latin typeface="Arial"/>
                </a:rPr>
                <a:t>Kläranl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996633"/>
                  </a:solidFill>
                  <a:latin typeface="Arial"/>
                </a:rPr>
                <a:t>Standort: R-H-We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29080" y="4437000"/>
              <a:ext cx="108000" cy="108000"/>
            </a:xfrm>
            <a:prstGeom prst="flowChartConnector">
              <a:avLst/>
            </a:prstGeom>
            <a:solidFill>
              <a:srgbClr val="99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62" idx="7"/>
            </p:cNvCxnSpPr>
            <p:nvPr/>
          </p:nvCxnSpPr>
          <p:spPr>
            <a:xfrm flipH="1">
              <a:off x="4327200" y="4538520"/>
              <a:ext cx="118080" cy="194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9409-7FDA-46E3-A98E-CB4FEFD86D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Statische vs. dynamische Segmentierung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348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tis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zunehmender Anzahl von Attributänderungen wird die Linie in immer kleinere Segmente unterglieder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ynamisch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abhängig von der Anzahl der zugeordneten Ereignisse bleibt die Anzahl der Routensegmente gleich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17760" y="2565360"/>
            <a:ext cx="7086600" cy="761760"/>
            <a:chOff x="1517760" y="2565360"/>
            <a:chExt cx="7086600" cy="761760"/>
          </a:xfrm>
        </p:grpSpPr>
        <p:sp>
          <p:nvSpPr>
            <p:cNvPr id="73" name=""/>
            <p:cNvSpPr/>
            <p:nvPr/>
          </p:nvSpPr>
          <p:spPr>
            <a:xfrm>
              <a:off x="1594080" y="2781000"/>
              <a:ext cx="6934320" cy="470160"/>
            </a:xfrm>
            <a:custGeom>
              <a:avLst/>
              <a:gdLst/>
              <a:ahLst/>
              <a:rect l="l" t="t" r="r" b="b"/>
              <a:pathLst>
                <a:path w="4368" h="296">
                  <a:moveTo>
                    <a:pt x="0" y="248"/>
                  </a:moveTo>
                  <a:cubicBezTo>
                    <a:pt x="176" y="172"/>
                    <a:pt x="352" y="96"/>
                    <a:pt x="528" y="104"/>
                  </a:cubicBezTo>
                  <a:cubicBezTo>
                    <a:pt x="704" y="112"/>
                    <a:pt x="912" y="296"/>
                    <a:pt x="1056" y="296"/>
                  </a:cubicBezTo>
                  <a:cubicBezTo>
                    <a:pt x="1200" y="296"/>
                    <a:pt x="1160" y="128"/>
                    <a:pt x="1392" y="104"/>
                  </a:cubicBezTo>
                  <a:cubicBezTo>
                    <a:pt x="1624" y="80"/>
                    <a:pt x="2120" y="152"/>
                    <a:pt x="2448" y="152"/>
                  </a:cubicBezTo>
                  <a:cubicBezTo>
                    <a:pt x="2776" y="152"/>
                    <a:pt x="3088" y="128"/>
                    <a:pt x="3360" y="104"/>
                  </a:cubicBezTo>
                  <a:cubicBezTo>
                    <a:pt x="3632" y="80"/>
                    <a:pt x="3912" y="0"/>
                    <a:pt x="4080" y="8"/>
                  </a:cubicBezTo>
                  <a:cubicBezTo>
                    <a:pt x="4248" y="16"/>
                    <a:pt x="4308" y="84"/>
                    <a:pt x="4368" y="152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68520" y="2768400"/>
              <a:ext cx="1549440" cy="254160"/>
            </a:xfrm>
            <a:custGeom>
              <a:avLst/>
              <a:gdLst/>
              <a:ahLst/>
              <a:rect l="l" t="t" r="r" b="b"/>
              <a:pathLst>
                <a:path w="976" h="160">
                  <a:moveTo>
                    <a:pt x="16" y="112"/>
                  </a:moveTo>
                  <a:cubicBezTo>
                    <a:pt x="8" y="120"/>
                    <a:pt x="0" y="128"/>
                    <a:pt x="64" y="112"/>
                  </a:cubicBezTo>
                  <a:cubicBezTo>
                    <a:pt x="128" y="96"/>
                    <a:pt x="312" y="32"/>
                    <a:pt x="400" y="16"/>
                  </a:cubicBezTo>
                  <a:cubicBezTo>
                    <a:pt x="488" y="0"/>
                    <a:pt x="520" y="8"/>
                    <a:pt x="592" y="16"/>
                  </a:cubicBezTo>
                  <a:cubicBezTo>
                    <a:pt x="664" y="24"/>
                    <a:pt x="768" y="40"/>
                    <a:pt x="832" y="64"/>
                  </a:cubicBezTo>
                  <a:cubicBezTo>
                    <a:pt x="896" y="88"/>
                    <a:pt x="936" y="124"/>
                    <a:pt x="976" y="16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3760" y="2717640"/>
              <a:ext cx="2514600" cy="76320"/>
            </a:xfrm>
            <a:custGeom>
              <a:avLst/>
              <a:gdLst/>
              <a:ahLst/>
              <a:rect l="l" t="t" r="r" b="b"/>
              <a:pathLst>
                <a:path w="1584" h="56">
                  <a:moveTo>
                    <a:pt x="0" y="8"/>
                  </a:moveTo>
                  <a:cubicBezTo>
                    <a:pt x="168" y="4"/>
                    <a:pt x="336" y="0"/>
                    <a:pt x="480" y="8"/>
                  </a:cubicBezTo>
                  <a:cubicBezTo>
                    <a:pt x="624" y="16"/>
                    <a:pt x="680" y="56"/>
                    <a:pt x="864" y="56"/>
                  </a:cubicBezTo>
                  <a:cubicBezTo>
                    <a:pt x="1048" y="56"/>
                    <a:pt x="1316" y="32"/>
                    <a:pt x="1584" y="8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23280" y="2565360"/>
              <a:ext cx="914400" cy="152280"/>
            </a:xfrm>
            <a:custGeom>
              <a:avLst/>
              <a:gdLst/>
              <a:ahLst/>
              <a:rect l="l" t="t" r="r" b="b"/>
              <a:pathLst>
                <a:path w="576" h="96">
                  <a:moveTo>
                    <a:pt x="0" y="96"/>
                  </a:moveTo>
                  <a:cubicBezTo>
                    <a:pt x="0" y="96"/>
                    <a:pt x="288" y="48"/>
                    <a:pt x="57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94080" y="2946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17960" y="302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03760" y="2717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18360" y="2717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3280" y="2717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37680" y="25653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2680" y="3162240"/>
              <a:ext cx="838080" cy="164880"/>
            </a:xfrm>
            <a:custGeom>
              <a:avLst/>
              <a:gdLst/>
              <a:ahLst/>
              <a:rect l="l" t="t" r="r" b="b"/>
              <a:pathLst>
                <a:path w="624" h="152">
                  <a:moveTo>
                    <a:pt x="0" y="152"/>
                  </a:moveTo>
                  <a:cubicBezTo>
                    <a:pt x="116" y="84"/>
                    <a:pt x="232" y="16"/>
                    <a:pt x="336" y="8"/>
                  </a:cubicBezTo>
                  <a:cubicBezTo>
                    <a:pt x="440" y="0"/>
                    <a:pt x="576" y="88"/>
                    <a:pt x="624" y="1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9200" y="31748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0" y="96"/>
                    <a:pt x="48" y="48"/>
                    <a:pt x="9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8680" y="3174840"/>
              <a:ext cx="76212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cubicBezTo>
                    <a:pt x="200" y="20"/>
                    <a:pt x="400" y="40"/>
                    <a:pt x="480" y="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3960" y="3251160"/>
              <a:ext cx="457200" cy="1440"/>
            </a:xfrm>
            <a:custGeom>
              <a:avLst/>
              <a:gdLst/>
              <a:ahLst/>
              <a:rect l="l" t="t" r="r" b="b"/>
              <a:pathLst>
                <a:path w="288" h="1">
                  <a:moveTo>
                    <a:pt x="0" y="0"/>
                  </a:moveTo>
                  <a:cubicBezTo>
                    <a:pt x="0" y="0"/>
                    <a:pt x="144" y="0"/>
                    <a:pt x="2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89760" y="3174840"/>
              <a:ext cx="76212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48"/>
                  </a:moveTo>
                  <a:cubicBezTo>
                    <a:pt x="0" y="48"/>
                    <a:pt x="240" y="24"/>
                    <a:pt x="48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85400" y="302256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48"/>
                  </a:moveTo>
                  <a:cubicBezTo>
                    <a:pt x="0" y="48"/>
                    <a:pt x="144" y="24"/>
                    <a:pt x="2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22680" y="3098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0760" y="3022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99200" y="3098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1480" y="2946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08680" y="2946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0800" y="302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3960" y="302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1160" y="302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89760" y="3022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1880" y="2946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400" y="286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2600" y="2793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17760" y="3098520"/>
              <a:ext cx="152640" cy="15264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46360" y="3022560"/>
              <a:ext cx="15264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84800" y="29462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2000" y="31748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2880" y="302256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5160" y="2946240"/>
              <a:ext cx="15264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27800" y="2869920"/>
              <a:ext cx="152280" cy="15264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2360" y="2869920"/>
              <a:ext cx="152640" cy="15264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4480" y="29462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28000" y="29462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85200" y="29462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3800" y="29462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2400" y="29462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6960" y="2869920"/>
              <a:ext cx="152640" cy="15264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75560" y="2869920"/>
              <a:ext cx="152640" cy="15264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9080" y="279396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1360" y="2793960"/>
              <a:ext cx="15264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66280" y="27176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52080" y="2946240"/>
              <a:ext cx="15228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589040" y="5114880"/>
            <a:ext cx="7086600" cy="761760"/>
            <a:chOff x="1589040" y="5114880"/>
            <a:chExt cx="7086600" cy="761760"/>
          </a:xfrm>
        </p:grpSpPr>
        <p:sp>
          <p:nvSpPr>
            <p:cNvPr id="121" name=""/>
            <p:cNvSpPr/>
            <p:nvPr/>
          </p:nvSpPr>
          <p:spPr>
            <a:xfrm>
              <a:off x="1665000" y="5330520"/>
              <a:ext cx="6934320" cy="470160"/>
            </a:xfrm>
            <a:custGeom>
              <a:avLst/>
              <a:gdLst/>
              <a:ahLst/>
              <a:rect l="l" t="t" r="r" b="b"/>
              <a:pathLst>
                <a:path w="4368" h="296">
                  <a:moveTo>
                    <a:pt x="0" y="248"/>
                  </a:moveTo>
                  <a:cubicBezTo>
                    <a:pt x="176" y="172"/>
                    <a:pt x="352" y="96"/>
                    <a:pt x="528" y="104"/>
                  </a:cubicBezTo>
                  <a:cubicBezTo>
                    <a:pt x="704" y="112"/>
                    <a:pt x="912" y="296"/>
                    <a:pt x="1056" y="296"/>
                  </a:cubicBezTo>
                  <a:cubicBezTo>
                    <a:pt x="1200" y="296"/>
                    <a:pt x="1160" y="128"/>
                    <a:pt x="1392" y="104"/>
                  </a:cubicBezTo>
                  <a:cubicBezTo>
                    <a:pt x="1624" y="80"/>
                    <a:pt x="2120" y="152"/>
                    <a:pt x="2448" y="152"/>
                  </a:cubicBezTo>
                  <a:cubicBezTo>
                    <a:pt x="2776" y="152"/>
                    <a:pt x="3088" y="128"/>
                    <a:pt x="3360" y="104"/>
                  </a:cubicBezTo>
                  <a:cubicBezTo>
                    <a:pt x="3632" y="80"/>
                    <a:pt x="3912" y="0"/>
                    <a:pt x="4080" y="8"/>
                  </a:cubicBezTo>
                  <a:cubicBezTo>
                    <a:pt x="4248" y="16"/>
                    <a:pt x="4308" y="84"/>
                    <a:pt x="4368" y="152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39800" y="5317920"/>
              <a:ext cx="1549440" cy="254160"/>
            </a:xfrm>
            <a:custGeom>
              <a:avLst/>
              <a:gdLst/>
              <a:ahLst/>
              <a:rect l="l" t="t" r="r" b="b"/>
              <a:pathLst>
                <a:path w="976" h="160">
                  <a:moveTo>
                    <a:pt x="16" y="112"/>
                  </a:moveTo>
                  <a:cubicBezTo>
                    <a:pt x="8" y="120"/>
                    <a:pt x="0" y="128"/>
                    <a:pt x="64" y="112"/>
                  </a:cubicBezTo>
                  <a:cubicBezTo>
                    <a:pt x="128" y="96"/>
                    <a:pt x="312" y="32"/>
                    <a:pt x="400" y="16"/>
                  </a:cubicBezTo>
                  <a:cubicBezTo>
                    <a:pt x="488" y="0"/>
                    <a:pt x="520" y="8"/>
                    <a:pt x="592" y="16"/>
                  </a:cubicBezTo>
                  <a:cubicBezTo>
                    <a:pt x="664" y="24"/>
                    <a:pt x="768" y="40"/>
                    <a:pt x="832" y="64"/>
                  </a:cubicBezTo>
                  <a:cubicBezTo>
                    <a:pt x="896" y="88"/>
                    <a:pt x="936" y="124"/>
                    <a:pt x="976" y="16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5040" y="5267160"/>
              <a:ext cx="2514600" cy="76320"/>
            </a:xfrm>
            <a:custGeom>
              <a:avLst/>
              <a:gdLst/>
              <a:ahLst/>
              <a:rect l="l" t="t" r="r" b="b"/>
              <a:pathLst>
                <a:path w="1584" h="56">
                  <a:moveTo>
                    <a:pt x="0" y="8"/>
                  </a:moveTo>
                  <a:cubicBezTo>
                    <a:pt x="168" y="4"/>
                    <a:pt x="336" y="0"/>
                    <a:pt x="480" y="8"/>
                  </a:cubicBezTo>
                  <a:cubicBezTo>
                    <a:pt x="624" y="16"/>
                    <a:pt x="680" y="56"/>
                    <a:pt x="864" y="56"/>
                  </a:cubicBezTo>
                  <a:cubicBezTo>
                    <a:pt x="1048" y="56"/>
                    <a:pt x="1316" y="32"/>
                    <a:pt x="1584" y="8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94200" y="5114880"/>
              <a:ext cx="914400" cy="152280"/>
            </a:xfrm>
            <a:custGeom>
              <a:avLst/>
              <a:gdLst/>
              <a:ahLst/>
              <a:rect l="l" t="t" r="r" b="b"/>
              <a:pathLst>
                <a:path w="576" h="96">
                  <a:moveTo>
                    <a:pt x="0" y="96"/>
                  </a:moveTo>
                  <a:cubicBezTo>
                    <a:pt x="0" y="96"/>
                    <a:pt x="288" y="48"/>
                    <a:pt x="576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5000" y="549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9240" y="55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75040" y="5267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89640" y="5267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94200" y="5267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08600" y="5114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93600" y="5711760"/>
              <a:ext cx="838440" cy="164880"/>
            </a:xfrm>
            <a:custGeom>
              <a:avLst/>
              <a:gdLst/>
              <a:ahLst/>
              <a:rect l="l" t="t" r="r" b="b"/>
              <a:pathLst>
                <a:path w="624" h="152">
                  <a:moveTo>
                    <a:pt x="0" y="152"/>
                  </a:moveTo>
                  <a:cubicBezTo>
                    <a:pt x="116" y="84"/>
                    <a:pt x="232" y="16"/>
                    <a:pt x="336" y="8"/>
                  </a:cubicBezTo>
                  <a:cubicBezTo>
                    <a:pt x="440" y="0"/>
                    <a:pt x="576" y="88"/>
                    <a:pt x="624" y="1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70120" y="57243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0" y="96"/>
                    <a:pt x="48" y="48"/>
                    <a:pt x="9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79600" y="5724360"/>
              <a:ext cx="76212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cubicBezTo>
                    <a:pt x="200" y="20"/>
                    <a:pt x="400" y="40"/>
                    <a:pt x="480" y="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75240" y="5800680"/>
              <a:ext cx="457200" cy="1440"/>
            </a:xfrm>
            <a:custGeom>
              <a:avLst/>
              <a:gdLst/>
              <a:ahLst/>
              <a:rect l="l" t="t" r="r" b="b"/>
              <a:pathLst>
                <a:path w="288" h="1">
                  <a:moveTo>
                    <a:pt x="0" y="0"/>
                  </a:moveTo>
                  <a:cubicBezTo>
                    <a:pt x="0" y="0"/>
                    <a:pt x="144" y="0"/>
                    <a:pt x="2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61040" y="5724360"/>
              <a:ext cx="761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48"/>
                  </a:moveTo>
                  <a:cubicBezTo>
                    <a:pt x="0" y="48"/>
                    <a:pt x="240" y="24"/>
                    <a:pt x="48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6320" y="557208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48"/>
                  </a:moveTo>
                  <a:cubicBezTo>
                    <a:pt x="0" y="48"/>
                    <a:pt x="144" y="24"/>
                    <a:pt x="2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3600" y="5648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32040" y="55720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0120" y="5648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22400" y="549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9600" y="549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720" y="55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5240" y="55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32440" y="55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1040" y="55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2800" y="5495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56320" y="5419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13520" y="5343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9040" y="5648040"/>
              <a:ext cx="152280" cy="15264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23000" y="5495760"/>
              <a:ext cx="152640" cy="1522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38DB-66D4-4616-A2CD-5A4AC99069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Struktur einer Route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iniengeometrie, die folgende Eigenschaften aufweist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deutiges Routen-ID Feld, anhand dessen die Routen zusammengefass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eld mit M Werten für die jeweilige Rou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wusstsein“, das M-Werte vorlie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-Wert ist dimensionslos (Kilometrierung, Fließgeschwindigkeit, …)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19280" y="5084640"/>
            <a:ext cx="6265800" cy="766800"/>
            <a:chOff x="1619280" y="5084640"/>
            <a:chExt cx="6265800" cy="766800"/>
          </a:xfrm>
        </p:grpSpPr>
        <p:sp>
          <p:nvSpPr>
            <p:cNvPr id="154" name=""/>
            <p:cNvSpPr/>
            <p:nvPr/>
          </p:nvSpPr>
          <p:spPr>
            <a:xfrm>
              <a:off x="1692360" y="5138640"/>
              <a:ext cx="6119640" cy="649440"/>
            </a:xfrm>
            <a:custGeom>
              <a:avLst/>
              <a:gdLst/>
              <a:ahLst/>
              <a:rect l="l" t="t" r="r" b="b"/>
              <a:pathLst>
                <a:path w="3855" h="409">
                  <a:moveTo>
                    <a:pt x="0" y="227"/>
                  </a:moveTo>
                  <a:lnTo>
                    <a:pt x="907" y="0"/>
                  </a:lnTo>
                  <a:lnTo>
                    <a:pt x="1814" y="409"/>
                  </a:lnTo>
                  <a:lnTo>
                    <a:pt x="2631" y="227"/>
                  </a:lnTo>
                  <a:lnTo>
                    <a:pt x="3493" y="363"/>
                  </a:lnTo>
                  <a:lnTo>
                    <a:pt x="3855" y="136"/>
                  </a:lnTo>
                </a:path>
              </a:pathLst>
            </a:custGeom>
            <a:noFill/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2160" y="5707080"/>
              <a:ext cx="144360" cy="1443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19280" y="5427720"/>
              <a:ext cx="144360" cy="1443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1640" y="5084640"/>
              <a:ext cx="144360" cy="14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7440" y="5440320"/>
              <a:ext cx="144720" cy="1443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82000" y="5630760"/>
              <a:ext cx="144360" cy="1443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0720" y="5288040"/>
              <a:ext cx="144360" cy="14436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63360" y="47242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,Y,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1880" y="556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4880" y="5229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07760" y="5805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558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69960" y="5805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17960" y="544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CEDC-0E4B-47C1-A059-9FEA9B6525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Struktur von Ereignissen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7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s gibt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unktuell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der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inienhaf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Ereigni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eignisse sind in Tabellen gespeichert. Diese müssen folgende Felder aufweis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eld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Routen-I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in dem bestimmt ist, auf welcher Linie das Ereignis auftrit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Punktereigniss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Feld, in dem die relative Position des Ereignisses gespeichert ist (M-Wert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Linienereigniss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2 Felder, in denen der Start und der Endpunkt des Ereignisses gespeichert sind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liebig viele weitere Felder, in denen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Attribut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gespeichert sind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8EE0-50B0-427E-857E-CF1C6C999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Beispiel Linienereignis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ukturgütekartie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064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670120"/>
            <a:ext cx="8208720" cy="30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C097-B5BB-4AF0-A3C4-C54677FA4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Livedemo - Bearbeitung von Ereignissen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reihandTool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ventmanag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064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133360" cy="308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059280" y="2708280"/>
            <a:ext cx="579096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1A15-45F6-4824-B658-816497993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7faa"/>
                </a:solidFill>
                <a:latin typeface="Verdana"/>
              </a:rPr>
              <a:t>Problemfall: Änderung der Geometrie</a:t>
            </a:r>
            <a:endParaRPr b="1" lang="en-US" sz="26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4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Änderungen der Routen Geometrie werden die Ereignisse nicht entsprechend angepasst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lge: Ereignisse werden danach an der falschen Stelle lokalisier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outenfortschreibung durch die Methoden: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ummiband-Metho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-Werte neu setze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npassung der Ereignisse bei Versionsabgleich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92360" y="2924280"/>
            <a:ext cx="4247640" cy="431640"/>
            <a:chOff x="1692360" y="2924280"/>
            <a:chExt cx="4247640" cy="431640"/>
          </a:xfrm>
        </p:grpSpPr>
        <p:sp>
          <p:nvSpPr>
            <p:cNvPr id="182" name=""/>
            <p:cNvSpPr/>
            <p:nvPr/>
          </p:nvSpPr>
          <p:spPr>
            <a:xfrm>
              <a:off x="1836720" y="2971800"/>
              <a:ext cx="4031640" cy="384120"/>
            </a:xfrm>
            <a:custGeom>
              <a:avLst/>
              <a:gdLst/>
              <a:ahLst/>
              <a:rect l="l" t="t" r="r" b="b"/>
              <a:pathLst>
                <a:path w="2540" h="242">
                  <a:moveTo>
                    <a:pt x="0" y="151"/>
                  </a:moveTo>
                  <a:cubicBezTo>
                    <a:pt x="7" y="154"/>
                    <a:pt x="15" y="158"/>
                    <a:pt x="45" y="151"/>
                  </a:cubicBezTo>
                  <a:cubicBezTo>
                    <a:pt x="75" y="144"/>
                    <a:pt x="128" y="129"/>
                    <a:pt x="181" y="106"/>
                  </a:cubicBezTo>
                  <a:cubicBezTo>
                    <a:pt x="234" y="83"/>
                    <a:pt x="303" y="30"/>
                    <a:pt x="363" y="15"/>
                  </a:cubicBezTo>
                  <a:cubicBezTo>
                    <a:pt x="423" y="0"/>
                    <a:pt x="491" y="7"/>
                    <a:pt x="544" y="15"/>
                  </a:cubicBezTo>
                  <a:cubicBezTo>
                    <a:pt x="597" y="23"/>
                    <a:pt x="604" y="38"/>
                    <a:pt x="680" y="61"/>
                  </a:cubicBezTo>
                  <a:cubicBezTo>
                    <a:pt x="756" y="84"/>
                    <a:pt x="907" y="121"/>
                    <a:pt x="998" y="151"/>
                  </a:cubicBezTo>
                  <a:cubicBezTo>
                    <a:pt x="1089" y="181"/>
                    <a:pt x="1127" y="242"/>
                    <a:pt x="1225" y="242"/>
                  </a:cubicBezTo>
                  <a:cubicBezTo>
                    <a:pt x="1323" y="242"/>
                    <a:pt x="1497" y="181"/>
                    <a:pt x="1588" y="151"/>
                  </a:cubicBezTo>
                  <a:cubicBezTo>
                    <a:pt x="1679" y="121"/>
                    <a:pt x="1701" y="84"/>
                    <a:pt x="1769" y="61"/>
                  </a:cubicBezTo>
                  <a:cubicBezTo>
                    <a:pt x="1837" y="38"/>
                    <a:pt x="1913" y="23"/>
                    <a:pt x="1996" y="15"/>
                  </a:cubicBezTo>
                  <a:cubicBezTo>
                    <a:pt x="2079" y="7"/>
                    <a:pt x="2185" y="7"/>
                    <a:pt x="2268" y="15"/>
                  </a:cubicBezTo>
                  <a:cubicBezTo>
                    <a:pt x="2351" y="23"/>
                    <a:pt x="2450" y="53"/>
                    <a:pt x="2495" y="61"/>
                  </a:cubicBezTo>
                  <a:cubicBezTo>
                    <a:pt x="2540" y="69"/>
                    <a:pt x="2540" y="65"/>
                    <a:pt x="2540" y="61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92360" y="3068640"/>
              <a:ext cx="287280" cy="287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73440" y="2924280"/>
              <a:ext cx="286920" cy="287280"/>
            </a:xfrm>
            <a:prstGeom prst="star5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00360" y="2924280"/>
              <a:ext cx="286920" cy="287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3080" y="2924280"/>
              <a:ext cx="286920" cy="287280"/>
            </a:xfrm>
            <a:prstGeom prst="star5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763640" y="3643200"/>
            <a:ext cx="4176720" cy="1039680"/>
            <a:chOff x="1763640" y="3643200"/>
            <a:chExt cx="4176720" cy="1039680"/>
          </a:xfrm>
        </p:grpSpPr>
        <p:sp>
          <p:nvSpPr>
            <p:cNvPr id="188" name=""/>
            <p:cNvSpPr/>
            <p:nvPr/>
          </p:nvSpPr>
          <p:spPr>
            <a:xfrm>
              <a:off x="1908000" y="3643200"/>
              <a:ext cx="4032360" cy="1039680"/>
            </a:xfrm>
            <a:custGeom>
              <a:avLst/>
              <a:gdLst/>
              <a:ahLst/>
              <a:rect l="l" t="t" r="r" b="b"/>
              <a:pathLst>
                <a:path w="2540" h="655">
                  <a:moveTo>
                    <a:pt x="0" y="564"/>
                  </a:moveTo>
                  <a:cubicBezTo>
                    <a:pt x="7" y="567"/>
                    <a:pt x="15" y="571"/>
                    <a:pt x="45" y="564"/>
                  </a:cubicBezTo>
                  <a:cubicBezTo>
                    <a:pt x="75" y="557"/>
                    <a:pt x="149" y="588"/>
                    <a:pt x="181" y="519"/>
                  </a:cubicBezTo>
                  <a:cubicBezTo>
                    <a:pt x="213" y="450"/>
                    <a:pt x="205" y="234"/>
                    <a:pt x="237" y="149"/>
                  </a:cubicBezTo>
                  <a:cubicBezTo>
                    <a:pt x="269" y="64"/>
                    <a:pt x="308" y="18"/>
                    <a:pt x="371" y="9"/>
                  </a:cubicBezTo>
                  <a:cubicBezTo>
                    <a:pt x="434" y="0"/>
                    <a:pt x="578" y="39"/>
                    <a:pt x="617" y="93"/>
                  </a:cubicBezTo>
                  <a:cubicBezTo>
                    <a:pt x="656" y="147"/>
                    <a:pt x="618" y="263"/>
                    <a:pt x="606" y="333"/>
                  </a:cubicBezTo>
                  <a:cubicBezTo>
                    <a:pt x="594" y="403"/>
                    <a:pt x="479" y="474"/>
                    <a:pt x="544" y="512"/>
                  </a:cubicBezTo>
                  <a:cubicBezTo>
                    <a:pt x="609" y="550"/>
                    <a:pt x="885" y="540"/>
                    <a:pt x="998" y="564"/>
                  </a:cubicBezTo>
                  <a:cubicBezTo>
                    <a:pt x="1111" y="588"/>
                    <a:pt x="1127" y="655"/>
                    <a:pt x="1225" y="655"/>
                  </a:cubicBezTo>
                  <a:cubicBezTo>
                    <a:pt x="1323" y="655"/>
                    <a:pt x="1497" y="594"/>
                    <a:pt x="1588" y="564"/>
                  </a:cubicBezTo>
                  <a:cubicBezTo>
                    <a:pt x="1679" y="534"/>
                    <a:pt x="1701" y="497"/>
                    <a:pt x="1769" y="474"/>
                  </a:cubicBezTo>
                  <a:cubicBezTo>
                    <a:pt x="1837" y="451"/>
                    <a:pt x="1913" y="436"/>
                    <a:pt x="1996" y="428"/>
                  </a:cubicBezTo>
                  <a:cubicBezTo>
                    <a:pt x="2079" y="420"/>
                    <a:pt x="2185" y="420"/>
                    <a:pt x="2268" y="428"/>
                  </a:cubicBezTo>
                  <a:cubicBezTo>
                    <a:pt x="2351" y="436"/>
                    <a:pt x="2450" y="466"/>
                    <a:pt x="2495" y="474"/>
                  </a:cubicBezTo>
                  <a:cubicBezTo>
                    <a:pt x="2540" y="482"/>
                    <a:pt x="2540" y="478"/>
                    <a:pt x="2540" y="474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763640" y="3643200"/>
              <a:ext cx="2952720" cy="1008000"/>
              <a:chOff x="1763640" y="3643200"/>
              <a:chExt cx="2952720" cy="1008000"/>
            </a:xfrm>
          </p:grpSpPr>
          <p:sp>
            <p:nvSpPr>
              <p:cNvPr id="190" name=""/>
              <p:cNvSpPr/>
              <p:nvPr/>
            </p:nvSpPr>
            <p:spPr>
              <a:xfrm>
                <a:off x="1763640" y="4363920"/>
                <a:ext cx="287280" cy="287280"/>
              </a:xfrm>
              <a:prstGeom prst="star5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24000" y="3643200"/>
                <a:ext cx="287280" cy="287280"/>
              </a:xfrm>
              <a:prstGeom prst="star5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03640" y="4290840"/>
                <a:ext cx="287280" cy="28728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29080" y="4290840"/>
                <a:ext cx="287280" cy="287280"/>
              </a:xfrm>
              <a:prstGeom prst="star5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8766-5CDB-4461-B1B3-EB01B5CD8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4:07:26Z</dcterms:created>
  <dc:creator>Feety</dc:creator>
  <dc:description/>
  <dc:language>en-US</dc:language>
  <cp:lastModifiedBy>Sander</cp:lastModifiedBy>
  <cp:lastPrinted>2003-11-07T07:46:30Z</cp:lastPrinted>
  <dcterms:modified xsi:type="dcterms:W3CDTF">2006-11-26T18:36:23Z</dcterms:modified>
  <cp:revision>270</cp:revision>
  <dc:subject/>
  <dc:title>PowerPoint-Präsentation</dc:title>
</cp:coreProperties>
</file>