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47F-94F1-41F0-B536-C0570188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60F-24AB-4D56-ACCA-3E5C5025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BDD-2DC0-4ECC-BA75-A3EB66D8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C72-EA4E-4F95-BB19-6085E434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A4A-99EF-4AA5-B1CD-E10BCD24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E8C2-A2AE-4481-8577-3CC73C7F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418-8426-4FC6-821A-2E58B78A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9A8-D94C-4DBF-9386-940FC10C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CFA8-F3A6-47ED-B582-A8965B7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4BC0-FE1B-4176-8922-59AAC0B4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DD82-B11B-423A-8485-1F4A3486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408-906C-43AB-9DA6-22CC07E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DF8-0CC2-4FD6-9388-2B9C24E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254-94A8-4B0A-AD18-4DD95350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826-16E8-4D82-99FA-DBD96CB6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5CA-37F4-4A3B-9C11-D3D542BD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361-2087-4F26-B449-F172F35F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CDF-2E83-4EC4-8734-4286E54C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901-3FA3-46DA-B9C7-14DC9A0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948-CFD2-4619-A6F9-EBA4F8FA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12C-4F0D-45F5-BD32-9B99278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E8A-D58E-4D3B-9863-00013CD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B7E-D658-424D-87CA-293FB54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3C1-E17B-4EF4-BE8E-D7E5FAB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A716-7C75-4BA6-A786-F4292EBDD0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1CF-466C-45FD-88B8-9FC085FB5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0FC6-3ACA-4538-9D2C-965AE8B177C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A3CE-0802-4DB0-B3D6-B4205A04F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spiele von Kartendiensten im Landesumweltamt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8DCA-177E-4EEB-BBAF-D07540F97D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06CB04-80A6-4D44-A40F-8D53D61B4599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13600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DEEC-1D40-4DCA-A048-426A8538A58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69ECC55-C622-4424-A0D9-10AFD00E15F1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 – ergänzende Informationen - Literatur-Datenban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85B5-121A-423E-A734-5C39359961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FFD198-DC58-4F04-B15D-C57D68A64263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 – ergänzende Informationen - Literatur-Datenban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33744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C838-405D-4257-9353-5D27E5C81FF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E336E2-9B56-4810-9232-9C089C0A9009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  (seit Mai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BF31-A966-4478-855E-423CD7F6A05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BE942B-3201-450E-8CB7-A5E32596F4DA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  (seit Mai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4788000" cy="59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460A-32FE-400B-833E-B41171C356A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2F81C7-21D5-42C5-AA89-70EACEF7C5E6}" type="datetime1">
              <a:rPr lang="en-US"/>
              <a:t>07/29/26</a:t>
            </a:fld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ldbrandwarnstufen im Land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479-51FB-4AC7-AF3D-43C7BE518E0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2FFDE7-C625-4806-BAA4-81562C09B9B7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ldbrandwarnstufen im Land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20908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09A0-30DF-4DC3-AC7A-7CD673AD3A19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99446F-FF5E-4C84-90F9-7E24996D81C8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serrahmenrichtlinie – C- Bericht /Intranet-Vorberei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9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16E-1666-4219-A83B-2A4DBD2A8B1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A7F825-2BF4-432F-935F-C389FA46F67C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serrahmenrichtlinie – C- Bericht /Intranet-Vorberei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83C-CF1B-46E9-8A07-FF2CDD0E534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C35A80-703D-42EE-832B-AABCD1B4427F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serrahmenrichtlinie – C- Bericht /Intranet-Vorberei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41708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718-A490-46FF-9D25-1F7A3C53775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311C2A-E1CF-4B7D-A0B4-B4B30AB2BBB6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spiele von Kartendiensten im Landesumweltamt Branden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0A84-B2B4-4933-BA7C-2BA15F920D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3A6354-F447-456B-971A-EF52B269AC0C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IS-InVeKoS - Verwaltungskontrolle /Intranet-Unterstützung Äf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5610-DD58-47A8-862F-FDBF02BF0B3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76AB62-0487-4BA5-BDAF-B8D409CF66C6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IS-InVeKoS - Verwaltungskontrolle /Intranet-Unterstützung Äf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597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D1C4-C081-432B-B9E6-6D29F288DC9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4A70BA-965D-4672-B37E-B974718491CB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blick - Kartendien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907920"/>
            <a:ext cx="85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ntegration von Kartendienstaufrufen in bestehende und z.Zt. umzusetzen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Datenbankapplikationen  für prioritäre Projekte (InVeKos, WRRL, Natura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1560" y="1773360"/>
            <a:ext cx="26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nVeKoS -  profil/cs/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9040" y="2924280"/>
            <a:ext cx="75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ntegration von weiteren  Fachthemen in bestehende Kartendienste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z.B. FFH-Biotopkartierung, LRT, Ar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9800" y="37162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schreibung von Daten und Kartendiensten im UDK, Metadatendien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54000" y="2205000"/>
            <a:ext cx="786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Natura 2000 – Artendatenerfassung/Anzeige – Integration Kartendie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Schnittstelle zu BBK und BfN- Progra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54000" y="4724280"/>
            <a:ext cx="69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ntegration von serverseitigen Editfunktionen /Fangfunktionen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in Kartendiens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80640" y="4221000"/>
            <a:ext cx="81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Migration ArcIMS9x, Einbindung ArcSDE, für Test – und Produktivsystem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7800" y="551664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forderungen INSPIRE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68FF-C1BE-4A2D-9982-4E16064B4BC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7A695E-76C6-4B9D-B8C9-9352DD25F0E0}" type="datetime1">
              <a:rPr lang="en-US"/>
              <a:t>07/29/26</a:t>
            </a:fld>
          </a:p>
        </p:txBody>
      </p:sp>
    </p:spTree>
  </p:cSld>
  <p:transition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IS - InVeK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4C1B-5A86-4F43-96CB-B9432D63347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9E762C-181E-46BE-ADB7-1ED7B3809413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IS - InVeK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01D-7457-4CD1-8F5A-E963C2A942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11FCA70-2247-43CD-8F0B-FF99E2F54DA6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othermie-Portal Brandenburg (LGBR,LGB,LU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CC8-919D-4147-A7BD-2C076B903D2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42479D-DE66-43AC-94B6-6CDB1835FA8F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othermie-Portal -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2C5E-960A-4023-B17E-85B9AE993C1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892454-2540-4F9E-9994-BB11B70448BC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othermie-Portal -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9057-E957-4892-BDA0-FF61478AE4F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1BD5C6-2B9D-462A-8349-0791D13CE522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othermie-Portal -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97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50F8-DAD4-4041-AE64-36ED3908262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388F74-D405-40BE-AD19-45E8BA641DE7}" type="datetime1">
              <a:rPr lang="en-US"/>
              <a:t>07/29/26</a:t>
            </a:fld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utzgebiete im Land Brandenburg  (seit Mai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Schmidt  LUA S/ - GIS Zentra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B6F3-B8BA-4E1C-BE87-249A060AD45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0A1FC1-2835-429A-A5B9-04C9D1D5420D}" type="datetime1">
              <a:rPr lang="en-US"/>
              <a:t>07/29/26</a:t>
            </a:fld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08:53:38Z</dcterms:created>
  <dc:creator>volker</dc:creator>
  <dc:description/>
  <dc:language>en-US</dc:language>
  <cp:lastModifiedBy>volker</cp:lastModifiedBy>
  <dcterms:modified xsi:type="dcterms:W3CDTF">2005-10-15T11:22:22Z</dcterms:modified>
  <cp:revision>5</cp:revision>
  <dc:subject/>
  <dc:title>Folie 1</dc:title>
</cp:coreProperties>
</file>