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865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400" spc="-1" strike="noStrike">
              <a:solidFill>
                <a:srgbClr val="0000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80000" y="652140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AWT-Küste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448400" y="6467400"/>
            <a:ext cx="1276560" cy="3160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95280" y="652140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Mummenthey, MU, Ref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304920" y="299880"/>
            <a:ext cx="1066680" cy="385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3200" spc="-1" strike="noStrike">
                <a:solidFill>
                  <a:srgbClr val="0000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4"/>
          <a:stretch/>
        </p:blipFill>
        <p:spPr>
          <a:xfrm>
            <a:off x="1523880" y="2784600"/>
            <a:ext cx="7239240" cy="3311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ftr" idx="1"/>
          </p:nvPr>
        </p:nvSpPr>
        <p:spPr>
          <a:xfrm>
            <a:off x="4191120" y="6477120"/>
            <a:ext cx="4495680" cy="304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1" lang="de-DE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endertreffen AG Kü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0560" y="6477120"/>
            <a:ext cx="35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1 ESRI Geoinformatik Gm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de-DE" sz="1600" spc="-1" strike="noStrike">
                <a:solidFill>
                  <a:srgbClr val="000060"/>
                </a:solidFill>
                <a:latin typeface="Arial"/>
              </a:rPr>
              <a:t>Katrin Twieh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de-DE" sz="1600" spc="-1" strike="noStrike">
                <a:solidFill>
                  <a:srgbClr val="000060"/>
                </a:solidFill>
                <a:latin typeface="Arial"/>
              </a:rPr>
              <a:t>Niederlassung Hann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de-DE" sz="1600" spc="-1" strike="noStrike">
                <a:solidFill>
                  <a:srgbClr val="000060"/>
                </a:solidFill>
                <a:latin typeface="Arial"/>
              </a:rPr>
              <a:t>ESRI Geoinformatik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mwelt.niedersachsen.de/" TargetMode="External"/><Relationship Id="rId3" Type="http://schemas.openxmlformats.org/officeDocument/2006/relationships/hyperlink" Target="http://www.umwelt.niedersachsen.de/" TargetMode="External"/><Relationship Id="rId4" Type="http://schemas.openxmlformats.org/officeDocument/2006/relationships/hyperlink" Target="http://www.umwelt.niedersachsen.de/" TargetMode="External"/><Relationship Id="rId5" Type="http://schemas.openxmlformats.org/officeDocument/2006/relationships/hyperlink" Target="http://www.umwelt.niedersachsen.de/" TargetMode="External"/><Relationship Id="rId6" Type="http://schemas.openxmlformats.org/officeDocument/2006/relationships/hyperlink" Target="http://www.umwelt.niedersachsen.de/" TargetMode="External"/><Relationship Id="rId7" Type="http://schemas.openxmlformats.org/officeDocument/2006/relationships/hyperlink" Target="http://www.umwelt.niedersachsen.de/" TargetMode="External"/><Relationship Id="rId8" Type="http://schemas.openxmlformats.org/officeDocument/2006/relationships/hyperlink" Target="http://www.mu.niedersachsen.de/" TargetMode="External"/><Relationship Id="rId9" Type="http://schemas.openxmlformats.org/officeDocument/2006/relationships/hyperlink" Target="http://www.mu.niedersachsen.de/" TargetMode="External"/><Relationship Id="rId10" Type="http://schemas.openxmlformats.org/officeDocument/2006/relationships/hyperlink" Target="http://www.mu.niedersachsen.de/" TargetMode="External"/><Relationship Id="rId11" Type="http://schemas.openxmlformats.org/officeDocument/2006/relationships/hyperlink" Target="http://www.mu.niedersachsen.de/" TargetMode="External"/><Relationship Id="rId12" Type="http://schemas.openxmlformats.org/officeDocument/2006/relationships/hyperlink" Target="http://www.mu.niedersachsen.de/" TargetMode="External"/><Relationship Id="rId13" Type="http://schemas.openxmlformats.org/officeDocument/2006/relationships/hyperlink" Target="http://www.mu.niedersachsen.de/" TargetMode="External"/><Relationship Id="rId14" Type="http://schemas.openxmlformats.org/officeDocument/2006/relationships/image" Target="../media/image11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06064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Geodatendien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in d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Niedersächsische Umweltverwal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284720" y="84240"/>
            <a:ext cx="1946160" cy="6164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2600" y="333360"/>
            <a:ext cx="2778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Datenstrom, Lizenzvergab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Kartendiens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84720" y="5805360"/>
            <a:ext cx="199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Jeweils temporäre Daten sow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aten von lokaler Bedeut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672080" y="169920"/>
            <a:ext cx="952560" cy="5562720"/>
            <a:chOff x="4672080" y="169920"/>
            <a:chExt cx="952560" cy="5562720"/>
          </a:xfrm>
        </p:grpSpPr>
        <p:sp>
          <p:nvSpPr>
            <p:cNvPr id="197" name=""/>
            <p:cNvSpPr/>
            <p:nvPr/>
          </p:nvSpPr>
          <p:spPr>
            <a:xfrm>
              <a:off x="4697640" y="519912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BR-Elb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72080" y="169920"/>
              <a:ext cx="9525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97640" y="1008360"/>
              <a:ext cx="9144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GA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97640" y="1846440"/>
              <a:ext cx="914400" cy="533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97640" y="2684520"/>
              <a:ext cx="914400" cy="5335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M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97640" y="3522960"/>
              <a:ext cx="9144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Wat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97640" y="436104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Har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726080" y="262080"/>
            <a:ext cx="857160" cy="2862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NLWK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9600" y="0"/>
            <a:ext cx="357660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„</a:t>
            </a: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GDI- Umweltverwaltun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1680" y="160200"/>
            <a:ext cx="3362400" cy="5524560"/>
            <a:chOff x="5611680" y="160200"/>
            <a:chExt cx="3362400" cy="5524560"/>
          </a:xfrm>
        </p:grpSpPr>
        <p:grpSp>
          <p:nvGrpSpPr>
            <p:cNvPr id="207" name=""/>
            <p:cNvGrpSpPr/>
            <p:nvPr/>
          </p:nvGrpSpPr>
          <p:grpSpPr>
            <a:xfrm>
              <a:off x="5687640" y="160200"/>
              <a:ext cx="3286440" cy="5524560"/>
              <a:chOff x="5687640" y="160200"/>
              <a:chExt cx="3286440" cy="552456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5687640" y="160200"/>
                <a:ext cx="3286440" cy="5524560"/>
                <a:chOff x="5687640" y="160200"/>
                <a:chExt cx="3286440" cy="55245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7155000" y="160200"/>
                  <a:ext cx="1819080" cy="362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480" rIns="87480" tIns="43920" bIns="43920" anchor="ctr">
                  <a:noAutofit/>
                </a:bodyPr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192800" y="617400"/>
                  <a:ext cx="1724040" cy="2616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7480" rIns="87480" tIns="43920" bIns="43920" anchor="t">
                  <a:spAutoFit/>
                </a:bodyPr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Geo-Datenser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-Abgeschlossene                             </a:t>
                  </a:r>
                  <a:r>
                    <a:rPr b="0" lang="de-DE" sz="1300" spc="-1" strike="noStrike">
                      <a:solidFill>
                        <a:srgbClr val="00cc99"/>
                      </a:solidFill>
                      <a:latin typeface="Times New Roman"/>
                    </a:rPr>
                    <a:t>...... 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Arbeitsergebniss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-Datenaustausch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Landes-Intranet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300" spc="-1" strike="noStrike">
                      <a:solidFill>
                        <a:srgbClr val="3333cc"/>
                      </a:solidFill>
                      <a:latin typeface="Times New Roman"/>
                    </a:rPr>
                    <a:t>-Geo-Basisdaten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-"/>
                    <a:tabLst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ALK (?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-"/>
                    <a:tabLst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000" spc="-1" strike="noStrike">
                      <a:solidFill>
                        <a:srgbClr val="ff3300"/>
                      </a:solidFill>
                      <a:latin typeface="Times New Roman"/>
                    </a:rPr>
                    <a:t>filebasiert / zukünftig auch SDE(Geodatenbank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" name=""/>
                <p:cNvGrpSpPr/>
                <p:nvPr/>
              </p:nvGrpSpPr>
              <p:grpSpPr>
                <a:xfrm>
                  <a:off x="5687640" y="588960"/>
                  <a:ext cx="3238560" cy="5095800"/>
                  <a:chOff x="5687640" y="588960"/>
                  <a:chExt cx="3238560" cy="509580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7202520" y="3198960"/>
                    <a:ext cx="1723680" cy="537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66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7252920" y="3300480"/>
                    <a:ext cx="1511280" cy="286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87480" rIns="87480" tIns="43920" bIns="43920" anchor="t">
                    <a:spAutoFit/>
                  </a:bodyPr>
                  <a:p>
                    <a:pPr>
                      <a:tabLst>
                        <a:tab algn="l" pos="0"/>
                        <a:tab algn="l" pos="876240"/>
                        <a:tab algn="l" pos="1752480"/>
                        <a:tab algn="l" pos="2629080"/>
                        <a:tab algn="l" pos="3505320"/>
                        <a:tab algn="l" pos="4381560"/>
                        <a:tab algn="l" pos="5257800"/>
                        <a:tab algn="l" pos="6134040"/>
                        <a:tab algn="l" pos="7010280"/>
                        <a:tab algn="l" pos="7886880"/>
                        <a:tab algn="l" pos="8763120"/>
                        <a:tab algn="l" pos="9639360"/>
                        <a:tab algn="l" pos="10515600"/>
                      </a:tabLst>
                    </a:pPr>
                    <a:r>
                      <a:rPr b="1" lang="de-DE" sz="1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zenz- Server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5687640" y="588960"/>
                    <a:ext cx="1503720" cy="5095800"/>
                    <a:chOff x="5687640" y="588960"/>
                    <a:chExt cx="1503720" cy="509580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5945040" y="588960"/>
                      <a:ext cx="0" cy="50864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V="1">
                      <a:off x="5935320" y="3627360"/>
                      <a:ext cx="1256040" cy="64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flipH="1">
                      <a:off x="5708520" y="598320"/>
                      <a:ext cx="239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>
                      <a:off x="5702040" y="143676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flipH="1">
                      <a:off x="5702040" y="2281320"/>
                      <a:ext cx="2534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flipH="1">
                      <a:off x="5708520" y="3094200"/>
                      <a:ext cx="246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>
                      <a:off x="5702040" y="568476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flipH="1">
                      <a:off x="5702040" y="478944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H="1">
                      <a:off x="5687640" y="3951360"/>
                      <a:ext cx="2538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4" name=""/>
              <p:cNvSpPr/>
              <p:nvPr/>
            </p:nvSpPr>
            <p:spPr>
              <a:xfrm>
                <a:off x="8458560" y="260280"/>
                <a:ext cx="447120" cy="2707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3920" bIns="43920" anchor="t">
                <a:spAutoFit/>
              </a:bodyPr>
              <a:p>
                <a:pPr>
                  <a:tabLst>
                    <a:tab algn="l" pos="0"/>
                    <a:tab algn="l" pos="876240"/>
                    <a:tab algn="l" pos="1752480"/>
                    <a:tab algn="l" pos="2629080"/>
                    <a:tab algn="l" pos="3505320"/>
                    <a:tab algn="l" pos="4381560"/>
                    <a:tab algn="l" pos="5257800"/>
                    <a:tab algn="l" pos="6134040"/>
                    <a:tab algn="l" pos="7010280"/>
                    <a:tab algn="l" pos="7886880"/>
                    <a:tab algn="l" pos="8763120"/>
                    <a:tab algn="l" pos="9639360"/>
                    <a:tab algn="l" pos="105156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IZ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611680" y="760320"/>
              <a:ext cx="1618920" cy="2451240"/>
              <a:chOff x="5611680" y="760320"/>
              <a:chExt cx="1618920" cy="2451240"/>
            </a:xfrm>
          </p:grpSpPr>
          <p:sp>
            <p:nvSpPr>
              <p:cNvPr id="226" name=""/>
              <p:cNvSpPr/>
              <p:nvPr/>
            </p:nvSpPr>
            <p:spPr>
              <a:xfrm>
                <a:off x="5611680" y="3211560"/>
                <a:ext cx="1361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6972840" y="760320"/>
                <a:ext cx="0" cy="244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63840" y="779400"/>
                <a:ext cx="26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288840" y="2925720"/>
                <a:ext cx="640440" cy="27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3920" bIns="43920" anchor="t">
                <a:spAutoFit/>
              </a:bodyPr>
              <a:p>
                <a:pPr>
                  <a:tabLst>
                    <a:tab algn="l" pos="0"/>
                    <a:tab algn="l" pos="876240"/>
                    <a:tab algn="l" pos="1752480"/>
                    <a:tab algn="l" pos="2629080"/>
                    <a:tab algn="l" pos="3505320"/>
                    <a:tab algn="l" pos="4381560"/>
                    <a:tab algn="l" pos="5257800"/>
                    <a:tab algn="l" pos="6134040"/>
                    <a:tab algn="l" pos="7010280"/>
                    <a:tab algn="l" pos="7886880"/>
                    <a:tab algn="l" pos="8763120"/>
                    <a:tab algn="l" pos="9639360"/>
                    <a:tab algn="l" pos="105156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betreib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5601960" y="417600"/>
            <a:ext cx="1553040" cy="5095800"/>
            <a:chOff x="5601960" y="417600"/>
            <a:chExt cx="1553040" cy="5095800"/>
          </a:xfrm>
        </p:grpSpPr>
        <p:grpSp>
          <p:nvGrpSpPr>
            <p:cNvPr id="231" name=""/>
            <p:cNvGrpSpPr/>
            <p:nvPr/>
          </p:nvGrpSpPr>
          <p:grpSpPr>
            <a:xfrm>
              <a:off x="5601960" y="417600"/>
              <a:ext cx="1553040" cy="5095800"/>
              <a:chOff x="5601960" y="417600"/>
              <a:chExt cx="1553040" cy="5095800"/>
            </a:xfrm>
          </p:grpSpPr>
          <p:sp>
            <p:nvSpPr>
              <p:cNvPr id="232" name=""/>
              <p:cNvSpPr/>
              <p:nvPr/>
            </p:nvSpPr>
            <p:spPr>
              <a:xfrm>
                <a:off x="5840640" y="417600"/>
                <a:ext cx="0" cy="5086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30920" y="1519200"/>
                <a:ext cx="1324080" cy="12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5621040" y="426960"/>
                <a:ext cx="2221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5614560" y="12654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5614560" y="2109600"/>
                <a:ext cx="235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5621040" y="292248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5614560" y="55134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5614560" y="461808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601960" y="3780000"/>
                <a:ext cx="235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6291360" y="1243080"/>
              <a:ext cx="5688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920" bIns="439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24000" y="2133720"/>
            <a:ext cx="4403520" cy="2674800"/>
            <a:chOff x="324000" y="2133720"/>
            <a:chExt cx="4403520" cy="2674800"/>
          </a:xfrm>
        </p:grpSpPr>
        <p:sp>
          <p:nvSpPr>
            <p:cNvPr id="243" name=""/>
            <p:cNvSpPr/>
            <p:nvPr/>
          </p:nvSpPr>
          <p:spPr>
            <a:xfrm>
              <a:off x="324000" y="2133720"/>
              <a:ext cx="2735280" cy="2674800"/>
            </a:xfrm>
            <a:prstGeom prst="downArrowCallout">
              <a:avLst>
                <a:gd name="adj1" fmla="val 25568"/>
                <a:gd name="adj2" fmla="val 2556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00000" y="3357720"/>
              <a:ext cx="185760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Map-Server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00720" y="321300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00720" y="3213000"/>
              <a:ext cx="22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771280" y="3645000"/>
              <a:ext cx="172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32000" y="3357720"/>
              <a:ext cx="9684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betrei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7280" y="3573360"/>
              <a:ext cx="447120" cy="2707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920" bIns="439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IZ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284720" y="84240"/>
            <a:ext cx="1946160" cy="6164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2600" y="333360"/>
            <a:ext cx="2778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Datenstrom, Lizenzvergab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Kartendiens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84720" y="5805360"/>
            <a:ext cx="199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Jeweils temporäre Daten sow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aten von lokaler Bedeut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672080" y="169920"/>
            <a:ext cx="952560" cy="5562720"/>
            <a:chOff x="4672080" y="169920"/>
            <a:chExt cx="952560" cy="5562720"/>
          </a:xfrm>
        </p:grpSpPr>
        <p:sp>
          <p:nvSpPr>
            <p:cNvPr id="254" name=""/>
            <p:cNvSpPr/>
            <p:nvPr/>
          </p:nvSpPr>
          <p:spPr>
            <a:xfrm>
              <a:off x="4697640" y="519912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BR-Elb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72080" y="169920"/>
              <a:ext cx="9525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97640" y="1008360"/>
              <a:ext cx="9144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GA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97640" y="1846440"/>
              <a:ext cx="914400" cy="533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97640" y="2684520"/>
              <a:ext cx="914400" cy="5335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M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97640" y="3522960"/>
              <a:ext cx="9144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Wat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97640" y="436104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Har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726080" y="262080"/>
            <a:ext cx="857160" cy="2862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NLWK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9600" y="0"/>
            <a:ext cx="357660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„</a:t>
            </a: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GDI- Umweltverwaltun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611680" y="160200"/>
            <a:ext cx="3362400" cy="5524560"/>
            <a:chOff x="5611680" y="160200"/>
            <a:chExt cx="3362400" cy="5524560"/>
          </a:xfrm>
        </p:grpSpPr>
        <p:grpSp>
          <p:nvGrpSpPr>
            <p:cNvPr id="264" name=""/>
            <p:cNvGrpSpPr/>
            <p:nvPr/>
          </p:nvGrpSpPr>
          <p:grpSpPr>
            <a:xfrm>
              <a:off x="5687640" y="160200"/>
              <a:ext cx="3286440" cy="5524560"/>
              <a:chOff x="5687640" y="160200"/>
              <a:chExt cx="3286440" cy="552456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5687640" y="160200"/>
                <a:ext cx="3286440" cy="5524560"/>
                <a:chOff x="5687640" y="160200"/>
                <a:chExt cx="3286440" cy="55245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7155000" y="160200"/>
                  <a:ext cx="1819080" cy="362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480" rIns="87480" tIns="43920" bIns="43920" anchor="ctr">
                  <a:noAutofit/>
                </a:bodyPr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192800" y="617400"/>
                  <a:ext cx="1724040" cy="2616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7480" rIns="87480" tIns="43920" bIns="43920" anchor="t">
                  <a:spAutoFit/>
                </a:bodyPr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Geo-Datenser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-Abgeschlossene                             </a:t>
                  </a:r>
                  <a:r>
                    <a:rPr b="0" lang="de-DE" sz="1300" spc="-1" strike="noStrike">
                      <a:solidFill>
                        <a:srgbClr val="00cc99"/>
                      </a:solidFill>
                      <a:latin typeface="Times New Roman"/>
                    </a:rPr>
                    <a:t>...... 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Arbeitsergebniss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-Datenaustausch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Landes-Intranet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300" spc="-1" strike="noStrike">
                      <a:solidFill>
                        <a:srgbClr val="3333cc"/>
                      </a:solidFill>
                      <a:latin typeface="Times New Roman"/>
                    </a:rPr>
                    <a:t>-Geo-Basisdaten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-"/>
                    <a:tabLst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ALK (?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-"/>
                    <a:tabLst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000" spc="-1" strike="noStrike">
                      <a:solidFill>
                        <a:srgbClr val="ff3300"/>
                      </a:solidFill>
                      <a:latin typeface="Times New Roman"/>
                    </a:rPr>
                    <a:t>filebasiert / zukünftig auch SDE(Geodatenbank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" name=""/>
                <p:cNvGrpSpPr/>
                <p:nvPr/>
              </p:nvGrpSpPr>
              <p:grpSpPr>
                <a:xfrm>
                  <a:off x="5687640" y="588960"/>
                  <a:ext cx="3238560" cy="5095800"/>
                  <a:chOff x="5687640" y="588960"/>
                  <a:chExt cx="3238560" cy="5095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7202520" y="3198960"/>
                    <a:ext cx="1723680" cy="537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66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7252920" y="3300480"/>
                    <a:ext cx="1511280" cy="286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87480" rIns="87480" tIns="43920" bIns="43920" anchor="t">
                    <a:spAutoFit/>
                  </a:bodyPr>
                  <a:p>
                    <a:pPr>
                      <a:tabLst>
                        <a:tab algn="l" pos="0"/>
                        <a:tab algn="l" pos="876240"/>
                        <a:tab algn="l" pos="1752480"/>
                        <a:tab algn="l" pos="2629080"/>
                        <a:tab algn="l" pos="3505320"/>
                        <a:tab algn="l" pos="4381560"/>
                        <a:tab algn="l" pos="5257800"/>
                        <a:tab algn="l" pos="6134040"/>
                        <a:tab algn="l" pos="7010280"/>
                        <a:tab algn="l" pos="7886880"/>
                        <a:tab algn="l" pos="8763120"/>
                        <a:tab algn="l" pos="9639360"/>
                        <a:tab algn="l" pos="10515600"/>
                      </a:tabLst>
                    </a:pPr>
                    <a:r>
                      <a:rPr b="1" lang="de-DE" sz="1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zenz- Server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5687640" y="588960"/>
                    <a:ext cx="1503720" cy="5095800"/>
                    <a:chOff x="5687640" y="588960"/>
                    <a:chExt cx="1503720" cy="509580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5945040" y="588960"/>
                      <a:ext cx="0" cy="50864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flipV="1">
                      <a:off x="5935320" y="3627360"/>
                      <a:ext cx="1256040" cy="64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>
                      <a:off x="5708520" y="598320"/>
                      <a:ext cx="239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flipH="1">
                      <a:off x="5702040" y="143676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flipH="1">
                      <a:off x="5702040" y="2281320"/>
                      <a:ext cx="2534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>
                      <a:off x="5708520" y="3094200"/>
                      <a:ext cx="246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flipH="1">
                      <a:off x="5702040" y="568476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flipH="1">
                      <a:off x="5702040" y="478944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>
                      <a:off x="5687640" y="3951360"/>
                      <a:ext cx="2538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81" name=""/>
              <p:cNvSpPr/>
              <p:nvPr/>
            </p:nvSpPr>
            <p:spPr>
              <a:xfrm>
                <a:off x="8458560" y="260280"/>
                <a:ext cx="447120" cy="2707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3920" bIns="43920" anchor="t">
                <a:spAutoFit/>
              </a:bodyPr>
              <a:p>
                <a:pPr>
                  <a:tabLst>
                    <a:tab algn="l" pos="0"/>
                    <a:tab algn="l" pos="876240"/>
                    <a:tab algn="l" pos="1752480"/>
                    <a:tab algn="l" pos="2629080"/>
                    <a:tab algn="l" pos="3505320"/>
                    <a:tab algn="l" pos="4381560"/>
                    <a:tab algn="l" pos="5257800"/>
                    <a:tab algn="l" pos="6134040"/>
                    <a:tab algn="l" pos="7010280"/>
                    <a:tab algn="l" pos="7886880"/>
                    <a:tab algn="l" pos="8763120"/>
                    <a:tab algn="l" pos="9639360"/>
                    <a:tab algn="l" pos="105156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IZ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611680" y="760320"/>
              <a:ext cx="1618920" cy="2451240"/>
              <a:chOff x="5611680" y="760320"/>
              <a:chExt cx="1618920" cy="2451240"/>
            </a:xfrm>
          </p:grpSpPr>
          <p:sp>
            <p:nvSpPr>
              <p:cNvPr id="283" name=""/>
              <p:cNvSpPr/>
              <p:nvPr/>
            </p:nvSpPr>
            <p:spPr>
              <a:xfrm>
                <a:off x="5611680" y="3211560"/>
                <a:ext cx="1361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6972840" y="760320"/>
                <a:ext cx="0" cy="244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963840" y="779400"/>
                <a:ext cx="26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288840" y="2925720"/>
                <a:ext cx="640440" cy="27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3920" bIns="43920" anchor="t">
                <a:spAutoFit/>
              </a:bodyPr>
              <a:p>
                <a:pPr>
                  <a:tabLst>
                    <a:tab algn="l" pos="0"/>
                    <a:tab algn="l" pos="876240"/>
                    <a:tab algn="l" pos="1752480"/>
                    <a:tab algn="l" pos="2629080"/>
                    <a:tab algn="l" pos="3505320"/>
                    <a:tab algn="l" pos="4381560"/>
                    <a:tab algn="l" pos="5257800"/>
                    <a:tab algn="l" pos="6134040"/>
                    <a:tab algn="l" pos="7010280"/>
                    <a:tab algn="l" pos="7886880"/>
                    <a:tab algn="l" pos="8763120"/>
                    <a:tab algn="l" pos="9639360"/>
                    <a:tab algn="l" pos="105156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betreib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5601960" y="417600"/>
            <a:ext cx="1553040" cy="5095800"/>
            <a:chOff x="5601960" y="417600"/>
            <a:chExt cx="1553040" cy="5095800"/>
          </a:xfrm>
        </p:grpSpPr>
        <p:grpSp>
          <p:nvGrpSpPr>
            <p:cNvPr id="288" name=""/>
            <p:cNvGrpSpPr/>
            <p:nvPr/>
          </p:nvGrpSpPr>
          <p:grpSpPr>
            <a:xfrm>
              <a:off x="5601960" y="417600"/>
              <a:ext cx="1553040" cy="5095800"/>
              <a:chOff x="5601960" y="417600"/>
              <a:chExt cx="1553040" cy="5095800"/>
            </a:xfrm>
          </p:grpSpPr>
          <p:sp>
            <p:nvSpPr>
              <p:cNvPr id="289" name=""/>
              <p:cNvSpPr/>
              <p:nvPr/>
            </p:nvSpPr>
            <p:spPr>
              <a:xfrm>
                <a:off x="5840640" y="417600"/>
                <a:ext cx="0" cy="5086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30920" y="1519200"/>
                <a:ext cx="1324080" cy="12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5621040" y="426960"/>
                <a:ext cx="2221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5614560" y="12654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5614560" y="2109600"/>
                <a:ext cx="235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621040" y="292248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5614560" y="55134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5614560" y="461808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5601960" y="3780000"/>
                <a:ext cx="235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6291360" y="1243080"/>
              <a:ext cx="5688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920" bIns="439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24000" y="2133720"/>
            <a:ext cx="4403520" cy="2674800"/>
            <a:chOff x="324000" y="2133720"/>
            <a:chExt cx="4403520" cy="2674800"/>
          </a:xfrm>
        </p:grpSpPr>
        <p:sp>
          <p:nvSpPr>
            <p:cNvPr id="300" name=""/>
            <p:cNvSpPr/>
            <p:nvPr/>
          </p:nvSpPr>
          <p:spPr>
            <a:xfrm>
              <a:off x="324000" y="2133720"/>
              <a:ext cx="2735280" cy="2674800"/>
            </a:xfrm>
            <a:prstGeom prst="downArrowCallout">
              <a:avLst>
                <a:gd name="adj1" fmla="val 25568"/>
                <a:gd name="adj2" fmla="val 2556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00000" y="3357720"/>
              <a:ext cx="185760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Map-Server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00720" y="321300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00720" y="3213000"/>
              <a:ext cx="22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771280" y="3645000"/>
              <a:ext cx="172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32000" y="3357720"/>
              <a:ext cx="9684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betrei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7280" y="3573360"/>
              <a:ext cx="447120" cy="2707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920" bIns="439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IZ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47640" y="5008680"/>
            <a:ext cx="3264840" cy="1257120"/>
            <a:chOff x="647640" y="5008680"/>
            <a:chExt cx="3264840" cy="1257120"/>
          </a:xfrm>
        </p:grpSpPr>
        <p:grpSp>
          <p:nvGrpSpPr>
            <p:cNvPr id="308" name=""/>
            <p:cNvGrpSpPr/>
            <p:nvPr/>
          </p:nvGrpSpPr>
          <p:grpSpPr>
            <a:xfrm>
              <a:off x="647640" y="5008680"/>
              <a:ext cx="3264840" cy="1257120"/>
              <a:chOff x="647640" y="5008680"/>
              <a:chExt cx="3264840" cy="1257120"/>
            </a:xfrm>
          </p:grpSpPr>
          <p:sp>
            <p:nvSpPr>
              <p:cNvPr id="309" name=""/>
              <p:cNvSpPr/>
              <p:nvPr/>
            </p:nvSpPr>
            <p:spPr>
              <a:xfrm>
                <a:off x="647640" y="5132520"/>
                <a:ext cx="2266920" cy="1133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654120" y="5008680"/>
                <a:ext cx="3258360" cy="1172880"/>
                <a:chOff x="654120" y="5008680"/>
                <a:chExt cx="3258360" cy="11728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65280" y="5103720"/>
                  <a:ext cx="2225520" cy="733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480" rIns="87480" tIns="43920" bIns="43920" anchor="ctr">
                  <a:noAutofit/>
                </a:bodyPr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Interne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Intranet des Land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digitaler Umweltberich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 txBox="1"/>
                <p:nvPr/>
              </p:nvSpPr>
              <p:spPr>
                <a:xfrm>
                  <a:off x="654120" y="5008680"/>
                  <a:ext cx="2225520" cy="660240"/>
                </a:xfrm>
                <a:prstGeom prst="rect">
                  <a:avLst/>
                </a:prstGeom>
              </p:spPr>
              <p:txBody>
                <a:bodyPr wrap="none" fromWordArt="1" lIns="87480" rIns="87480" tIns="43560" bIns="43560" anchor="ctr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Informationspflicht</a:t>
                  </a:r>
                  <a:endPara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042920" y="5877000"/>
                  <a:ext cx="137340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061080" y="5373720"/>
                  <a:ext cx="851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2800" spc="-1" strike="noStrike">
                      <a:solidFill>
                        <a:srgbClr val="6699ff"/>
                      </a:solidFill>
                      <a:latin typeface="Times New Roman"/>
                    </a:rPr>
                    <a:t>UIG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15" name="Logo_nebeneinander_klein" descr=""/>
            <p:cNvPicPr/>
            <p:nvPr/>
          </p:nvPicPr>
          <p:blipFill>
            <a:blip r:embed="rId2"/>
            <a:stretch/>
          </p:blipFill>
          <p:spPr>
            <a:xfrm>
              <a:off x="1371600" y="5867280"/>
              <a:ext cx="8636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284720" y="84240"/>
            <a:ext cx="1946160" cy="6164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2600" y="333360"/>
            <a:ext cx="2778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Datenstrom, Lizenzvergab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Kartendiens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84720" y="5805360"/>
            <a:ext cx="199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Jeweils temporäre Daten sow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aten von lokaler Bedeut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672080" y="169920"/>
            <a:ext cx="952560" cy="5562720"/>
            <a:chOff x="4672080" y="169920"/>
            <a:chExt cx="952560" cy="5562720"/>
          </a:xfrm>
        </p:grpSpPr>
        <p:sp>
          <p:nvSpPr>
            <p:cNvPr id="320" name=""/>
            <p:cNvSpPr/>
            <p:nvPr/>
          </p:nvSpPr>
          <p:spPr>
            <a:xfrm>
              <a:off x="4697640" y="519912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BR-Elb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72080" y="169920"/>
              <a:ext cx="9525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97640" y="1008360"/>
              <a:ext cx="9144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GA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97640" y="1846440"/>
              <a:ext cx="914400" cy="533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97640" y="2684520"/>
              <a:ext cx="914400" cy="5335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M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97640" y="3522960"/>
              <a:ext cx="9144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Wat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97640" y="436104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Har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726080" y="262080"/>
            <a:ext cx="857160" cy="2862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NLWK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9600" y="0"/>
            <a:ext cx="357660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„</a:t>
            </a: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GDI- Umweltverwaltun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611680" y="160200"/>
            <a:ext cx="3362400" cy="5524560"/>
            <a:chOff x="5611680" y="160200"/>
            <a:chExt cx="3362400" cy="5524560"/>
          </a:xfrm>
        </p:grpSpPr>
        <p:grpSp>
          <p:nvGrpSpPr>
            <p:cNvPr id="330" name=""/>
            <p:cNvGrpSpPr/>
            <p:nvPr/>
          </p:nvGrpSpPr>
          <p:grpSpPr>
            <a:xfrm>
              <a:off x="5687640" y="160200"/>
              <a:ext cx="3286440" cy="5524560"/>
              <a:chOff x="5687640" y="160200"/>
              <a:chExt cx="3286440" cy="552456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5687640" y="160200"/>
                <a:ext cx="3286440" cy="5524560"/>
                <a:chOff x="5687640" y="160200"/>
                <a:chExt cx="3286440" cy="5524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155000" y="160200"/>
                  <a:ext cx="1819080" cy="362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480" rIns="87480" tIns="43920" bIns="43920" anchor="ctr">
                  <a:noAutofit/>
                </a:bodyPr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192800" y="617400"/>
                  <a:ext cx="1724040" cy="2616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7480" rIns="87480" tIns="43920" bIns="43920" anchor="t">
                  <a:spAutoFit/>
                </a:bodyPr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Geo-Datenser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-Abgeschlossene                             </a:t>
                  </a:r>
                  <a:r>
                    <a:rPr b="0" lang="de-DE" sz="1300" spc="-1" strike="noStrike">
                      <a:solidFill>
                        <a:srgbClr val="00cc99"/>
                      </a:solidFill>
                      <a:latin typeface="Times New Roman"/>
                    </a:rPr>
                    <a:t>...... 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Arbeitsergebniss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-Datenaustausch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Landes-Intranet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300" spc="-1" strike="noStrike">
                      <a:solidFill>
                        <a:srgbClr val="3333cc"/>
                      </a:solidFill>
                      <a:latin typeface="Times New Roman"/>
                    </a:rPr>
                    <a:t>-Geo-Basisdaten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-"/>
                    <a:tabLst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ALK (?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-"/>
                    <a:tabLst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000" spc="-1" strike="noStrike">
                      <a:solidFill>
                        <a:srgbClr val="ff3300"/>
                      </a:solidFill>
                      <a:latin typeface="Times New Roman"/>
                    </a:rPr>
                    <a:t>filebasiert / zukünftig auch SDE(Geodatenbank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4" name=""/>
                <p:cNvGrpSpPr/>
                <p:nvPr/>
              </p:nvGrpSpPr>
              <p:grpSpPr>
                <a:xfrm>
                  <a:off x="5687640" y="588960"/>
                  <a:ext cx="3238560" cy="5095800"/>
                  <a:chOff x="5687640" y="588960"/>
                  <a:chExt cx="3238560" cy="509580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7202520" y="3198960"/>
                    <a:ext cx="1723680" cy="537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66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7252920" y="3300480"/>
                    <a:ext cx="1511280" cy="286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87480" rIns="87480" tIns="43920" bIns="43920" anchor="t">
                    <a:spAutoFit/>
                  </a:bodyPr>
                  <a:p>
                    <a:pPr>
                      <a:tabLst>
                        <a:tab algn="l" pos="0"/>
                        <a:tab algn="l" pos="876240"/>
                        <a:tab algn="l" pos="1752480"/>
                        <a:tab algn="l" pos="2629080"/>
                        <a:tab algn="l" pos="3505320"/>
                        <a:tab algn="l" pos="4381560"/>
                        <a:tab algn="l" pos="5257800"/>
                        <a:tab algn="l" pos="6134040"/>
                        <a:tab algn="l" pos="7010280"/>
                        <a:tab algn="l" pos="7886880"/>
                        <a:tab algn="l" pos="8763120"/>
                        <a:tab algn="l" pos="9639360"/>
                        <a:tab algn="l" pos="10515600"/>
                      </a:tabLst>
                    </a:pPr>
                    <a:r>
                      <a:rPr b="1" lang="de-DE" sz="1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zenz- Server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5687640" y="588960"/>
                    <a:ext cx="1503720" cy="5095800"/>
                    <a:chOff x="5687640" y="588960"/>
                    <a:chExt cx="1503720" cy="509580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5945040" y="588960"/>
                      <a:ext cx="0" cy="50864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V="1">
                      <a:off x="5935320" y="3627360"/>
                      <a:ext cx="1256040" cy="64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>
                      <a:off x="5708520" y="598320"/>
                      <a:ext cx="239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>
                      <a:off x="5702040" y="143676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flipH="1">
                      <a:off x="5702040" y="2281320"/>
                      <a:ext cx="2534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H="1">
                      <a:off x="5708520" y="3094200"/>
                      <a:ext cx="246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>
                      <a:off x="5702040" y="568476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H="1">
                      <a:off x="5702040" y="478944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H="1">
                      <a:off x="5687640" y="3951360"/>
                      <a:ext cx="2538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47" name=""/>
              <p:cNvSpPr/>
              <p:nvPr/>
            </p:nvSpPr>
            <p:spPr>
              <a:xfrm>
                <a:off x="8458560" y="260280"/>
                <a:ext cx="447120" cy="2707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3920" bIns="43920" anchor="t">
                <a:spAutoFit/>
              </a:bodyPr>
              <a:p>
                <a:pPr>
                  <a:tabLst>
                    <a:tab algn="l" pos="0"/>
                    <a:tab algn="l" pos="876240"/>
                    <a:tab algn="l" pos="1752480"/>
                    <a:tab algn="l" pos="2629080"/>
                    <a:tab algn="l" pos="3505320"/>
                    <a:tab algn="l" pos="4381560"/>
                    <a:tab algn="l" pos="5257800"/>
                    <a:tab algn="l" pos="6134040"/>
                    <a:tab algn="l" pos="7010280"/>
                    <a:tab algn="l" pos="7886880"/>
                    <a:tab algn="l" pos="8763120"/>
                    <a:tab algn="l" pos="9639360"/>
                    <a:tab algn="l" pos="105156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IZ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5611680" y="760320"/>
              <a:ext cx="1618920" cy="2451240"/>
              <a:chOff x="5611680" y="760320"/>
              <a:chExt cx="1618920" cy="2451240"/>
            </a:xfrm>
          </p:grpSpPr>
          <p:sp>
            <p:nvSpPr>
              <p:cNvPr id="349" name=""/>
              <p:cNvSpPr/>
              <p:nvPr/>
            </p:nvSpPr>
            <p:spPr>
              <a:xfrm>
                <a:off x="5611680" y="3211560"/>
                <a:ext cx="1361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6972840" y="760320"/>
                <a:ext cx="0" cy="244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963840" y="779400"/>
                <a:ext cx="26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88840" y="2925720"/>
                <a:ext cx="640440" cy="27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3920" bIns="43920" anchor="t">
                <a:spAutoFit/>
              </a:bodyPr>
              <a:p>
                <a:pPr>
                  <a:tabLst>
                    <a:tab algn="l" pos="0"/>
                    <a:tab algn="l" pos="876240"/>
                    <a:tab algn="l" pos="1752480"/>
                    <a:tab algn="l" pos="2629080"/>
                    <a:tab algn="l" pos="3505320"/>
                    <a:tab algn="l" pos="4381560"/>
                    <a:tab algn="l" pos="5257800"/>
                    <a:tab algn="l" pos="6134040"/>
                    <a:tab algn="l" pos="7010280"/>
                    <a:tab algn="l" pos="7886880"/>
                    <a:tab algn="l" pos="8763120"/>
                    <a:tab algn="l" pos="9639360"/>
                    <a:tab algn="l" pos="105156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betreib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" name=""/>
          <p:cNvGrpSpPr/>
          <p:nvPr/>
        </p:nvGrpSpPr>
        <p:grpSpPr>
          <a:xfrm>
            <a:off x="5601960" y="417600"/>
            <a:ext cx="1553040" cy="5095800"/>
            <a:chOff x="5601960" y="417600"/>
            <a:chExt cx="1553040" cy="5095800"/>
          </a:xfrm>
        </p:grpSpPr>
        <p:grpSp>
          <p:nvGrpSpPr>
            <p:cNvPr id="354" name=""/>
            <p:cNvGrpSpPr/>
            <p:nvPr/>
          </p:nvGrpSpPr>
          <p:grpSpPr>
            <a:xfrm>
              <a:off x="5601960" y="417600"/>
              <a:ext cx="1553040" cy="5095800"/>
              <a:chOff x="5601960" y="417600"/>
              <a:chExt cx="1553040" cy="5095800"/>
            </a:xfrm>
          </p:grpSpPr>
          <p:sp>
            <p:nvSpPr>
              <p:cNvPr id="355" name=""/>
              <p:cNvSpPr/>
              <p:nvPr/>
            </p:nvSpPr>
            <p:spPr>
              <a:xfrm>
                <a:off x="5840640" y="417600"/>
                <a:ext cx="0" cy="5086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830920" y="1519200"/>
                <a:ext cx="1324080" cy="12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621040" y="426960"/>
                <a:ext cx="2221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614560" y="12654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5614560" y="2109600"/>
                <a:ext cx="235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5621040" y="292248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5614560" y="55134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5614560" y="461808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5601960" y="3780000"/>
                <a:ext cx="235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291360" y="1243080"/>
              <a:ext cx="5688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920" bIns="439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24000" y="2133720"/>
            <a:ext cx="4403520" cy="2674800"/>
            <a:chOff x="324000" y="2133720"/>
            <a:chExt cx="4403520" cy="2674800"/>
          </a:xfrm>
        </p:grpSpPr>
        <p:sp>
          <p:nvSpPr>
            <p:cNvPr id="366" name=""/>
            <p:cNvSpPr/>
            <p:nvPr/>
          </p:nvSpPr>
          <p:spPr>
            <a:xfrm>
              <a:off x="324000" y="2133720"/>
              <a:ext cx="2735280" cy="2674800"/>
            </a:xfrm>
            <a:prstGeom prst="downArrowCallout">
              <a:avLst>
                <a:gd name="adj1" fmla="val 25568"/>
                <a:gd name="adj2" fmla="val 2556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0000" y="3357720"/>
              <a:ext cx="185760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Map-Server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00720" y="321300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00720" y="3213000"/>
              <a:ext cx="22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771280" y="3645000"/>
              <a:ext cx="172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32000" y="3357720"/>
              <a:ext cx="9684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betrei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7280" y="3573360"/>
              <a:ext cx="447120" cy="2707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920" bIns="439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IZ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17520" y="1052640"/>
            <a:ext cx="4410000" cy="1655640"/>
            <a:chOff x="317520" y="1052640"/>
            <a:chExt cx="4410000" cy="1655640"/>
          </a:xfrm>
        </p:grpSpPr>
        <p:sp>
          <p:nvSpPr>
            <p:cNvPr id="374" name=""/>
            <p:cNvSpPr/>
            <p:nvPr/>
          </p:nvSpPr>
          <p:spPr>
            <a:xfrm>
              <a:off x="4427640" y="1557360"/>
              <a:ext cx="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27640" y="2708280"/>
              <a:ext cx="29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7520" y="1052640"/>
              <a:ext cx="2832480" cy="703440"/>
            </a:xfrm>
            <a:prstGeom prst="rect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Downloads von Geo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Times New Roman"/>
                </a:rPr>
                <a:t>www.umwelt.niedersachsen.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www.mu.niedersachsen.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700360" y="155736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47640" y="5008680"/>
            <a:ext cx="3264840" cy="1257120"/>
            <a:chOff x="647640" y="5008680"/>
            <a:chExt cx="3264840" cy="1257120"/>
          </a:xfrm>
        </p:grpSpPr>
        <p:grpSp>
          <p:nvGrpSpPr>
            <p:cNvPr id="379" name=""/>
            <p:cNvGrpSpPr/>
            <p:nvPr/>
          </p:nvGrpSpPr>
          <p:grpSpPr>
            <a:xfrm>
              <a:off x="647640" y="5008680"/>
              <a:ext cx="3264840" cy="1257120"/>
              <a:chOff x="647640" y="5008680"/>
              <a:chExt cx="3264840" cy="1257120"/>
            </a:xfrm>
          </p:grpSpPr>
          <p:sp>
            <p:nvSpPr>
              <p:cNvPr id="380" name=""/>
              <p:cNvSpPr/>
              <p:nvPr/>
            </p:nvSpPr>
            <p:spPr>
              <a:xfrm>
                <a:off x="647640" y="5132520"/>
                <a:ext cx="2266920" cy="1133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654120" y="5008680"/>
                <a:ext cx="3258360" cy="1172880"/>
                <a:chOff x="654120" y="5008680"/>
                <a:chExt cx="3258360" cy="1172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665280" y="5103720"/>
                  <a:ext cx="2225520" cy="733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480" rIns="87480" tIns="43920" bIns="43920" anchor="ctr">
                  <a:noAutofit/>
                </a:bodyPr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Interne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Intranet des Land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digitaler Umweltberich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 txBox="1"/>
                <p:nvPr/>
              </p:nvSpPr>
              <p:spPr>
                <a:xfrm>
                  <a:off x="654120" y="5008680"/>
                  <a:ext cx="2225520" cy="660240"/>
                </a:xfrm>
                <a:prstGeom prst="rect">
                  <a:avLst/>
                </a:prstGeom>
              </p:spPr>
              <p:txBody>
                <a:bodyPr wrap="none" fromWordArt="1" lIns="87480" rIns="87480" tIns="43560" bIns="43560" anchor="ctr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Informationspflicht</a:t>
                  </a:r>
                  <a:endPara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042920" y="5877000"/>
                  <a:ext cx="137340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061080" y="5373720"/>
                  <a:ext cx="851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2800" spc="-1" strike="noStrike">
                      <a:solidFill>
                        <a:srgbClr val="6699ff"/>
                      </a:solidFill>
                      <a:latin typeface="Times New Roman"/>
                    </a:rPr>
                    <a:t>UIG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86" name="Logo_nebeneinander_klein" descr=""/>
            <p:cNvPicPr/>
            <p:nvPr/>
          </p:nvPicPr>
          <p:blipFill>
            <a:blip r:embed="rId2"/>
            <a:stretch/>
          </p:blipFill>
          <p:spPr>
            <a:xfrm>
              <a:off x="1371600" y="5867280"/>
              <a:ext cx="8636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284720" y="84240"/>
            <a:ext cx="1946160" cy="6164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2600" y="333360"/>
            <a:ext cx="2778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Datenstrom, Lizenzvergab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Kartendiens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84720" y="5805360"/>
            <a:ext cx="199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Jeweils temporäre Daten sow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aten von lokaler Bedeut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72080" y="169920"/>
            <a:ext cx="952560" cy="5562720"/>
            <a:chOff x="4672080" y="169920"/>
            <a:chExt cx="952560" cy="5562720"/>
          </a:xfrm>
        </p:grpSpPr>
        <p:sp>
          <p:nvSpPr>
            <p:cNvPr id="391" name=""/>
            <p:cNvSpPr/>
            <p:nvPr/>
          </p:nvSpPr>
          <p:spPr>
            <a:xfrm>
              <a:off x="4697640" y="519912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BR-Elb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72080" y="169920"/>
              <a:ext cx="9525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97640" y="1008360"/>
              <a:ext cx="9144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GA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97640" y="1846440"/>
              <a:ext cx="914400" cy="533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97640" y="2684520"/>
              <a:ext cx="914400" cy="5335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M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97640" y="3522960"/>
              <a:ext cx="9144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Wat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97640" y="436104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Har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726080" y="262080"/>
            <a:ext cx="857160" cy="2862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NLWK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9600" y="0"/>
            <a:ext cx="357660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„</a:t>
            </a: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GDI- Umweltverwaltun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611680" y="160200"/>
            <a:ext cx="3362400" cy="5524560"/>
            <a:chOff x="5611680" y="160200"/>
            <a:chExt cx="3362400" cy="5524560"/>
          </a:xfrm>
        </p:grpSpPr>
        <p:grpSp>
          <p:nvGrpSpPr>
            <p:cNvPr id="401" name=""/>
            <p:cNvGrpSpPr/>
            <p:nvPr/>
          </p:nvGrpSpPr>
          <p:grpSpPr>
            <a:xfrm>
              <a:off x="5687640" y="160200"/>
              <a:ext cx="3286440" cy="5524560"/>
              <a:chOff x="5687640" y="160200"/>
              <a:chExt cx="3286440" cy="552456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5687640" y="160200"/>
                <a:ext cx="3286440" cy="5524560"/>
                <a:chOff x="5687640" y="160200"/>
                <a:chExt cx="3286440" cy="552456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155000" y="160200"/>
                  <a:ext cx="1819080" cy="362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480" rIns="87480" tIns="43920" bIns="43920" anchor="ctr">
                  <a:noAutofit/>
                </a:bodyPr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192800" y="617400"/>
                  <a:ext cx="1724040" cy="2616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7480" rIns="87480" tIns="43920" bIns="43920" anchor="t">
                  <a:spAutoFit/>
                </a:bodyPr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Geo-Datenser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-Abgeschlossene                             </a:t>
                  </a:r>
                  <a:r>
                    <a:rPr b="0" lang="de-DE" sz="1300" spc="-1" strike="noStrike">
                      <a:solidFill>
                        <a:srgbClr val="00cc99"/>
                      </a:solidFill>
                      <a:latin typeface="Times New Roman"/>
                    </a:rPr>
                    <a:t>...... 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Arbeitsergebniss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-Datenaustausch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Landes-Intranet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300" spc="-1" strike="noStrike">
                      <a:solidFill>
                        <a:srgbClr val="3333cc"/>
                      </a:solidFill>
                      <a:latin typeface="Times New Roman"/>
                    </a:rPr>
                    <a:t>-Geo-Basisdaten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-"/>
                    <a:tabLst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ALK (?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-"/>
                    <a:tabLst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000" spc="-1" strike="noStrike">
                      <a:solidFill>
                        <a:srgbClr val="ff3300"/>
                      </a:solidFill>
                      <a:latin typeface="Times New Roman"/>
                    </a:rPr>
                    <a:t>filebasiert / zukünftig auch SDE(Geodatenbank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5687640" y="588960"/>
                  <a:ext cx="3238560" cy="5095800"/>
                  <a:chOff x="5687640" y="588960"/>
                  <a:chExt cx="3238560" cy="50958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7202520" y="3198960"/>
                    <a:ext cx="1723680" cy="537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66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252920" y="3300480"/>
                    <a:ext cx="1511280" cy="286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87480" rIns="87480" tIns="43920" bIns="43920" anchor="t">
                    <a:spAutoFit/>
                  </a:bodyPr>
                  <a:p>
                    <a:pPr>
                      <a:tabLst>
                        <a:tab algn="l" pos="0"/>
                        <a:tab algn="l" pos="876240"/>
                        <a:tab algn="l" pos="1752480"/>
                        <a:tab algn="l" pos="2629080"/>
                        <a:tab algn="l" pos="3505320"/>
                        <a:tab algn="l" pos="4381560"/>
                        <a:tab algn="l" pos="5257800"/>
                        <a:tab algn="l" pos="6134040"/>
                        <a:tab algn="l" pos="7010280"/>
                        <a:tab algn="l" pos="7886880"/>
                        <a:tab algn="l" pos="8763120"/>
                        <a:tab algn="l" pos="9639360"/>
                        <a:tab algn="l" pos="10515600"/>
                      </a:tabLst>
                    </a:pPr>
                    <a:r>
                      <a:rPr b="1" lang="de-DE" sz="1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zenz- Server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5687640" y="588960"/>
                    <a:ext cx="1503720" cy="5095800"/>
                    <a:chOff x="5687640" y="588960"/>
                    <a:chExt cx="1503720" cy="5095800"/>
                  </a:xfrm>
                </p:grpSpPr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5945040" y="588960"/>
                      <a:ext cx="0" cy="50864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 flipV="1">
                      <a:off x="5935320" y="3627360"/>
                      <a:ext cx="1256040" cy="64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flipH="1">
                      <a:off x="5708520" y="598320"/>
                      <a:ext cx="239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flipH="1">
                      <a:off x="5702040" y="143676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 flipH="1">
                      <a:off x="5702040" y="2281320"/>
                      <a:ext cx="2534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flipH="1">
                      <a:off x="5708520" y="3094200"/>
                      <a:ext cx="246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flipH="1">
                      <a:off x="5702040" y="568476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flipH="1">
                      <a:off x="5702040" y="478944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>
                      <a:off x="5687640" y="3951360"/>
                      <a:ext cx="2538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18" name=""/>
              <p:cNvSpPr/>
              <p:nvPr/>
            </p:nvSpPr>
            <p:spPr>
              <a:xfrm>
                <a:off x="8458560" y="260280"/>
                <a:ext cx="447120" cy="2707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3920" bIns="43920" anchor="t">
                <a:spAutoFit/>
              </a:bodyPr>
              <a:p>
                <a:pPr>
                  <a:tabLst>
                    <a:tab algn="l" pos="0"/>
                    <a:tab algn="l" pos="876240"/>
                    <a:tab algn="l" pos="1752480"/>
                    <a:tab algn="l" pos="2629080"/>
                    <a:tab algn="l" pos="3505320"/>
                    <a:tab algn="l" pos="4381560"/>
                    <a:tab algn="l" pos="5257800"/>
                    <a:tab algn="l" pos="6134040"/>
                    <a:tab algn="l" pos="7010280"/>
                    <a:tab algn="l" pos="7886880"/>
                    <a:tab algn="l" pos="8763120"/>
                    <a:tab algn="l" pos="9639360"/>
                    <a:tab algn="l" pos="105156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IZ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5611680" y="760320"/>
              <a:ext cx="1618920" cy="2451240"/>
              <a:chOff x="5611680" y="760320"/>
              <a:chExt cx="1618920" cy="2451240"/>
            </a:xfrm>
          </p:grpSpPr>
          <p:sp>
            <p:nvSpPr>
              <p:cNvPr id="420" name=""/>
              <p:cNvSpPr/>
              <p:nvPr/>
            </p:nvSpPr>
            <p:spPr>
              <a:xfrm>
                <a:off x="5611680" y="3211560"/>
                <a:ext cx="1361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6972840" y="760320"/>
                <a:ext cx="0" cy="244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963840" y="779400"/>
                <a:ext cx="26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288840" y="2925720"/>
                <a:ext cx="640440" cy="27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3920" bIns="43920" anchor="t">
                <a:spAutoFit/>
              </a:bodyPr>
              <a:p>
                <a:pPr>
                  <a:tabLst>
                    <a:tab algn="l" pos="0"/>
                    <a:tab algn="l" pos="876240"/>
                    <a:tab algn="l" pos="1752480"/>
                    <a:tab algn="l" pos="2629080"/>
                    <a:tab algn="l" pos="3505320"/>
                    <a:tab algn="l" pos="4381560"/>
                    <a:tab algn="l" pos="5257800"/>
                    <a:tab algn="l" pos="6134040"/>
                    <a:tab algn="l" pos="7010280"/>
                    <a:tab algn="l" pos="7886880"/>
                    <a:tab algn="l" pos="8763120"/>
                    <a:tab algn="l" pos="9639360"/>
                    <a:tab algn="l" pos="105156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betreib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5601960" y="417600"/>
            <a:ext cx="1553040" cy="5095800"/>
            <a:chOff x="5601960" y="417600"/>
            <a:chExt cx="1553040" cy="5095800"/>
          </a:xfrm>
        </p:grpSpPr>
        <p:grpSp>
          <p:nvGrpSpPr>
            <p:cNvPr id="425" name=""/>
            <p:cNvGrpSpPr/>
            <p:nvPr/>
          </p:nvGrpSpPr>
          <p:grpSpPr>
            <a:xfrm>
              <a:off x="5601960" y="417600"/>
              <a:ext cx="1553040" cy="5095800"/>
              <a:chOff x="5601960" y="417600"/>
              <a:chExt cx="1553040" cy="5095800"/>
            </a:xfrm>
          </p:grpSpPr>
          <p:sp>
            <p:nvSpPr>
              <p:cNvPr id="426" name=""/>
              <p:cNvSpPr/>
              <p:nvPr/>
            </p:nvSpPr>
            <p:spPr>
              <a:xfrm>
                <a:off x="5840640" y="417600"/>
                <a:ext cx="0" cy="5086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30920" y="1519200"/>
                <a:ext cx="1324080" cy="12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5621040" y="426960"/>
                <a:ext cx="2221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5614560" y="12654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5614560" y="2109600"/>
                <a:ext cx="235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5621040" y="292248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5614560" y="55134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5614560" y="461808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5601960" y="3780000"/>
                <a:ext cx="235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6291360" y="1243080"/>
              <a:ext cx="5688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920" bIns="439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24000" y="2133720"/>
            <a:ext cx="4403520" cy="2674800"/>
            <a:chOff x="324000" y="2133720"/>
            <a:chExt cx="4403520" cy="2674800"/>
          </a:xfrm>
        </p:grpSpPr>
        <p:sp>
          <p:nvSpPr>
            <p:cNvPr id="437" name=""/>
            <p:cNvSpPr/>
            <p:nvPr/>
          </p:nvSpPr>
          <p:spPr>
            <a:xfrm>
              <a:off x="324000" y="2133720"/>
              <a:ext cx="2735280" cy="2674800"/>
            </a:xfrm>
            <a:prstGeom prst="downArrowCallout">
              <a:avLst>
                <a:gd name="adj1" fmla="val 25568"/>
                <a:gd name="adj2" fmla="val 2556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00000" y="3357720"/>
              <a:ext cx="185760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Map-Server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00720" y="321300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00720" y="3213000"/>
              <a:ext cx="22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771280" y="3645000"/>
              <a:ext cx="172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32000" y="3357720"/>
              <a:ext cx="9684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betrei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7280" y="3573360"/>
              <a:ext cx="447120" cy="2707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920" bIns="439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IZ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17520" y="1052640"/>
            <a:ext cx="4410000" cy="1655640"/>
            <a:chOff x="317520" y="1052640"/>
            <a:chExt cx="4410000" cy="1655640"/>
          </a:xfrm>
        </p:grpSpPr>
        <p:sp>
          <p:nvSpPr>
            <p:cNvPr id="445" name=""/>
            <p:cNvSpPr/>
            <p:nvPr/>
          </p:nvSpPr>
          <p:spPr>
            <a:xfrm>
              <a:off x="4427640" y="1557360"/>
              <a:ext cx="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27640" y="2708280"/>
              <a:ext cx="29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7520" y="1052640"/>
              <a:ext cx="2832480" cy="703440"/>
            </a:xfrm>
            <a:prstGeom prst="rect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Downloads von Geo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Times New Roman"/>
                </a:rPr>
                <a:t>www.umwelt.niedersachsen.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www.mu.niedersachsen.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700360" y="155736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395280" y="2205000"/>
            <a:ext cx="3889080" cy="1125360"/>
            <a:chOff x="395280" y="2205000"/>
            <a:chExt cx="3889080" cy="1125360"/>
          </a:xfrm>
        </p:grpSpPr>
        <p:sp>
          <p:nvSpPr>
            <p:cNvPr id="450" name=""/>
            <p:cNvSpPr/>
            <p:nvPr/>
          </p:nvSpPr>
          <p:spPr>
            <a:xfrm>
              <a:off x="395280" y="2205000"/>
              <a:ext cx="3889080" cy="1125360"/>
            </a:xfrm>
            <a:prstGeom prst="rightArrowCallout">
              <a:avLst>
                <a:gd name="adj1" fmla="val 25002"/>
                <a:gd name="adj2" fmla="val 25000"/>
                <a:gd name="adj3" fmla="val 57598"/>
                <a:gd name="adj4" fmla="val 6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6800" y="2205000"/>
              <a:ext cx="1665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Kartendiens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11560" y="2609640"/>
              <a:ext cx="1053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..über Intern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8600" y="2609640"/>
              <a:ext cx="125028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Times New Roman"/>
                </a:rPr>
                <a:t>Fertige, </a:t>
              </a:r>
              <a:r>
                <a:rPr b="0" lang="de-DE" sz="11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inheitlich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Times New Roman"/>
                </a:rPr>
                <a:t>Fachkarten zur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Times New Roman"/>
                </a:rPr>
                <a:t>Nutzung dur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1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e</a:t>
              </a:r>
              <a:r>
                <a:rPr b="0" lang="de-DE" sz="1100" spc="-1" strike="noStrike">
                  <a:solidFill>
                    <a:srgbClr val="000000"/>
                  </a:solidFill>
                  <a:latin typeface="Times New Roman"/>
                </a:rPr>
                <a:t> Fachbehörd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47640" y="5008680"/>
            <a:ext cx="3264840" cy="1257120"/>
            <a:chOff x="647640" y="5008680"/>
            <a:chExt cx="3264840" cy="1257120"/>
          </a:xfrm>
        </p:grpSpPr>
        <p:grpSp>
          <p:nvGrpSpPr>
            <p:cNvPr id="455" name=""/>
            <p:cNvGrpSpPr/>
            <p:nvPr/>
          </p:nvGrpSpPr>
          <p:grpSpPr>
            <a:xfrm>
              <a:off x="647640" y="5008680"/>
              <a:ext cx="3264840" cy="1257120"/>
              <a:chOff x="647640" y="5008680"/>
              <a:chExt cx="3264840" cy="1257120"/>
            </a:xfrm>
          </p:grpSpPr>
          <p:sp>
            <p:nvSpPr>
              <p:cNvPr id="456" name=""/>
              <p:cNvSpPr/>
              <p:nvPr/>
            </p:nvSpPr>
            <p:spPr>
              <a:xfrm>
                <a:off x="647640" y="5132520"/>
                <a:ext cx="2266920" cy="1133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7" name=""/>
              <p:cNvGrpSpPr/>
              <p:nvPr/>
            </p:nvGrpSpPr>
            <p:grpSpPr>
              <a:xfrm>
                <a:off x="654120" y="5008680"/>
                <a:ext cx="3258360" cy="1172880"/>
                <a:chOff x="654120" y="5008680"/>
                <a:chExt cx="3258360" cy="117288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665280" y="5103720"/>
                  <a:ext cx="2225520" cy="733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480" rIns="87480" tIns="43920" bIns="43920" anchor="ctr">
                  <a:noAutofit/>
                </a:bodyPr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Interne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Intranet des Land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digitaler Umweltberich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 txBox="1"/>
                <p:nvPr/>
              </p:nvSpPr>
              <p:spPr>
                <a:xfrm>
                  <a:off x="654120" y="5008680"/>
                  <a:ext cx="2225520" cy="660240"/>
                </a:xfrm>
                <a:prstGeom prst="rect">
                  <a:avLst/>
                </a:prstGeom>
              </p:spPr>
              <p:txBody>
                <a:bodyPr wrap="none" fromWordArt="1" lIns="87480" rIns="87480" tIns="43560" bIns="43560" anchor="ctr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Informationspflicht</a:t>
                  </a:r>
                  <a:endPara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042920" y="5877000"/>
                  <a:ext cx="137340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061080" y="5373720"/>
                  <a:ext cx="851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2800" spc="-1" strike="noStrike">
                      <a:solidFill>
                        <a:srgbClr val="6699ff"/>
                      </a:solidFill>
                      <a:latin typeface="Times New Roman"/>
                    </a:rPr>
                    <a:t>UIG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462" name="Logo_nebeneinander_klein" descr=""/>
            <p:cNvPicPr/>
            <p:nvPr/>
          </p:nvPicPr>
          <p:blipFill>
            <a:blip r:embed="rId2"/>
            <a:stretch/>
          </p:blipFill>
          <p:spPr>
            <a:xfrm>
              <a:off x="1371600" y="5867280"/>
              <a:ext cx="8636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284720" y="84240"/>
            <a:ext cx="1946160" cy="6164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62600" y="333360"/>
            <a:ext cx="2778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Datenstrom, Lizenzvergab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Kartendiens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284720" y="5805360"/>
            <a:ext cx="199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Jeweils temporäre Daten sow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aten von lokaler Bedeut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672080" y="169920"/>
            <a:ext cx="952560" cy="5562720"/>
            <a:chOff x="4672080" y="169920"/>
            <a:chExt cx="952560" cy="5562720"/>
          </a:xfrm>
        </p:grpSpPr>
        <p:sp>
          <p:nvSpPr>
            <p:cNvPr id="467" name=""/>
            <p:cNvSpPr/>
            <p:nvPr/>
          </p:nvSpPr>
          <p:spPr>
            <a:xfrm>
              <a:off x="4697640" y="519912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BR-Elb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72080" y="169920"/>
              <a:ext cx="9525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697640" y="1008360"/>
              <a:ext cx="9144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GA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97640" y="1846440"/>
              <a:ext cx="914400" cy="533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97640" y="2684520"/>
              <a:ext cx="914400" cy="5335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M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97640" y="3522960"/>
              <a:ext cx="9144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Wat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97640" y="436104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Har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726080" y="262080"/>
            <a:ext cx="857160" cy="2862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NLWK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9600" y="0"/>
            <a:ext cx="357660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„</a:t>
            </a: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GDI- Umweltverwaltun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5611680" y="160200"/>
            <a:ext cx="3362400" cy="5524560"/>
            <a:chOff x="5611680" y="160200"/>
            <a:chExt cx="3362400" cy="5524560"/>
          </a:xfrm>
        </p:grpSpPr>
        <p:grpSp>
          <p:nvGrpSpPr>
            <p:cNvPr id="477" name=""/>
            <p:cNvGrpSpPr/>
            <p:nvPr/>
          </p:nvGrpSpPr>
          <p:grpSpPr>
            <a:xfrm>
              <a:off x="5687640" y="160200"/>
              <a:ext cx="3286440" cy="5524560"/>
              <a:chOff x="5687640" y="160200"/>
              <a:chExt cx="3286440" cy="552456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5687640" y="160200"/>
                <a:ext cx="3286440" cy="5524560"/>
                <a:chOff x="5687640" y="160200"/>
                <a:chExt cx="3286440" cy="552456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7155000" y="160200"/>
                  <a:ext cx="1819080" cy="362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480" rIns="87480" tIns="43920" bIns="43920" anchor="ctr">
                  <a:noAutofit/>
                </a:bodyPr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192800" y="617400"/>
                  <a:ext cx="1724040" cy="2616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7480" rIns="87480" tIns="43920" bIns="43920" anchor="t">
                  <a:spAutoFit/>
                </a:bodyPr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Geo-Datenser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-Abgeschlossene                             </a:t>
                  </a:r>
                  <a:r>
                    <a:rPr b="0" lang="de-DE" sz="1300" spc="-1" strike="noStrike">
                      <a:solidFill>
                        <a:srgbClr val="00cc99"/>
                      </a:solidFill>
                      <a:latin typeface="Times New Roman"/>
                    </a:rPr>
                    <a:t>...... 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Arbeitsergebniss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-Datenaustausch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Landes-Intranet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300" spc="-1" strike="noStrike">
                      <a:solidFill>
                        <a:srgbClr val="3333cc"/>
                      </a:solidFill>
                      <a:latin typeface="Times New Roman"/>
                    </a:rPr>
                    <a:t>-Geo-Basisdaten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-"/>
                    <a:tabLst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ALK (?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-"/>
                    <a:tabLst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000" spc="-1" strike="noStrike">
                      <a:solidFill>
                        <a:srgbClr val="ff3300"/>
                      </a:solidFill>
                      <a:latin typeface="Times New Roman"/>
                    </a:rPr>
                    <a:t>filebasiert / zukünftig auch SDE(Geodatenbank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1" name=""/>
                <p:cNvGrpSpPr/>
                <p:nvPr/>
              </p:nvGrpSpPr>
              <p:grpSpPr>
                <a:xfrm>
                  <a:off x="5687640" y="588960"/>
                  <a:ext cx="3238560" cy="5095800"/>
                  <a:chOff x="5687640" y="588960"/>
                  <a:chExt cx="3238560" cy="509580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>
                    <a:off x="7202520" y="3198960"/>
                    <a:ext cx="1723680" cy="537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66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252920" y="3300480"/>
                    <a:ext cx="1511280" cy="286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87480" rIns="87480" tIns="43920" bIns="43920" anchor="t">
                    <a:spAutoFit/>
                  </a:bodyPr>
                  <a:p>
                    <a:pPr>
                      <a:tabLst>
                        <a:tab algn="l" pos="0"/>
                        <a:tab algn="l" pos="876240"/>
                        <a:tab algn="l" pos="1752480"/>
                        <a:tab algn="l" pos="2629080"/>
                        <a:tab algn="l" pos="3505320"/>
                        <a:tab algn="l" pos="4381560"/>
                        <a:tab algn="l" pos="5257800"/>
                        <a:tab algn="l" pos="6134040"/>
                        <a:tab algn="l" pos="7010280"/>
                        <a:tab algn="l" pos="7886880"/>
                        <a:tab algn="l" pos="8763120"/>
                        <a:tab algn="l" pos="9639360"/>
                        <a:tab algn="l" pos="10515600"/>
                      </a:tabLst>
                    </a:pPr>
                    <a:r>
                      <a:rPr b="1" lang="de-DE" sz="1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zenz- Server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5687640" y="588960"/>
                    <a:ext cx="1503720" cy="5095800"/>
                    <a:chOff x="5687640" y="588960"/>
                    <a:chExt cx="1503720" cy="509580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5945040" y="588960"/>
                      <a:ext cx="0" cy="50864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flipV="1">
                      <a:off x="5935320" y="3627360"/>
                      <a:ext cx="1256040" cy="64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H="1">
                      <a:off x="5708520" y="598320"/>
                      <a:ext cx="239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flipH="1">
                      <a:off x="5702040" y="143676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flipH="1">
                      <a:off x="5702040" y="2281320"/>
                      <a:ext cx="2534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flipH="1">
                      <a:off x="5708520" y="3094200"/>
                      <a:ext cx="246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flipH="1">
                      <a:off x="5702040" y="568476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flipH="1">
                      <a:off x="5702040" y="478944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flipH="1">
                      <a:off x="5687640" y="3951360"/>
                      <a:ext cx="2538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94" name=""/>
              <p:cNvSpPr/>
              <p:nvPr/>
            </p:nvSpPr>
            <p:spPr>
              <a:xfrm>
                <a:off x="8458560" y="260280"/>
                <a:ext cx="447120" cy="2707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3920" bIns="43920" anchor="t">
                <a:spAutoFit/>
              </a:bodyPr>
              <a:p>
                <a:pPr>
                  <a:tabLst>
                    <a:tab algn="l" pos="0"/>
                    <a:tab algn="l" pos="876240"/>
                    <a:tab algn="l" pos="1752480"/>
                    <a:tab algn="l" pos="2629080"/>
                    <a:tab algn="l" pos="3505320"/>
                    <a:tab algn="l" pos="4381560"/>
                    <a:tab algn="l" pos="5257800"/>
                    <a:tab algn="l" pos="6134040"/>
                    <a:tab algn="l" pos="7010280"/>
                    <a:tab algn="l" pos="7886880"/>
                    <a:tab algn="l" pos="8763120"/>
                    <a:tab algn="l" pos="9639360"/>
                    <a:tab algn="l" pos="105156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IZ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5611680" y="760320"/>
              <a:ext cx="1618920" cy="2451240"/>
              <a:chOff x="5611680" y="760320"/>
              <a:chExt cx="1618920" cy="2451240"/>
            </a:xfrm>
          </p:grpSpPr>
          <p:sp>
            <p:nvSpPr>
              <p:cNvPr id="496" name=""/>
              <p:cNvSpPr/>
              <p:nvPr/>
            </p:nvSpPr>
            <p:spPr>
              <a:xfrm>
                <a:off x="5611680" y="3211560"/>
                <a:ext cx="1361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972840" y="760320"/>
                <a:ext cx="0" cy="244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963840" y="779400"/>
                <a:ext cx="26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288840" y="2925720"/>
                <a:ext cx="640440" cy="27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3920" bIns="43920" anchor="t">
                <a:spAutoFit/>
              </a:bodyPr>
              <a:p>
                <a:pPr>
                  <a:tabLst>
                    <a:tab algn="l" pos="0"/>
                    <a:tab algn="l" pos="876240"/>
                    <a:tab algn="l" pos="1752480"/>
                    <a:tab algn="l" pos="2629080"/>
                    <a:tab algn="l" pos="3505320"/>
                    <a:tab algn="l" pos="4381560"/>
                    <a:tab algn="l" pos="5257800"/>
                    <a:tab algn="l" pos="6134040"/>
                    <a:tab algn="l" pos="7010280"/>
                    <a:tab algn="l" pos="7886880"/>
                    <a:tab algn="l" pos="8763120"/>
                    <a:tab algn="l" pos="9639360"/>
                    <a:tab algn="l" pos="105156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betreib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0" name=""/>
          <p:cNvGrpSpPr/>
          <p:nvPr/>
        </p:nvGrpSpPr>
        <p:grpSpPr>
          <a:xfrm>
            <a:off x="5601960" y="417600"/>
            <a:ext cx="1553040" cy="5095800"/>
            <a:chOff x="5601960" y="417600"/>
            <a:chExt cx="1553040" cy="5095800"/>
          </a:xfrm>
        </p:grpSpPr>
        <p:grpSp>
          <p:nvGrpSpPr>
            <p:cNvPr id="501" name=""/>
            <p:cNvGrpSpPr/>
            <p:nvPr/>
          </p:nvGrpSpPr>
          <p:grpSpPr>
            <a:xfrm>
              <a:off x="5601960" y="417600"/>
              <a:ext cx="1553040" cy="5095800"/>
              <a:chOff x="5601960" y="417600"/>
              <a:chExt cx="1553040" cy="5095800"/>
            </a:xfrm>
          </p:grpSpPr>
          <p:sp>
            <p:nvSpPr>
              <p:cNvPr id="502" name=""/>
              <p:cNvSpPr/>
              <p:nvPr/>
            </p:nvSpPr>
            <p:spPr>
              <a:xfrm>
                <a:off x="5840640" y="417600"/>
                <a:ext cx="0" cy="5086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30920" y="1519200"/>
                <a:ext cx="1324080" cy="12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5621040" y="426960"/>
                <a:ext cx="2221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5614560" y="12654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5614560" y="2109600"/>
                <a:ext cx="235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5621040" y="292248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5614560" y="55134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5614560" y="461808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5601960" y="3780000"/>
                <a:ext cx="235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6291360" y="1243080"/>
              <a:ext cx="5688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920" bIns="439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24000" y="2133720"/>
            <a:ext cx="4403520" cy="2674800"/>
            <a:chOff x="324000" y="2133720"/>
            <a:chExt cx="4403520" cy="2674800"/>
          </a:xfrm>
        </p:grpSpPr>
        <p:sp>
          <p:nvSpPr>
            <p:cNvPr id="513" name=""/>
            <p:cNvSpPr/>
            <p:nvPr/>
          </p:nvSpPr>
          <p:spPr>
            <a:xfrm>
              <a:off x="324000" y="2133720"/>
              <a:ext cx="2735280" cy="2674800"/>
            </a:xfrm>
            <a:prstGeom prst="downArrowCallout">
              <a:avLst>
                <a:gd name="adj1" fmla="val 25568"/>
                <a:gd name="adj2" fmla="val 2556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00000" y="3357720"/>
              <a:ext cx="185760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Map-Server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00720" y="321300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00720" y="3213000"/>
              <a:ext cx="22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2771280" y="3645000"/>
              <a:ext cx="172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32000" y="3357720"/>
              <a:ext cx="9684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betrei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7280" y="3573360"/>
              <a:ext cx="447120" cy="2707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920" bIns="439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IZ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317520" y="1052640"/>
            <a:ext cx="4410000" cy="1655640"/>
            <a:chOff x="317520" y="1052640"/>
            <a:chExt cx="4410000" cy="1655640"/>
          </a:xfrm>
        </p:grpSpPr>
        <p:sp>
          <p:nvSpPr>
            <p:cNvPr id="521" name=""/>
            <p:cNvSpPr/>
            <p:nvPr/>
          </p:nvSpPr>
          <p:spPr>
            <a:xfrm>
              <a:off x="4427640" y="1557360"/>
              <a:ext cx="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27640" y="2708280"/>
              <a:ext cx="29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7520" y="1052640"/>
              <a:ext cx="2832480" cy="703440"/>
            </a:xfrm>
            <a:prstGeom prst="rect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Downloads von Geo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Times New Roman"/>
                </a:rPr>
                <a:t>www.umwelt.niedersachsen.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www.mu.niedersachsen.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2700360" y="155736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395280" y="2205000"/>
            <a:ext cx="3889080" cy="1125360"/>
            <a:chOff x="395280" y="2205000"/>
            <a:chExt cx="3889080" cy="1125360"/>
          </a:xfrm>
        </p:grpSpPr>
        <p:sp>
          <p:nvSpPr>
            <p:cNvPr id="526" name=""/>
            <p:cNvSpPr/>
            <p:nvPr/>
          </p:nvSpPr>
          <p:spPr>
            <a:xfrm>
              <a:off x="395280" y="2205000"/>
              <a:ext cx="3889080" cy="1125360"/>
            </a:xfrm>
            <a:prstGeom prst="rightArrowCallout">
              <a:avLst>
                <a:gd name="adj1" fmla="val 25002"/>
                <a:gd name="adj2" fmla="val 25000"/>
                <a:gd name="adj3" fmla="val 57598"/>
                <a:gd name="adj4" fmla="val 6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96800" y="2205000"/>
              <a:ext cx="1665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Kartendiens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311560" y="2609640"/>
              <a:ext cx="1053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..über Intern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8600" y="2609640"/>
              <a:ext cx="125028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Times New Roman"/>
                </a:rPr>
                <a:t>Fertige, </a:t>
              </a:r>
              <a:r>
                <a:rPr b="0" lang="de-DE" sz="11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inheitlich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Times New Roman"/>
                </a:rPr>
                <a:t>Fachkarten zur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Times New Roman"/>
                </a:rPr>
                <a:t>Nutzung dur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1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e</a:t>
              </a:r>
              <a:r>
                <a:rPr b="0" lang="de-DE" sz="1100" spc="-1" strike="noStrike">
                  <a:solidFill>
                    <a:srgbClr val="000000"/>
                  </a:solidFill>
                  <a:latin typeface="Times New Roman"/>
                </a:rPr>
                <a:t> Fachbehörd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276960" y="2209320"/>
            <a:ext cx="2743200" cy="4040640"/>
            <a:chOff x="6276960" y="2209320"/>
            <a:chExt cx="2743200" cy="4040640"/>
          </a:xfrm>
        </p:grpSpPr>
        <p:sp>
          <p:nvSpPr>
            <p:cNvPr id="531" name=""/>
            <p:cNvSpPr/>
            <p:nvPr/>
          </p:nvSpPr>
          <p:spPr>
            <a:xfrm>
              <a:off x="6276960" y="3903840"/>
              <a:ext cx="2743200" cy="2346120"/>
            </a:xfrm>
            <a:prstGeom prst="leftArrowCallout">
              <a:avLst>
                <a:gd name="adj1" fmla="val 25002"/>
                <a:gd name="adj2" fmla="val 25000"/>
                <a:gd name="adj3" fmla="val 19487"/>
                <a:gd name="adj4" fmla="val 6667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3720" rIns="243720" tIns="121680" bIns="12168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763120" y="2209680"/>
              <a:ext cx="0" cy="2027520"/>
            </a:xfrm>
            <a:prstGeom prst="line">
              <a:avLst/>
            </a:prstGeom>
            <a:ln w="28440">
              <a:solidFill>
                <a:srgbClr val="66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8320" rIns="328320" tIns="164160" bIns="164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8686800" y="4191120"/>
              <a:ext cx="85680" cy="2286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28320" rIns="328320" tIns="64440" bIns="64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flipV="1">
              <a:off x="8458200" y="2209320"/>
              <a:ext cx="339840" cy="324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28320" rIns="328320" tIns="-160920" bIns="-160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44880" y="4929120"/>
              <a:ext cx="103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..üb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6" name="" descr=""/>
            <p:cNvPicPr/>
            <p:nvPr/>
          </p:nvPicPr>
          <p:blipFill>
            <a:blip r:embed="rId2"/>
            <a:stretch/>
          </p:blipFill>
          <p:spPr>
            <a:xfrm>
              <a:off x="7543800" y="5334120"/>
              <a:ext cx="122724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7391520" y="419112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VKV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map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47640" y="5008680"/>
            <a:ext cx="3264840" cy="1257120"/>
            <a:chOff x="647640" y="5008680"/>
            <a:chExt cx="3264840" cy="1257120"/>
          </a:xfrm>
        </p:grpSpPr>
        <p:grpSp>
          <p:nvGrpSpPr>
            <p:cNvPr id="539" name=""/>
            <p:cNvGrpSpPr/>
            <p:nvPr/>
          </p:nvGrpSpPr>
          <p:grpSpPr>
            <a:xfrm>
              <a:off x="647640" y="5008680"/>
              <a:ext cx="3264840" cy="1257120"/>
              <a:chOff x="647640" y="5008680"/>
              <a:chExt cx="3264840" cy="1257120"/>
            </a:xfrm>
          </p:grpSpPr>
          <p:sp>
            <p:nvSpPr>
              <p:cNvPr id="540" name=""/>
              <p:cNvSpPr/>
              <p:nvPr/>
            </p:nvSpPr>
            <p:spPr>
              <a:xfrm>
                <a:off x="647640" y="5132520"/>
                <a:ext cx="2266920" cy="1133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1" name=""/>
              <p:cNvGrpSpPr/>
              <p:nvPr/>
            </p:nvGrpSpPr>
            <p:grpSpPr>
              <a:xfrm>
                <a:off x="654120" y="5008680"/>
                <a:ext cx="3258360" cy="1172880"/>
                <a:chOff x="654120" y="5008680"/>
                <a:chExt cx="3258360" cy="11728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665280" y="5103720"/>
                  <a:ext cx="2225520" cy="733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480" rIns="87480" tIns="43920" bIns="43920" anchor="ctr">
                  <a:noAutofit/>
                </a:bodyPr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Interne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Intranet des Land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digitaler Umweltberich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 txBox="1"/>
                <p:nvPr/>
              </p:nvSpPr>
              <p:spPr>
                <a:xfrm>
                  <a:off x="654120" y="5008680"/>
                  <a:ext cx="2225520" cy="660240"/>
                </a:xfrm>
                <a:prstGeom prst="rect">
                  <a:avLst/>
                </a:prstGeom>
              </p:spPr>
              <p:txBody>
                <a:bodyPr wrap="none" fromWordArt="1" lIns="87480" rIns="87480" tIns="43560" bIns="43560" anchor="ctr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Informationspflicht</a:t>
                  </a:r>
                  <a:endPara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1042920" y="5877000"/>
                  <a:ext cx="137340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061080" y="5373720"/>
                  <a:ext cx="851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2800" spc="-1" strike="noStrike">
                      <a:solidFill>
                        <a:srgbClr val="6699ff"/>
                      </a:solidFill>
                      <a:latin typeface="Times New Roman"/>
                    </a:rPr>
                    <a:t>UIG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546" name="Logo_nebeneinander_klein" descr=""/>
            <p:cNvPicPr/>
            <p:nvPr/>
          </p:nvPicPr>
          <p:blipFill>
            <a:blip r:embed="rId3"/>
            <a:stretch/>
          </p:blipFill>
          <p:spPr>
            <a:xfrm>
              <a:off x="1371600" y="5867280"/>
              <a:ext cx="8636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 rot="10800000">
            <a:off x="2050560" y="4005000"/>
            <a:ext cx="5257800" cy="360360"/>
          </a:xfrm>
          <a:custGeom>
            <a:avLst/>
            <a:gdLst>
              <a:gd name="textAreaLeft" fmla="*/ 821520 w 5257800"/>
              <a:gd name="textAreaRight" fmla="*/ 4600800 w 52578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6699ff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84720" y="84240"/>
            <a:ext cx="1946160" cy="6164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2600" y="333360"/>
            <a:ext cx="2778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Datenstrom, Lizenzvergab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Kartendiens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84720" y="5805360"/>
            <a:ext cx="199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Jeweils temporäre Daten sow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aten von lokaler Bedeut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4672080" y="169920"/>
            <a:ext cx="952560" cy="5562720"/>
            <a:chOff x="4672080" y="169920"/>
            <a:chExt cx="952560" cy="5562720"/>
          </a:xfrm>
        </p:grpSpPr>
        <p:sp>
          <p:nvSpPr>
            <p:cNvPr id="552" name=""/>
            <p:cNvSpPr/>
            <p:nvPr/>
          </p:nvSpPr>
          <p:spPr>
            <a:xfrm>
              <a:off x="4697640" y="519912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BR-Elb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72080" y="169920"/>
              <a:ext cx="9525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97640" y="1008360"/>
              <a:ext cx="9144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GA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97640" y="1846440"/>
              <a:ext cx="914400" cy="533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97640" y="2684520"/>
              <a:ext cx="914400" cy="5335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M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97640" y="3522960"/>
              <a:ext cx="9144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Wat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97640" y="436104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Har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4726080" y="262080"/>
            <a:ext cx="857160" cy="2862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NLWK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09600" y="0"/>
            <a:ext cx="357660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„</a:t>
            </a: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GDI- Umweltverwaltun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611680" y="160200"/>
            <a:ext cx="3362400" cy="5524560"/>
            <a:chOff x="5611680" y="160200"/>
            <a:chExt cx="3362400" cy="5524560"/>
          </a:xfrm>
        </p:grpSpPr>
        <p:grpSp>
          <p:nvGrpSpPr>
            <p:cNvPr id="562" name=""/>
            <p:cNvGrpSpPr/>
            <p:nvPr/>
          </p:nvGrpSpPr>
          <p:grpSpPr>
            <a:xfrm>
              <a:off x="5687640" y="160200"/>
              <a:ext cx="3286440" cy="5524560"/>
              <a:chOff x="5687640" y="160200"/>
              <a:chExt cx="3286440" cy="552456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5687640" y="160200"/>
                <a:ext cx="3286440" cy="5524560"/>
                <a:chOff x="5687640" y="160200"/>
                <a:chExt cx="3286440" cy="55245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155000" y="160200"/>
                  <a:ext cx="1819080" cy="362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480" rIns="87480" tIns="43920" bIns="43920" anchor="ctr">
                  <a:noAutofit/>
                </a:bodyPr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192800" y="617400"/>
                  <a:ext cx="1724040" cy="2616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7480" rIns="87480" tIns="43920" bIns="43920" anchor="t">
                  <a:spAutoFit/>
                </a:bodyPr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Geo-Datenser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-Abgeschlossene                             </a:t>
                  </a:r>
                  <a:r>
                    <a:rPr b="0" lang="de-DE" sz="1300" spc="-1" strike="noStrike">
                      <a:solidFill>
                        <a:srgbClr val="00cc99"/>
                      </a:solidFill>
                      <a:latin typeface="Times New Roman"/>
                    </a:rPr>
                    <a:t>...... 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Arbeitsergebniss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-Datenaustausch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Landes-Intranet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300" spc="-1" strike="noStrike">
                      <a:solidFill>
                        <a:srgbClr val="3333cc"/>
                      </a:solidFill>
                      <a:latin typeface="Times New Roman"/>
                    </a:rPr>
                    <a:t>-Geo-Basisdaten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-"/>
                    <a:tabLst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ALK (?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-"/>
                    <a:tabLst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000" spc="-1" strike="noStrike">
                      <a:solidFill>
                        <a:srgbClr val="ff3300"/>
                      </a:solidFill>
                      <a:latin typeface="Times New Roman"/>
                    </a:rPr>
                    <a:t>filebasiert / zukünftig auch SDE(Geodatenbank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6" name=""/>
                <p:cNvGrpSpPr/>
                <p:nvPr/>
              </p:nvGrpSpPr>
              <p:grpSpPr>
                <a:xfrm>
                  <a:off x="5687640" y="588960"/>
                  <a:ext cx="3238560" cy="5095800"/>
                  <a:chOff x="5687640" y="588960"/>
                  <a:chExt cx="3238560" cy="509580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>
                    <a:off x="7202520" y="3198960"/>
                    <a:ext cx="1723680" cy="537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66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7252920" y="3300480"/>
                    <a:ext cx="1511280" cy="286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87480" rIns="87480" tIns="43920" bIns="43920" anchor="t">
                    <a:spAutoFit/>
                  </a:bodyPr>
                  <a:p>
                    <a:pPr>
                      <a:tabLst>
                        <a:tab algn="l" pos="0"/>
                        <a:tab algn="l" pos="876240"/>
                        <a:tab algn="l" pos="1752480"/>
                        <a:tab algn="l" pos="2629080"/>
                        <a:tab algn="l" pos="3505320"/>
                        <a:tab algn="l" pos="4381560"/>
                        <a:tab algn="l" pos="5257800"/>
                        <a:tab algn="l" pos="6134040"/>
                        <a:tab algn="l" pos="7010280"/>
                        <a:tab algn="l" pos="7886880"/>
                        <a:tab algn="l" pos="8763120"/>
                        <a:tab algn="l" pos="9639360"/>
                        <a:tab algn="l" pos="10515600"/>
                      </a:tabLst>
                    </a:pPr>
                    <a:r>
                      <a:rPr b="1" lang="de-DE" sz="1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zenz- Server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5687640" y="588960"/>
                    <a:ext cx="1503720" cy="5095800"/>
                    <a:chOff x="5687640" y="588960"/>
                    <a:chExt cx="1503720" cy="509580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5945040" y="588960"/>
                      <a:ext cx="0" cy="50864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V="1">
                      <a:off x="5935320" y="3627360"/>
                      <a:ext cx="1256040" cy="64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 flipH="1">
                      <a:off x="5708520" y="598320"/>
                      <a:ext cx="239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flipH="1">
                      <a:off x="5702040" y="143676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flipH="1">
                      <a:off x="5702040" y="2281320"/>
                      <a:ext cx="2534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 flipH="1">
                      <a:off x="5708520" y="3094200"/>
                      <a:ext cx="246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flipH="1">
                      <a:off x="5702040" y="568476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flipH="1">
                      <a:off x="5702040" y="478944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 flipH="1">
                      <a:off x="5687640" y="3951360"/>
                      <a:ext cx="2538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79" name=""/>
              <p:cNvSpPr/>
              <p:nvPr/>
            </p:nvSpPr>
            <p:spPr>
              <a:xfrm>
                <a:off x="8458560" y="260280"/>
                <a:ext cx="447120" cy="2707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3920" bIns="43920" anchor="t">
                <a:spAutoFit/>
              </a:bodyPr>
              <a:p>
                <a:pPr>
                  <a:tabLst>
                    <a:tab algn="l" pos="0"/>
                    <a:tab algn="l" pos="876240"/>
                    <a:tab algn="l" pos="1752480"/>
                    <a:tab algn="l" pos="2629080"/>
                    <a:tab algn="l" pos="3505320"/>
                    <a:tab algn="l" pos="4381560"/>
                    <a:tab algn="l" pos="5257800"/>
                    <a:tab algn="l" pos="6134040"/>
                    <a:tab algn="l" pos="7010280"/>
                    <a:tab algn="l" pos="7886880"/>
                    <a:tab algn="l" pos="8763120"/>
                    <a:tab algn="l" pos="9639360"/>
                    <a:tab algn="l" pos="105156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IZ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5611680" y="760320"/>
              <a:ext cx="1618920" cy="2451240"/>
              <a:chOff x="5611680" y="760320"/>
              <a:chExt cx="1618920" cy="2451240"/>
            </a:xfrm>
          </p:grpSpPr>
          <p:sp>
            <p:nvSpPr>
              <p:cNvPr id="581" name=""/>
              <p:cNvSpPr/>
              <p:nvPr/>
            </p:nvSpPr>
            <p:spPr>
              <a:xfrm>
                <a:off x="5611680" y="3211560"/>
                <a:ext cx="1361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6972840" y="760320"/>
                <a:ext cx="0" cy="244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963840" y="779400"/>
                <a:ext cx="26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288840" y="2925720"/>
                <a:ext cx="640440" cy="27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3920" bIns="43920" anchor="t">
                <a:spAutoFit/>
              </a:bodyPr>
              <a:p>
                <a:pPr>
                  <a:tabLst>
                    <a:tab algn="l" pos="0"/>
                    <a:tab algn="l" pos="876240"/>
                    <a:tab algn="l" pos="1752480"/>
                    <a:tab algn="l" pos="2629080"/>
                    <a:tab algn="l" pos="3505320"/>
                    <a:tab algn="l" pos="4381560"/>
                    <a:tab algn="l" pos="5257800"/>
                    <a:tab algn="l" pos="6134040"/>
                    <a:tab algn="l" pos="7010280"/>
                    <a:tab algn="l" pos="7886880"/>
                    <a:tab algn="l" pos="8763120"/>
                    <a:tab algn="l" pos="9639360"/>
                    <a:tab algn="l" pos="105156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betreib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5601960" y="417600"/>
            <a:ext cx="1553040" cy="5095800"/>
            <a:chOff x="5601960" y="417600"/>
            <a:chExt cx="1553040" cy="5095800"/>
          </a:xfrm>
        </p:grpSpPr>
        <p:grpSp>
          <p:nvGrpSpPr>
            <p:cNvPr id="586" name=""/>
            <p:cNvGrpSpPr/>
            <p:nvPr/>
          </p:nvGrpSpPr>
          <p:grpSpPr>
            <a:xfrm>
              <a:off x="5601960" y="417600"/>
              <a:ext cx="1553040" cy="5095800"/>
              <a:chOff x="5601960" y="417600"/>
              <a:chExt cx="1553040" cy="5095800"/>
            </a:xfrm>
          </p:grpSpPr>
          <p:sp>
            <p:nvSpPr>
              <p:cNvPr id="587" name=""/>
              <p:cNvSpPr/>
              <p:nvPr/>
            </p:nvSpPr>
            <p:spPr>
              <a:xfrm>
                <a:off x="5840640" y="417600"/>
                <a:ext cx="0" cy="5086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830920" y="1519200"/>
                <a:ext cx="1324080" cy="12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5621040" y="426960"/>
                <a:ext cx="2221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5614560" y="12654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5614560" y="2109600"/>
                <a:ext cx="235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621040" y="292248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5614560" y="55134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614560" y="461808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5601960" y="3780000"/>
                <a:ext cx="235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6291360" y="1243080"/>
              <a:ext cx="5688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920" bIns="439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324000" y="2133720"/>
            <a:ext cx="4403520" cy="2674800"/>
            <a:chOff x="324000" y="2133720"/>
            <a:chExt cx="4403520" cy="2674800"/>
          </a:xfrm>
        </p:grpSpPr>
        <p:sp>
          <p:nvSpPr>
            <p:cNvPr id="598" name=""/>
            <p:cNvSpPr/>
            <p:nvPr/>
          </p:nvSpPr>
          <p:spPr>
            <a:xfrm>
              <a:off x="324000" y="2133720"/>
              <a:ext cx="2735280" cy="2674800"/>
            </a:xfrm>
            <a:prstGeom prst="downArrowCallout">
              <a:avLst>
                <a:gd name="adj1" fmla="val 25568"/>
                <a:gd name="adj2" fmla="val 2556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00000" y="3357720"/>
              <a:ext cx="185760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Map-Server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00720" y="321300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500720" y="3213000"/>
              <a:ext cx="22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771280" y="3645000"/>
              <a:ext cx="172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132000" y="3357720"/>
              <a:ext cx="9684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betrei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7280" y="3573360"/>
              <a:ext cx="447120" cy="2707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920" bIns="439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IZ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17520" y="1052640"/>
            <a:ext cx="4410000" cy="1655640"/>
            <a:chOff x="317520" y="1052640"/>
            <a:chExt cx="4410000" cy="1655640"/>
          </a:xfrm>
        </p:grpSpPr>
        <p:sp>
          <p:nvSpPr>
            <p:cNvPr id="606" name=""/>
            <p:cNvSpPr/>
            <p:nvPr/>
          </p:nvSpPr>
          <p:spPr>
            <a:xfrm>
              <a:off x="4427640" y="1557360"/>
              <a:ext cx="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27640" y="2708280"/>
              <a:ext cx="29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17520" y="1052640"/>
              <a:ext cx="2832480" cy="703440"/>
            </a:xfrm>
            <a:prstGeom prst="rect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Downloads von Geo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Times New Roman"/>
                </a:rPr>
                <a:t>www.umwelt.niedersachsen.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www.mu.niedersachsen.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2700360" y="155736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395280" y="2205000"/>
            <a:ext cx="3889080" cy="1125360"/>
            <a:chOff x="395280" y="2205000"/>
            <a:chExt cx="3889080" cy="1125360"/>
          </a:xfrm>
        </p:grpSpPr>
        <p:sp>
          <p:nvSpPr>
            <p:cNvPr id="611" name=""/>
            <p:cNvSpPr/>
            <p:nvPr/>
          </p:nvSpPr>
          <p:spPr>
            <a:xfrm>
              <a:off x="395280" y="2205000"/>
              <a:ext cx="3889080" cy="1125360"/>
            </a:xfrm>
            <a:prstGeom prst="rightArrowCallout">
              <a:avLst>
                <a:gd name="adj1" fmla="val 25002"/>
                <a:gd name="adj2" fmla="val 25000"/>
                <a:gd name="adj3" fmla="val 57598"/>
                <a:gd name="adj4" fmla="val 6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6800" y="2205000"/>
              <a:ext cx="1665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Kartendiens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11560" y="2609640"/>
              <a:ext cx="1053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..über Intern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68600" y="2609640"/>
              <a:ext cx="125028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Times New Roman"/>
                </a:rPr>
                <a:t>Fertige, </a:t>
              </a:r>
              <a:r>
                <a:rPr b="0" lang="de-DE" sz="11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inheitlich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Times New Roman"/>
                </a:rPr>
                <a:t>Fachkarten zur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Times New Roman"/>
                </a:rPr>
                <a:t>Nutzung dur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1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e</a:t>
              </a:r>
              <a:r>
                <a:rPr b="0" lang="de-DE" sz="1100" spc="-1" strike="noStrike">
                  <a:solidFill>
                    <a:srgbClr val="000000"/>
                  </a:solidFill>
                  <a:latin typeface="Times New Roman"/>
                </a:rPr>
                <a:t> Fachbehörd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276960" y="2209320"/>
            <a:ext cx="2743200" cy="4040640"/>
            <a:chOff x="6276960" y="2209320"/>
            <a:chExt cx="2743200" cy="4040640"/>
          </a:xfrm>
        </p:grpSpPr>
        <p:sp>
          <p:nvSpPr>
            <p:cNvPr id="616" name=""/>
            <p:cNvSpPr/>
            <p:nvPr/>
          </p:nvSpPr>
          <p:spPr>
            <a:xfrm>
              <a:off x="6276960" y="3903840"/>
              <a:ext cx="2743200" cy="2346120"/>
            </a:xfrm>
            <a:prstGeom prst="leftArrowCallout">
              <a:avLst>
                <a:gd name="adj1" fmla="val 25002"/>
                <a:gd name="adj2" fmla="val 25000"/>
                <a:gd name="adj3" fmla="val 19487"/>
                <a:gd name="adj4" fmla="val 6667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3720" rIns="243720" tIns="121680" bIns="12168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763120" y="2209680"/>
              <a:ext cx="0" cy="2027520"/>
            </a:xfrm>
            <a:prstGeom prst="line">
              <a:avLst/>
            </a:prstGeom>
            <a:ln w="28440">
              <a:solidFill>
                <a:srgbClr val="66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8320" rIns="328320" tIns="164160" bIns="164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8686800" y="4191120"/>
              <a:ext cx="85680" cy="2286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28320" rIns="328320" tIns="64440" bIns="64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 flipV="1">
              <a:off x="8458200" y="2209320"/>
              <a:ext cx="339840" cy="324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28320" rIns="328320" tIns="-160920" bIns="-160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644880" y="4929120"/>
              <a:ext cx="103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..üb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1" name="" descr=""/>
            <p:cNvPicPr/>
            <p:nvPr/>
          </p:nvPicPr>
          <p:blipFill>
            <a:blip r:embed="rId2"/>
            <a:stretch/>
          </p:blipFill>
          <p:spPr>
            <a:xfrm>
              <a:off x="7543800" y="5334120"/>
              <a:ext cx="122724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7391520" y="419112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VKV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map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647640" y="5008680"/>
            <a:ext cx="3264840" cy="1257120"/>
            <a:chOff x="647640" y="5008680"/>
            <a:chExt cx="3264840" cy="1257120"/>
          </a:xfrm>
        </p:grpSpPr>
        <p:grpSp>
          <p:nvGrpSpPr>
            <p:cNvPr id="624" name=""/>
            <p:cNvGrpSpPr/>
            <p:nvPr/>
          </p:nvGrpSpPr>
          <p:grpSpPr>
            <a:xfrm>
              <a:off x="647640" y="5008680"/>
              <a:ext cx="3264840" cy="1257120"/>
              <a:chOff x="647640" y="5008680"/>
              <a:chExt cx="3264840" cy="1257120"/>
            </a:xfrm>
          </p:grpSpPr>
          <p:sp>
            <p:nvSpPr>
              <p:cNvPr id="625" name=""/>
              <p:cNvSpPr/>
              <p:nvPr/>
            </p:nvSpPr>
            <p:spPr>
              <a:xfrm>
                <a:off x="647640" y="5132520"/>
                <a:ext cx="2266920" cy="1133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6" name=""/>
              <p:cNvGrpSpPr/>
              <p:nvPr/>
            </p:nvGrpSpPr>
            <p:grpSpPr>
              <a:xfrm>
                <a:off x="654120" y="5008680"/>
                <a:ext cx="3258360" cy="1172880"/>
                <a:chOff x="654120" y="5008680"/>
                <a:chExt cx="3258360" cy="117288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665280" y="5103720"/>
                  <a:ext cx="2225520" cy="733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480" rIns="87480" tIns="43920" bIns="43920" anchor="ctr">
                  <a:noAutofit/>
                </a:bodyPr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Interne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Intranet des Land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digitaler Umweltberich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 txBox="1"/>
                <p:nvPr/>
              </p:nvSpPr>
              <p:spPr>
                <a:xfrm>
                  <a:off x="654120" y="5008680"/>
                  <a:ext cx="2225520" cy="660240"/>
                </a:xfrm>
                <a:prstGeom prst="rect">
                  <a:avLst/>
                </a:prstGeom>
              </p:spPr>
              <p:txBody>
                <a:bodyPr wrap="none" fromWordArt="1" lIns="87480" rIns="87480" tIns="43560" bIns="43560" anchor="ctr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Informationspflicht</a:t>
                  </a:r>
                  <a:endPara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042920" y="5877000"/>
                  <a:ext cx="137340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061080" y="5373720"/>
                  <a:ext cx="851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2800" spc="-1" strike="noStrike">
                      <a:solidFill>
                        <a:srgbClr val="6699ff"/>
                      </a:solidFill>
                      <a:latin typeface="Times New Roman"/>
                    </a:rPr>
                    <a:t>UIG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631" name="Logo_nebeneinander_klein" descr=""/>
            <p:cNvPicPr/>
            <p:nvPr/>
          </p:nvPicPr>
          <p:blipFill>
            <a:blip r:embed="rId3"/>
            <a:stretch/>
          </p:blipFill>
          <p:spPr>
            <a:xfrm>
              <a:off x="1371600" y="5867280"/>
              <a:ext cx="8636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 rot="10800000">
            <a:off x="2050560" y="4005000"/>
            <a:ext cx="5257800" cy="360360"/>
          </a:xfrm>
          <a:custGeom>
            <a:avLst/>
            <a:gdLst>
              <a:gd name="textAreaLeft" fmla="*/ 821520 w 5257800"/>
              <a:gd name="textAreaRight" fmla="*/ 4600800 w 52578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6699ff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84720" y="84240"/>
            <a:ext cx="1946160" cy="6164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324000" y="2133720"/>
            <a:ext cx="4403520" cy="2674800"/>
            <a:chOff x="324000" y="2133720"/>
            <a:chExt cx="4403520" cy="2674800"/>
          </a:xfrm>
        </p:grpSpPr>
        <p:sp>
          <p:nvSpPr>
            <p:cNvPr id="635" name=""/>
            <p:cNvSpPr/>
            <p:nvPr/>
          </p:nvSpPr>
          <p:spPr>
            <a:xfrm>
              <a:off x="324000" y="2133720"/>
              <a:ext cx="2735280" cy="2674800"/>
            </a:xfrm>
            <a:prstGeom prst="downArrowCallout">
              <a:avLst>
                <a:gd name="adj1" fmla="val 25568"/>
                <a:gd name="adj2" fmla="val 2556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00000" y="3357720"/>
              <a:ext cx="185760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Map-Server</a:t>
              </a: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00720" y="321300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500720" y="3213000"/>
              <a:ext cx="22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2771280" y="3645000"/>
              <a:ext cx="172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32000" y="3357720"/>
              <a:ext cx="9684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betrei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67280" y="3573360"/>
              <a:ext cx="447120" cy="2707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920" bIns="439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IZ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462600" y="333360"/>
            <a:ext cx="2778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Datenstrom, Lizenzvergab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Kartendiens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284720" y="5805360"/>
            <a:ext cx="199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Jeweils temporäre Daten sow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aten von lokaler Bedeut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672080" y="169920"/>
            <a:ext cx="952560" cy="5562720"/>
            <a:chOff x="4672080" y="169920"/>
            <a:chExt cx="952560" cy="5562720"/>
          </a:xfrm>
        </p:grpSpPr>
        <p:sp>
          <p:nvSpPr>
            <p:cNvPr id="645" name=""/>
            <p:cNvSpPr/>
            <p:nvPr/>
          </p:nvSpPr>
          <p:spPr>
            <a:xfrm>
              <a:off x="4697640" y="519912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BR-Elb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672080" y="169920"/>
              <a:ext cx="9525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97640" y="1008360"/>
              <a:ext cx="9144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GA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97640" y="1846440"/>
              <a:ext cx="914400" cy="533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97640" y="2684520"/>
              <a:ext cx="914400" cy="5335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M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97640" y="3522960"/>
              <a:ext cx="9144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Wat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97640" y="436104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Har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4726080" y="262080"/>
            <a:ext cx="857160" cy="2862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NLWK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5601960" y="417600"/>
            <a:ext cx="1553040" cy="5095800"/>
            <a:chOff x="5601960" y="417600"/>
            <a:chExt cx="1553040" cy="5095800"/>
          </a:xfrm>
        </p:grpSpPr>
        <p:grpSp>
          <p:nvGrpSpPr>
            <p:cNvPr id="654" name=""/>
            <p:cNvGrpSpPr/>
            <p:nvPr/>
          </p:nvGrpSpPr>
          <p:grpSpPr>
            <a:xfrm>
              <a:off x="5601960" y="417600"/>
              <a:ext cx="1553040" cy="5095800"/>
              <a:chOff x="5601960" y="417600"/>
              <a:chExt cx="1553040" cy="5095800"/>
            </a:xfrm>
          </p:grpSpPr>
          <p:sp>
            <p:nvSpPr>
              <p:cNvPr id="655" name=""/>
              <p:cNvSpPr/>
              <p:nvPr/>
            </p:nvSpPr>
            <p:spPr>
              <a:xfrm>
                <a:off x="5840640" y="417600"/>
                <a:ext cx="0" cy="5086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830920" y="1519200"/>
                <a:ext cx="1324080" cy="12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5621040" y="426960"/>
                <a:ext cx="2221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5614560" y="12654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5614560" y="2109600"/>
                <a:ext cx="235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5621040" y="292248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5614560" y="55134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5614560" y="461808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5601960" y="3780000"/>
                <a:ext cx="235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6291360" y="1243080"/>
              <a:ext cx="5688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920" bIns="439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309600" y="0"/>
            <a:ext cx="357660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„</a:t>
            </a: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GDI- Umweltverwaltun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395280" y="2205000"/>
            <a:ext cx="3889080" cy="1125360"/>
            <a:chOff x="395280" y="2205000"/>
            <a:chExt cx="3889080" cy="1125360"/>
          </a:xfrm>
        </p:grpSpPr>
        <p:sp>
          <p:nvSpPr>
            <p:cNvPr id="667" name=""/>
            <p:cNvSpPr/>
            <p:nvPr/>
          </p:nvSpPr>
          <p:spPr>
            <a:xfrm>
              <a:off x="395280" y="2205000"/>
              <a:ext cx="3889080" cy="1125360"/>
            </a:xfrm>
            <a:prstGeom prst="rightArrowCallout">
              <a:avLst>
                <a:gd name="adj1" fmla="val 25002"/>
                <a:gd name="adj2" fmla="val 25000"/>
                <a:gd name="adj3" fmla="val 57598"/>
                <a:gd name="adj4" fmla="val 6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96800" y="2205000"/>
              <a:ext cx="1665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Times New Roman"/>
                </a:rPr>
                <a:t>Kartendiens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11560" y="2609640"/>
              <a:ext cx="1053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..über Intern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8600" y="2609640"/>
              <a:ext cx="125028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Times New Roman"/>
                </a:rPr>
                <a:t>Fertige, </a:t>
              </a:r>
              <a:r>
                <a:rPr b="0" lang="de-DE" sz="11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inheitlich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Times New Roman"/>
                </a:rPr>
                <a:t>Fachkarten zur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Times New Roman"/>
                </a:rPr>
                <a:t>Nutzung dur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1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e</a:t>
              </a:r>
              <a:r>
                <a:rPr b="0" lang="de-DE" sz="1100" spc="-1" strike="noStrike">
                  <a:solidFill>
                    <a:srgbClr val="000000"/>
                  </a:solidFill>
                  <a:latin typeface="Times New Roman"/>
                </a:rPr>
                <a:t> Fachbehörd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17520" y="1052640"/>
            <a:ext cx="4410000" cy="1655640"/>
            <a:chOff x="317520" y="1052640"/>
            <a:chExt cx="4410000" cy="1655640"/>
          </a:xfrm>
        </p:grpSpPr>
        <p:sp>
          <p:nvSpPr>
            <p:cNvPr id="672" name=""/>
            <p:cNvSpPr/>
            <p:nvPr/>
          </p:nvSpPr>
          <p:spPr>
            <a:xfrm>
              <a:off x="4427640" y="1557360"/>
              <a:ext cx="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27640" y="2708280"/>
              <a:ext cx="29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7520" y="1052640"/>
              <a:ext cx="2832480" cy="703440"/>
            </a:xfrm>
            <a:prstGeom prst="rect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Downloads von Geo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www</a:t>
              </a:r>
              <a:r>
                <a:rPr b="0" lang="de-DE" sz="10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.</a:t>
              </a:r>
              <a:r>
                <a:rPr b="0" lang="de-DE" sz="10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umwelt</a:t>
              </a:r>
              <a:r>
                <a:rPr b="0" lang="de-DE" sz="1000" spc="-1" strike="noStrike" u="sng">
                  <a:solidFill>
                    <a:srgbClr val="ccccff"/>
                  </a:solidFill>
                  <a:uFillTx/>
                  <a:latin typeface="Times New Roman"/>
                  <a:hlinkClick r:id="rId5"/>
                </a:rPr>
                <a:t>.</a:t>
              </a:r>
              <a:r>
                <a:rPr b="0" lang="de-DE" sz="1000" spc="-1" strike="noStrike" u="sng">
                  <a:solidFill>
                    <a:srgbClr val="ccccff"/>
                  </a:solidFill>
                  <a:uFillTx/>
                  <a:latin typeface="Times New Roman"/>
                  <a:hlinkClick r:id="rId6"/>
                </a:rPr>
                <a:t>niedersachsen</a:t>
              </a:r>
              <a:r>
                <a:rPr b="0" lang="de-DE" sz="1000" spc="-1" strike="noStrike" u="sng">
                  <a:solidFill>
                    <a:srgbClr val="ccccff"/>
                  </a:solidFill>
                  <a:uFillTx/>
                  <a:latin typeface="Times New Roman"/>
                  <a:hlinkClick r:id="rId7"/>
                </a:rPr>
                <a:t>.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u="sng">
                  <a:solidFill>
                    <a:srgbClr val="ccccff"/>
                  </a:solidFill>
                  <a:uFillTx/>
                  <a:latin typeface="Times New Roman"/>
                  <a:hlinkClick r:id="rId8"/>
                </a:rPr>
                <a:t>www</a:t>
              </a:r>
              <a:r>
                <a:rPr b="0" lang="de-DE" sz="1000" spc="-1" strike="noStrike" u="sng">
                  <a:solidFill>
                    <a:srgbClr val="ccccff"/>
                  </a:solidFill>
                  <a:uFillTx/>
                  <a:latin typeface="Times New Roman"/>
                  <a:hlinkClick r:id="rId9"/>
                </a:rPr>
                <a:t>.</a:t>
              </a:r>
              <a:r>
                <a:rPr b="0" lang="de-DE" sz="10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0"/>
                </a:rPr>
                <a:t>mu</a:t>
              </a:r>
              <a:r>
                <a:rPr b="0" lang="de-DE" sz="10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1"/>
                </a:rPr>
                <a:t>.</a:t>
              </a:r>
              <a:r>
                <a:rPr b="0" lang="de-DE" sz="10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2"/>
                </a:rPr>
                <a:t>niedersachsen</a:t>
              </a:r>
              <a:r>
                <a:rPr b="0" lang="de-DE" sz="10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3"/>
                </a:rPr>
                <a:t>.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700360" y="155736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5611680" y="160200"/>
            <a:ext cx="3362400" cy="5524560"/>
            <a:chOff x="5611680" y="160200"/>
            <a:chExt cx="3362400" cy="5524560"/>
          </a:xfrm>
        </p:grpSpPr>
        <p:grpSp>
          <p:nvGrpSpPr>
            <p:cNvPr id="677" name=""/>
            <p:cNvGrpSpPr/>
            <p:nvPr/>
          </p:nvGrpSpPr>
          <p:grpSpPr>
            <a:xfrm>
              <a:off x="5687640" y="160200"/>
              <a:ext cx="3286440" cy="5524560"/>
              <a:chOff x="5687640" y="160200"/>
              <a:chExt cx="3286440" cy="5524560"/>
            </a:xfrm>
          </p:grpSpPr>
          <p:grpSp>
            <p:nvGrpSpPr>
              <p:cNvPr id="678" name=""/>
              <p:cNvGrpSpPr/>
              <p:nvPr/>
            </p:nvGrpSpPr>
            <p:grpSpPr>
              <a:xfrm>
                <a:off x="5687640" y="160200"/>
                <a:ext cx="3286440" cy="5524560"/>
                <a:chOff x="5687640" y="160200"/>
                <a:chExt cx="3286440" cy="552456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7155000" y="160200"/>
                  <a:ext cx="1819080" cy="362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480" rIns="87480" tIns="43920" bIns="43920" anchor="ctr">
                  <a:noAutofit/>
                </a:bodyPr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7192800" y="617400"/>
                  <a:ext cx="1724040" cy="2616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7480" rIns="87480" tIns="43920" bIns="43920" anchor="t">
                  <a:spAutoFit/>
                </a:bodyPr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Geo-Datenser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-Abgeschlossene                             </a:t>
                  </a:r>
                  <a:r>
                    <a:rPr b="0" lang="de-DE" sz="1300" spc="-1" strike="noStrike">
                      <a:solidFill>
                        <a:srgbClr val="00cc99"/>
                      </a:solidFill>
                      <a:latin typeface="Times New Roman"/>
                    </a:rPr>
                    <a:t>...... 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Arbeitsergebniss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-Datenaustausch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Landes-Intranet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300" spc="-1" strike="noStrike">
                      <a:solidFill>
                        <a:srgbClr val="3333cc"/>
                      </a:solidFill>
                      <a:latin typeface="Times New Roman"/>
                    </a:rPr>
                    <a:t>-Geo-Basisdaten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-"/>
                    <a:tabLst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ALK (?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-"/>
                    <a:tabLst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000" spc="-1" strike="noStrike">
                      <a:solidFill>
                        <a:srgbClr val="ff3300"/>
                      </a:solidFill>
                      <a:latin typeface="Times New Roman"/>
                    </a:rPr>
                    <a:t>filebasiert / zukünftig auch SDE(Geodatenbank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1" name=""/>
                <p:cNvGrpSpPr/>
                <p:nvPr/>
              </p:nvGrpSpPr>
              <p:grpSpPr>
                <a:xfrm>
                  <a:off x="5687640" y="588960"/>
                  <a:ext cx="3238560" cy="5095800"/>
                  <a:chOff x="5687640" y="588960"/>
                  <a:chExt cx="3238560" cy="5095800"/>
                </a:xfrm>
              </p:grpSpPr>
              <p:sp>
                <p:nvSpPr>
                  <p:cNvPr id="682" name=""/>
                  <p:cNvSpPr/>
                  <p:nvPr/>
                </p:nvSpPr>
                <p:spPr>
                  <a:xfrm>
                    <a:off x="7202520" y="3198960"/>
                    <a:ext cx="1723680" cy="537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66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7252920" y="3300480"/>
                    <a:ext cx="1511280" cy="286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87480" rIns="87480" tIns="43920" bIns="43920" anchor="t">
                    <a:spAutoFit/>
                  </a:bodyPr>
                  <a:p>
                    <a:pPr>
                      <a:tabLst>
                        <a:tab algn="l" pos="0"/>
                        <a:tab algn="l" pos="876240"/>
                        <a:tab algn="l" pos="1752480"/>
                        <a:tab algn="l" pos="2629080"/>
                        <a:tab algn="l" pos="3505320"/>
                        <a:tab algn="l" pos="4381560"/>
                        <a:tab algn="l" pos="5257800"/>
                        <a:tab algn="l" pos="6134040"/>
                        <a:tab algn="l" pos="7010280"/>
                        <a:tab algn="l" pos="7886880"/>
                        <a:tab algn="l" pos="8763120"/>
                        <a:tab algn="l" pos="9639360"/>
                        <a:tab algn="l" pos="10515600"/>
                      </a:tabLst>
                    </a:pPr>
                    <a:r>
                      <a:rPr b="1" lang="de-DE" sz="1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zenz- Server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4" name=""/>
                  <p:cNvGrpSpPr/>
                  <p:nvPr/>
                </p:nvGrpSpPr>
                <p:grpSpPr>
                  <a:xfrm>
                    <a:off x="5687640" y="588960"/>
                    <a:ext cx="1503720" cy="5095800"/>
                    <a:chOff x="5687640" y="588960"/>
                    <a:chExt cx="1503720" cy="5095800"/>
                  </a:xfrm>
                </p:grpSpPr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5945040" y="588960"/>
                      <a:ext cx="0" cy="50864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 flipV="1">
                      <a:off x="5935320" y="3627360"/>
                      <a:ext cx="1256040" cy="64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>
                      <a:off x="5708520" y="598320"/>
                      <a:ext cx="239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 flipH="1">
                      <a:off x="5702040" y="143676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 flipH="1">
                      <a:off x="5702040" y="2281320"/>
                      <a:ext cx="2534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flipH="1">
                      <a:off x="5708520" y="3094200"/>
                      <a:ext cx="246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 flipH="1">
                      <a:off x="5702040" y="568476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 flipH="1">
                      <a:off x="5702040" y="478944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flipH="1">
                      <a:off x="5687640" y="3951360"/>
                      <a:ext cx="2538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94" name=""/>
              <p:cNvSpPr/>
              <p:nvPr/>
            </p:nvSpPr>
            <p:spPr>
              <a:xfrm>
                <a:off x="8458560" y="260280"/>
                <a:ext cx="447120" cy="2707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3920" bIns="43920" anchor="t">
                <a:spAutoFit/>
              </a:bodyPr>
              <a:p>
                <a:pPr>
                  <a:tabLst>
                    <a:tab algn="l" pos="0"/>
                    <a:tab algn="l" pos="876240"/>
                    <a:tab algn="l" pos="1752480"/>
                    <a:tab algn="l" pos="2629080"/>
                    <a:tab algn="l" pos="3505320"/>
                    <a:tab algn="l" pos="4381560"/>
                    <a:tab algn="l" pos="5257800"/>
                    <a:tab algn="l" pos="6134040"/>
                    <a:tab algn="l" pos="7010280"/>
                    <a:tab algn="l" pos="7886880"/>
                    <a:tab algn="l" pos="8763120"/>
                    <a:tab algn="l" pos="9639360"/>
                    <a:tab algn="l" pos="105156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IZ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5611680" y="760320"/>
              <a:ext cx="1618920" cy="2451240"/>
              <a:chOff x="5611680" y="760320"/>
              <a:chExt cx="1618920" cy="2451240"/>
            </a:xfrm>
          </p:grpSpPr>
          <p:sp>
            <p:nvSpPr>
              <p:cNvPr id="696" name=""/>
              <p:cNvSpPr/>
              <p:nvPr/>
            </p:nvSpPr>
            <p:spPr>
              <a:xfrm>
                <a:off x="5611680" y="3211560"/>
                <a:ext cx="1361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6972840" y="760320"/>
                <a:ext cx="0" cy="244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963840" y="779400"/>
                <a:ext cx="26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288840" y="2925720"/>
                <a:ext cx="640440" cy="27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3920" bIns="43920" anchor="t">
                <a:spAutoFit/>
              </a:bodyPr>
              <a:p>
                <a:pPr>
                  <a:tabLst>
                    <a:tab algn="l" pos="0"/>
                    <a:tab algn="l" pos="876240"/>
                    <a:tab algn="l" pos="1752480"/>
                    <a:tab algn="l" pos="2629080"/>
                    <a:tab algn="l" pos="3505320"/>
                    <a:tab algn="l" pos="4381560"/>
                    <a:tab algn="l" pos="5257800"/>
                    <a:tab algn="l" pos="6134040"/>
                    <a:tab algn="l" pos="7010280"/>
                    <a:tab algn="l" pos="7886880"/>
                    <a:tab algn="l" pos="8763120"/>
                    <a:tab algn="l" pos="9639360"/>
                    <a:tab algn="l" pos="105156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betreib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"/>
          <p:cNvGrpSpPr/>
          <p:nvPr/>
        </p:nvGrpSpPr>
        <p:grpSpPr>
          <a:xfrm>
            <a:off x="6276960" y="2209320"/>
            <a:ext cx="2743200" cy="4040640"/>
            <a:chOff x="6276960" y="2209320"/>
            <a:chExt cx="2743200" cy="4040640"/>
          </a:xfrm>
        </p:grpSpPr>
        <p:sp>
          <p:nvSpPr>
            <p:cNvPr id="701" name=""/>
            <p:cNvSpPr/>
            <p:nvPr/>
          </p:nvSpPr>
          <p:spPr>
            <a:xfrm>
              <a:off x="6276960" y="3903840"/>
              <a:ext cx="2743200" cy="2346120"/>
            </a:xfrm>
            <a:prstGeom prst="leftArrowCallout">
              <a:avLst>
                <a:gd name="adj1" fmla="val 25002"/>
                <a:gd name="adj2" fmla="val 25000"/>
                <a:gd name="adj3" fmla="val 19487"/>
                <a:gd name="adj4" fmla="val 6667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3720" rIns="243720" tIns="121680" bIns="12168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763120" y="2209680"/>
              <a:ext cx="0" cy="2027520"/>
            </a:xfrm>
            <a:prstGeom prst="line">
              <a:avLst/>
            </a:prstGeom>
            <a:ln w="28440">
              <a:solidFill>
                <a:srgbClr val="66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8320" rIns="328320" tIns="164160" bIns="164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8686800" y="4191120"/>
              <a:ext cx="85680" cy="2286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28320" rIns="328320" tIns="64440" bIns="64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 flipV="1">
              <a:off x="8458200" y="2209320"/>
              <a:ext cx="339840" cy="324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28320" rIns="328320" tIns="-160920" bIns="-160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644880" y="4929120"/>
              <a:ext cx="103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..üb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6" name="" descr=""/>
            <p:cNvPicPr/>
            <p:nvPr/>
          </p:nvPicPr>
          <p:blipFill>
            <a:blip r:embed="rId14"/>
            <a:stretch/>
          </p:blipFill>
          <p:spPr>
            <a:xfrm>
              <a:off x="7543800" y="5334120"/>
              <a:ext cx="122724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7391520" y="419112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VKV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map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47640" y="5008680"/>
            <a:ext cx="3264840" cy="1257120"/>
            <a:chOff x="647640" y="5008680"/>
            <a:chExt cx="3264840" cy="1257120"/>
          </a:xfrm>
        </p:grpSpPr>
        <p:grpSp>
          <p:nvGrpSpPr>
            <p:cNvPr id="709" name=""/>
            <p:cNvGrpSpPr/>
            <p:nvPr/>
          </p:nvGrpSpPr>
          <p:grpSpPr>
            <a:xfrm>
              <a:off x="647640" y="5008680"/>
              <a:ext cx="3264840" cy="1257120"/>
              <a:chOff x="647640" y="5008680"/>
              <a:chExt cx="3264840" cy="1257120"/>
            </a:xfrm>
          </p:grpSpPr>
          <p:sp>
            <p:nvSpPr>
              <p:cNvPr id="710" name=""/>
              <p:cNvSpPr/>
              <p:nvPr/>
            </p:nvSpPr>
            <p:spPr>
              <a:xfrm>
                <a:off x="647640" y="5132520"/>
                <a:ext cx="2266920" cy="1133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1" name=""/>
              <p:cNvGrpSpPr/>
              <p:nvPr/>
            </p:nvGrpSpPr>
            <p:grpSpPr>
              <a:xfrm>
                <a:off x="654120" y="5008680"/>
                <a:ext cx="3258360" cy="1172880"/>
                <a:chOff x="654120" y="5008680"/>
                <a:chExt cx="3258360" cy="117288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665280" y="5103720"/>
                  <a:ext cx="2225520" cy="733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480" rIns="87480" tIns="43920" bIns="43920" anchor="ctr">
                  <a:noAutofit/>
                </a:bodyPr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Interne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Intranet des Land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digitaler Umweltberich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 txBox="1"/>
                <p:nvPr/>
              </p:nvSpPr>
              <p:spPr>
                <a:xfrm>
                  <a:off x="654120" y="5008680"/>
                  <a:ext cx="2225520" cy="660240"/>
                </a:xfrm>
                <a:prstGeom prst="rect">
                  <a:avLst/>
                </a:prstGeom>
              </p:spPr>
              <p:txBody>
                <a:bodyPr wrap="none" fromWordArt="1" lIns="87480" rIns="87480" tIns="43560" bIns="43560" anchor="ctr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Informationspflicht</a:t>
                  </a:r>
                  <a:endPara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042920" y="5877000"/>
                  <a:ext cx="137340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3061080" y="5373720"/>
                  <a:ext cx="851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2800" spc="-1" strike="noStrike">
                      <a:solidFill>
                        <a:srgbClr val="6699ff"/>
                      </a:solidFill>
                      <a:latin typeface="Times New Roman"/>
                    </a:rPr>
                    <a:t>UIG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716" name="Logo_nebeneinander_klein" descr=""/>
            <p:cNvPicPr/>
            <p:nvPr/>
          </p:nvPicPr>
          <p:blipFill>
            <a:blip r:embed="rId15"/>
            <a:stretch/>
          </p:blipFill>
          <p:spPr>
            <a:xfrm>
              <a:off x="1371600" y="5867280"/>
              <a:ext cx="86364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"/>
          <p:cNvSpPr/>
          <p:nvPr/>
        </p:nvSpPr>
        <p:spPr>
          <a:xfrm>
            <a:off x="7238880" y="32767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Lizenserver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: auch für 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und 4 Regierungsbür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57440" y="2565360"/>
            <a:ext cx="375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mweltverwaltung ab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eodaten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izenz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ap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KV- Map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1280" y="16984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284720" y="84240"/>
            <a:ext cx="1946160" cy="6164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672080" y="169920"/>
            <a:ext cx="952560" cy="5562720"/>
            <a:chOff x="4672080" y="169920"/>
            <a:chExt cx="952560" cy="5562720"/>
          </a:xfrm>
        </p:grpSpPr>
        <p:sp>
          <p:nvSpPr>
            <p:cNvPr id="86" name=""/>
            <p:cNvSpPr/>
            <p:nvPr/>
          </p:nvSpPr>
          <p:spPr>
            <a:xfrm>
              <a:off x="4697640" y="519912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BR-Elb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72080" y="169920"/>
              <a:ext cx="9525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97640" y="1008360"/>
              <a:ext cx="9144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GA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97640" y="1846440"/>
              <a:ext cx="914400" cy="533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97640" y="2684520"/>
              <a:ext cx="914400" cy="5335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M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97640" y="3522960"/>
              <a:ext cx="9144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Wat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97640" y="436104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Har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726080" y="262080"/>
            <a:ext cx="857160" cy="2862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NLWK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600" y="0"/>
            <a:ext cx="357660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„</a:t>
            </a: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GDI- Umweltverwaltun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5440" y="2852640"/>
            <a:ext cx="39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Niedersächsisc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Umweltverwal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2163411_L20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8229600" cy="57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12788146_L20" descr="Karte NLP Nds. WM"/>
          <p:cNvPicPr/>
          <p:nvPr/>
        </p:nvPicPr>
        <p:blipFill>
          <a:blip r:embed="rId2"/>
          <a:stretch/>
        </p:blipFill>
        <p:spPr>
          <a:xfrm>
            <a:off x="228600" y="304920"/>
            <a:ext cx="866124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C5975047_L20" descr="Karte der Standorte"/>
          <p:cNvPicPr/>
          <p:nvPr/>
        </p:nvPicPr>
        <p:blipFill>
          <a:blip r:embed="rId2"/>
          <a:stretch/>
        </p:blipFill>
        <p:spPr>
          <a:xfrm>
            <a:off x="457200" y="304920"/>
            <a:ext cx="83818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284720" y="84240"/>
            <a:ext cx="1946160" cy="6164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2600" y="333360"/>
            <a:ext cx="27788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Datenstrom, Lizenzvergab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5805360"/>
            <a:ext cx="199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Jeweils temporäre Daten sow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aten von lokaler Bedeut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672080" y="169920"/>
            <a:ext cx="952560" cy="5562720"/>
            <a:chOff x="4672080" y="169920"/>
            <a:chExt cx="952560" cy="5562720"/>
          </a:xfrm>
        </p:grpSpPr>
        <p:sp>
          <p:nvSpPr>
            <p:cNvPr id="103" name=""/>
            <p:cNvSpPr/>
            <p:nvPr/>
          </p:nvSpPr>
          <p:spPr>
            <a:xfrm>
              <a:off x="4697640" y="519912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BR-Elb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72080" y="169920"/>
              <a:ext cx="9525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97640" y="1008360"/>
              <a:ext cx="9144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GA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97640" y="1846440"/>
              <a:ext cx="914400" cy="533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97640" y="2684520"/>
              <a:ext cx="914400" cy="5335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M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97640" y="3522960"/>
              <a:ext cx="9144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Wat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97640" y="436104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Har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726080" y="262080"/>
            <a:ext cx="857160" cy="2862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NLWK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600" y="0"/>
            <a:ext cx="357660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„</a:t>
            </a: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GDI- Umweltverwaltun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611680" y="160200"/>
            <a:ext cx="3362400" cy="5524560"/>
            <a:chOff x="5611680" y="160200"/>
            <a:chExt cx="3362400" cy="5524560"/>
          </a:xfrm>
        </p:grpSpPr>
        <p:grpSp>
          <p:nvGrpSpPr>
            <p:cNvPr id="113" name=""/>
            <p:cNvGrpSpPr/>
            <p:nvPr/>
          </p:nvGrpSpPr>
          <p:grpSpPr>
            <a:xfrm>
              <a:off x="5687640" y="160200"/>
              <a:ext cx="3286440" cy="5524560"/>
              <a:chOff x="5687640" y="160200"/>
              <a:chExt cx="3286440" cy="552456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5687640" y="160200"/>
                <a:ext cx="3286440" cy="5524560"/>
                <a:chOff x="5687640" y="160200"/>
                <a:chExt cx="3286440" cy="55245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7155000" y="160200"/>
                  <a:ext cx="1819080" cy="362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480" rIns="87480" tIns="43920" bIns="43920" anchor="ctr">
                  <a:noAutofit/>
                </a:bodyPr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192800" y="617400"/>
                  <a:ext cx="1724040" cy="2616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7480" rIns="87480" tIns="43920" bIns="43920" anchor="t">
                  <a:spAutoFit/>
                </a:bodyPr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Geo-Datenser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-Abgeschlossene                             </a:t>
                  </a:r>
                  <a:r>
                    <a:rPr b="0" lang="de-DE" sz="1300" spc="-1" strike="noStrike">
                      <a:solidFill>
                        <a:srgbClr val="00cc99"/>
                      </a:solidFill>
                      <a:latin typeface="Times New Roman"/>
                    </a:rPr>
                    <a:t>...... 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Arbeitsergebniss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-Datenaustausch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Landes-Intranet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300" spc="-1" strike="noStrike">
                      <a:solidFill>
                        <a:srgbClr val="3333cc"/>
                      </a:solidFill>
                      <a:latin typeface="Times New Roman"/>
                    </a:rPr>
                    <a:t>-Geo-Basisdaten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-"/>
                    <a:tabLst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ALK (?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-"/>
                    <a:tabLst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000" spc="-1" strike="noStrike">
                      <a:solidFill>
                        <a:srgbClr val="ff3300"/>
                      </a:solidFill>
                      <a:latin typeface="Times New Roman"/>
                    </a:rPr>
                    <a:t>filebasiert / zukünftig auch SDE(Geodatenbank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5687640" y="588960"/>
                  <a:ext cx="3238560" cy="5095800"/>
                  <a:chOff x="5687640" y="588960"/>
                  <a:chExt cx="3238560" cy="509580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7202520" y="3198960"/>
                    <a:ext cx="1723680" cy="537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66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252920" y="3300480"/>
                    <a:ext cx="1511280" cy="286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87480" rIns="87480" tIns="43920" bIns="43920" anchor="t">
                    <a:spAutoFit/>
                  </a:bodyPr>
                  <a:p>
                    <a:pPr>
                      <a:tabLst>
                        <a:tab algn="l" pos="0"/>
                        <a:tab algn="l" pos="876240"/>
                        <a:tab algn="l" pos="1752480"/>
                        <a:tab algn="l" pos="2629080"/>
                        <a:tab algn="l" pos="3505320"/>
                        <a:tab algn="l" pos="4381560"/>
                        <a:tab algn="l" pos="5257800"/>
                        <a:tab algn="l" pos="6134040"/>
                        <a:tab algn="l" pos="7010280"/>
                        <a:tab algn="l" pos="7886880"/>
                        <a:tab algn="l" pos="8763120"/>
                        <a:tab algn="l" pos="9639360"/>
                        <a:tab algn="l" pos="10515600"/>
                      </a:tabLst>
                    </a:pPr>
                    <a:r>
                      <a:rPr b="1" lang="de-DE" sz="1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zenz- Server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5687640" y="588960"/>
                    <a:ext cx="1503720" cy="5095800"/>
                    <a:chOff x="5687640" y="588960"/>
                    <a:chExt cx="1503720" cy="509580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5945040" y="588960"/>
                      <a:ext cx="0" cy="50864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 flipV="1">
                      <a:off x="5935320" y="3627360"/>
                      <a:ext cx="1256040" cy="64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 flipH="1">
                      <a:off x="5708520" y="598320"/>
                      <a:ext cx="239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 flipH="1">
                      <a:off x="5702040" y="143676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 flipH="1">
                      <a:off x="5702040" y="2281320"/>
                      <a:ext cx="2534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 flipH="1">
                      <a:off x="5708520" y="3094200"/>
                      <a:ext cx="246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 flipH="1">
                      <a:off x="5702040" y="568476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 flipH="1">
                      <a:off x="5702040" y="478944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 flipH="1">
                      <a:off x="5687640" y="3951360"/>
                      <a:ext cx="2538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30" name=""/>
              <p:cNvSpPr/>
              <p:nvPr/>
            </p:nvSpPr>
            <p:spPr>
              <a:xfrm>
                <a:off x="8458560" y="260280"/>
                <a:ext cx="447120" cy="2707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3920" bIns="43920" anchor="t">
                <a:spAutoFit/>
              </a:bodyPr>
              <a:p>
                <a:pPr>
                  <a:tabLst>
                    <a:tab algn="l" pos="0"/>
                    <a:tab algn="l" pos="876240"/>
                    <a:tab algn="l" pos="1752480"/>
                    <a:tab algn="l" pos="2629080"/>
                    <a:tab algn="l" pos="3505320"/>
                    <a:tab algn="l" pos="4381560"/>
                    <a:tab algn="l" pos="5257800"/>
                    <a:tab algn="l" pos="6134040"/>
                    <a:tab algn="l" pos="7010280"/>
                    <a:tab algn="l" pos="7886880"/>
                    <a:tab algn="l" pos="8763120"/>
                    <a:tab algn="l" pos="9639360"/>
                    <a:tab algn="l" pos="105156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IZ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611680" y="760320"/>
              <a:ext cx="1618920" cy="2451240"/>
              <a:chOff x="5611680" y="760320"/>
              <a:chExt cx="1618920" cy="2451240"/>
            </a:xfrm>
          </p:grpSpPr>
          <p:sp>
            <p:nvSpPr>
              <p:cNvPr id="132" name=""/>
              <p:cNvSpPr/>
              <p:nvPr/>
            </p:nvSpPr>
            <p:spPr>
              <a:xfrm>
                <a:off x="5611680" y="3211560"/>
                <a:ext cx="1361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6972840" y="760320"/>
                <a:ext cx="0" cy="244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63840" y="779400"/>
                <a:ext cx="26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88840" y="2925720"/>
                <a:ext cx="640440" cy="27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3920" bIns="43920" anchor="t">
                <a:spAutoFit/>
              </a:bodyPr>
              <a:p>
                <a:pPr>
                  <a:tabLst>
                    <a:tab algn="l" pos="0"/>
                    <a:tab algn="l" pos="876240"/>
                    <a:tab algn="l" pos="1752480"/>
                    <a:tab algn="l" pos="2629080"/>
                    <a:tab algn="l" pos="3505320"/>
                    <a:tab algn="l" pos="4381560"/>
                    <a:tab algn="l" pos="5257800"/>
                    <a:tab algn="l" pos="6134040"/>
                    <a:tab algn="l" pos="7010280"/>
                    <a:tab algn="l" pos="7886880"/>
                    <a:tab algn="l" pos="8763120"/>
                    <a:tab algn="l" pos="9639360"/>
                    <a:tab algn="l" pos="105156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betreib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2600" y="333360"/>
            <a:ext cx="27788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Datenstrom, Lizenzvergab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9600" y="0"/>
            <a:ext cx="357660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„</a:t>
            </a: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GDI- Umweltverwaltun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511440" y="3357720"/>
            <a:ext cx="5526360" cy="2927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5476680" cy="2997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4360" y="1628640"/>
            <a:ext cx="2016000" cy="20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920" bIns="43920" anchor="ctr">
            <a:noAutofit/>
          </a:bodyPr>
          <a:p>
            <a:pPr algn="ct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3160" y="1863720"/>
            <a:ext cx="1762200" cy="15184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eo-Daten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de-DE" sz="1000" spc="-1" strike="noStrike">
                <a:solidFill>
                  <a:srgbClr val="ff3300"/>
                </a:solidFill>
                <a:latin typeface="Times New Roman"/>
              </a:rPr>
              <a:t>filebasiert / zukünftig auch SDE(Geodatenban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nutzer-verwaltung für ca. 300 Nut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933720"/>
            <a:ext cx="2016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14320" y="4083120"/>
            <a:ext cx="1725840" cy="15483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Lizenz-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62 ArcG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10 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11 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13 Arc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1 Publis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284720" y="84240"/>
            <a:ext cx="1946160" cy="6164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2600" y="333360"/>
            <a:ext cx="27788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Datenstrom, Lizenzvergab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84720" y="5805360"/>
            <a:ext cx="199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Jeweils temporäre Daten sow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aten von lokaler Bedeut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672080" y="169920"/>
            <a:ext cx="952560" cy="5562720"/>
            <a:chOff x="4672080" y="169920"/>
            <a:chExt cx="952560" cy="5562720"/>
          </a:xfrm>
        </p:grpSpPr>
        <p:sp>
          <p:nvSpPr>
            <p:cNvPr id="148" name=""/>
            <p:cNvSpPr/>
            <p:nvPr/>
          </p:nvSpPr>
          <p:spPr>
            <a:xfrm>
              <a:off x="4697640" y="519912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BR-Elb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72080" y="169920"/>
              <a:ext cx="9525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97640" y="1008360"/>
              <a:ext cx="9144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GA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97640" y="1846440"/>
              <a:ext cx="914400" cy="533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97640" y="2684520"/>
              <a:ext cx="914400" cy="5335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Times New Roman"/>
                </a:rPr>
                <a:t>M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97640" y="3522960"/>
              <a:ext cx="9144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Wat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97640" y="4361040"/>
              <a:ext cx="9144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NP-Har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726080" y="262080"/>
            <a:ext cx="857160" cy="2862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NLWK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9600" y="0"/>
            <a:ext cx="357660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„</a:t>
            </a:r>
            <a:r>
              <a:rPr b="1" lang="de-DE" sz="2000" spc="-1" strike="noStrike">
                <a:solidFill>
                  <a:srgbClr val="ff3300"/>
                </a:solidFill>
                <a:latin typeface="Times New Roman"/>
              </a:rPr>
              <a:t>GDI- Umweltverwaltun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611680" y="160200"/>
            <a:ext cx="3362400" cy="5524560"/>
            <a:chOff x="5611680" y="160200"/>
            <a:chExt cx="3362400" cy="5524560"/>
          </a:xfrm>
        </p:grpSpPr>
        <p:grpSp>
          <p:nvGrpSpPr>
            <p:cNvPr id="158" name=""/>
            <p:cNvGrpSpPr/>
            <p:nvPr/>
          </p:nvGrpSpPr>
          <p:grpSpPr>
            <a:xfrm>
              <a:off x="5687640" y="160200"/>
              <a:ext cx="3286440" cy="5524560"/>
              <a:chOff x="5687640" y="160200"/>
              <a:chExt cx="3286440" cy="552456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5687640" y="160200"/>
                <a:ext cx="3286440" cy="5524560"/>
                <a:chOff x="5687640" y="160200"/>
                <a:chExt cx="3286440" cy="552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7155000" y="160200"/>
                  <a:ext cx="1819080" cy="362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480" rIns="87480" tIns="43920" bIns="43920" anchor="ctr">
                  <a:noAutofit/>
                </a:bodyPr>
                <a:p>
                  <a:pPr algn="ctr"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192800" y="617400"/>
                  <a:ext cx="1724040" cy="2616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7480" rIns="87480" tIns="43920" bIns="43920" anchor="t">
                  <a:spAutoFit/>
                </a:bodyPr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Geo-Datenser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-Abgeschlossene                             </a:t>
                  </a:r>
                  <a:r>
                    <a:rPr b="0" lang="de-DE" sz="1300" spc="-1" strike="noStrike">
                      <a:solidFill>
                        <a:srgbClr val="00cc99"/>
                      </a:solidFill>
                      <a:latin typeface="Times New Roman"/>
                    </a:rPr>
                    <a:t>...... 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Arbeitsergebniss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-Datenaustausch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Landes-Intranet </a:t>
                  </a:r>
                  <a:r>
                    <a:rPr b="0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300" spc="-1" strike="noStrike">
                      <a:solidFill>
                        <a:srgbClr val="3333cc"/>
                      </a:solidFill>
                      <a:latin typeface="Times New Roman"/>
                    </a:rPr>
                    <a:t>-Geo-Basisdaten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-"/>
                    <a:tabLst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ALK (?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-"/>
                    <a:tabLst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876240"/>
                      <a:tab algn="l" pos="1752480"/>
                      <a:tab algn="l" pos="2629080"/>
                      <a:tab algn="l" pos="3505320"/>
                      <a:tab algn="l" pos="4381560"/>
                      <a:tab algn="l" pos="5257800"/>
                      <a:tab algn="l" pos="6134040"/>
                      <a:tab algn="l" pos="7010280"/>
                      <a:tab algn="l" pos="7886880"/>
                      <a:tab algn="l" pos="8763120"/>
                      <a:tab algn="l" pos="9639360"/>
                      <a:tab algn="l" pos="10515600"/>
                    </a:tabLst>
                  </a:pPr>
                  <a:r>
                    <a:rPr b="0" lang="de-DE" sz="1000" spc="-1" strike="noStrike">
                      <a:solidFill>
                        <a:srgbClr val="ff3300"/>
                      </a:solidFill>
                      <a:latin typeface="Times New Roman"/>
                    </a:rPr>
                    <a:t>filebasiert / zukünftig auch SDE(Geodatenbank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5687640" y="588960"/>
                  <a:ext cx="3238560" cy="5095800"/>
                  <a:chOff x="5687640" y="588960"/>
                  <a:chExt cx="3238560" cy="50958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7202520" y="3198960"/>
                    <a:ext cx="1723680" cy="537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66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252920" y="3300480"/>
                    <a:ext cx="1511280" cy="286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99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87480" rIns="87480" tIns="43920" bIns="43920" anchor="t">
                    <a:spAutoFit/>
                  </a:bodyPr>
                  <a:p>
                    <a:pPr>
                      <a:tabLst>
                        <a:tab algn="l" pos="0"/>
                        <a:tab algn="l" pos="876240"/>
                        <a:tab algn="l" pos="1752480"/>
                        <a:tab algn="l" pos="2629080"/>
                        <a:tab algn="l" pos="3505320"/>
                        <a:tab algn="l" pos="4381560"/>
                        <a:tab algn="l" pos="5257800"/>
                        <a:tab algn="l" pos="6134040"/>
                        <a:tab algn="l" pos="7010280"/>
                        <a:tab algn="l" pos="7886880"/>
                        <a:tab algn="l" pos="8763120"/>
                        <a:tab algn="l" pos="9639360"/>
                        <a:tab algn="l" pos="10515600"/>
                      </a:tabLst>
                    </a:pPr>
                    <a:r>
                      <a:rPr b="1" lang="de-DE" sz="1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zenz- Server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5687640" y="588960"/>
                    <a:ext cx="1503720" cy="5095800"/>
                    <a:chOff x="5687640" y="588960"/>
                    <a:chExt cx="1503720" cy="509580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5945040" y="588960"/>
                      <a:ext cx="0" cy="50864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flipV="1">
                      <a:off x="5935320" y="3627360"/>
                      <a:ext cx="1256040" cy="64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 flipH="1">
                      <a:off x="5708520" y="598320"/>
                      <a:ext cx="239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 flipH="1">
                      <a:off x="5702040" y="143676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 flipH="1">
                      <a:off x="5702040" y="2281320"/>
                      <a:ext cx="2534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 flipH="1">
                      <a:off x="5708520" y="3094200"/>
                      <a:ext cx="246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 flipH="1">
                      <a:off x="5702040" y="568476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flipH="1">
                      <a:off x="5702040" y="4789440"/>
                      <a:ext cx="245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flipH="1">
                      <a:off x="5687640" y="3951360"/>
                      <a:ext cx="2538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75" name=""/>
              <p:cNvSpPr/>
              <p:nvPr/>
            </p:nvSpPr>
            <p:spPr>
              <a:xfrm>
                <a:off x="8458560" y="260280"/>
                <a:ext cx="447120" cy="2707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3920" bIns="43920" anchor="t">
                <a:spAutoFit/>
              </a:bodyPr>
              <a:p>
                <a:pPr>
                  <a:tabLst>
                    <a:tab algn="l" pos="0"/>
                    <a:tab algn="l" pos="876240"/>
                    <a:tab algn="l" pos="1752480"/>
                    <a:tab algn="l" pos="2629080"/>
                    <a:tab algn="l" pos="3505320"/>
                    <a:tab algn="l" pos="4381560"/>
                    <a:tab algn="l" pos="5257800"/>
                    <a:tab algn="l" pos="6134040"/>
                    <a:tab algn="l" pos="7010280"/>
                    <a:tab algn="l" pos="7886880"/>
                    <a:tab algn="l" pos="8763120"/>
                    <a:tab algn="l" pos="9639360"/>
                    <a:tab algn="l" pos="105156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IZ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611680" y="760320"/>
              <a:ext cx="1618920" cy="2451240"/>
              <a:chOff x="5611680" y="760320"/>
              <a:chExt cx="1618920" cy="2451240"/>
            </a:xfrm>
          </p:grpSpPr>
          <p:sp>
            <p:nvSpPr>
              <p:cNvPr id="177" name=""/>
              <p:cNvSpPr/>
              <p:nvPr/>
            </p:nvSpPr>
            <p:spPr>
              <a:xfrm>
                <a:off x="5611680" y="3211560"/>
                <a:ext cx="1361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6972840" y="760320"/>
                <a:ext cx="0" cy="244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63840" y="779400"/>
                <a:ext cx="26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288840" y="2925720"/>
                <a:ext cx="640440" cy="27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3920" bIns="43920" anchor="t">
                <a:spAutoFit/>
              </a:bodyPr>
              <a:p>
                <a:pPr>
                  <a:tabLst>
                    <a:tab algn="l" pos="0"/>
                    <a:tab algn="l" pos="876240"/>
                    <a:tab algn="l" pos="1752480"/>
                    <a:tab algn="l" pos="2629080"/>
                    <a:tab algn="l" pos="3505320"/>
                    <a:tab algn="l" pos="4381560"/>
                    <a:tab algn="l" pos="5257800"/>
                    <a:tab algn="l" pos="6134040"/>
                    <a:tab algn="l" pos="7010280"/>
                    <a:tab algn="l" pos="7886880"/>
                    <a:tab algn="l" pos="8763120"/>
                    <a:tab algn="l" pos="9639360"/>
                    <a:tab algn="l" pos="105156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betreib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5601960" y="417600"/>
            <a:ext cx="1553040" cy="5095800"/>
            <a:chOff x="5601960" y="417600"/>
            <a:chExt cx="1553040" cy="5095800"/>
          </a:xfrm>
        </p:grpSpPr>
        <p:grpSp>
          <p:nvGrpSpPr>
            <p:cNvPr id="182" name=""/>
            <p:cNvGrpSpPr/>
            <p:nvPr/>
          </p:nvGrpSpPr>
          <p:grpSpPr>
            <a:xfrm>
              <a:off x="5601960" y="417600"/>
              <a:ext cx="1553040" cy="5095800"/>
              <a:chOff x="5601960" y="417600"/>
              <a:chExt cx="1553040" cy="5095800"/>
            </a:xfrm>
          </p:grpSpPr>
          <p:sp>
            <p:nvSpPr>
              <p:cNvPr id="183" name=""/>
              <p:cNvSpPr/>
              <p:nvPr/>
            </p:nvSpPr>
            <p:spPr>
              <a:xfrm>
                <a:off x="5840640" y="417600"/>
                <a:ext cx="0" cy="5086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30920" y="1519200"/>
                <a:ext cx="1324080" cy="12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5621040" y="426960"/>
                <a:ext cx="2221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5614560" y="12654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5614560" y="2109600"/>
                <a:ext cx="235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5621040" y="292248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5614560" y="551340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5614560" y="461808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5601960" y="3780000"/>
                <a:ext cx="235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6291360" y="1243080"/>
              <a:ext cx="5688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920" bIns="43920" anchor="t">
              <a:spAutoFit/>
            </a:bodyPr>
            <a:p>
              <a:pPr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10:33:10Z</dcterms:created>
  <dc:creator>Mummenthey</dc:creator>
  <dc:description/>
  <dc:language>en-US</dc:language>
  <cp:lastModifiedBy>Rolf Mummenthey</cp:lastModifiedBy>
  <cp:lastPrinted>1999-02-23T14:40:20Z</cp:lastPrinted>
  <dcterms:modified xsi:type="dcterms:W3CDTF">2005-10-14T12:57:04Z</dcterms:modified>
  <cp:revision>147</cp:revision>
  <dc:subject/>
  <dc:title>Kein Folientitel</dc:title>
</cp:coreProperties>
</file>