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99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0920" cy="1413000"/>
          </a:xfrm>
          <a:prstGeom prst="rect">
            <a:avLst/>
          </a:prstGeom>
          <a:solidFill>
            <a:srgbClr val="474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413000"/>
            <a:ext cx="250920" cy="4752720"/>
          </a:xfrm>
          <a:prstGeom prst="rect">
            <a:avLst/>
          </a:prstGeom>
          <a:solidFill>
            <a:srgbClr val="006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65720"/>
            <a:ext cx="250920" cy="692280"/>
          </a:xfrm>
          <a:prstGeom prst="rect">
            <a:avLst/>
          </a:prstGeom>
          <a:solidFill>
            <a:srgbClr val="a40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6237360"/>
            <a:ext cx="229392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.meyer@plan-gis.de" TargetMode="External"/><Relationship Id="rId3" Type="http://schemas.openxmlformats.org/officeDocument/2006/relationships/hyperlink" Target="http://www.plan-gis.de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mo.org/" TargetMode="External"/><Relationship Id="rId2" Type="http://schemas.openxmlformats.org/officeDocument/2006/relationships/hyperlink" Target="http://www.iho.shom.fr/" TargetMode="External"/><Relationship Id="rId3" Type="http://schemas.openxmlformats.org/officeDocument/2006/relationships/hyperlink" Target="http://www.ic-enc.org/" TargetMode="External"/><Relationship Id="rId4" Type="http://schemas.openxmlformats.org/officeDocument/2006/relationships/hyperlink" Target="http://www.primar-stavanger.org/" TargetMode="External"/><Relationship Id="rId5" Type="http://schemas.openxmlformats.org/officeDocument/2006/relationships/hyperlink" Target="http://www.bsh.de/" TargetMode="External"/><Relationship Id="rId6" Type="http://schemas.openxmlformats.org/officeDocument/2006/relationships/hyperlink" Target="http://www.ukho.gov.uk/" TargetMode="External"/><Relationship Id="rId7" Type="http://schemas.openxmlformats.org/officeDocument/2006/relationships/hyperlink" Target="http://www.csc.noaa.gov/" TargetMode="External"/><Relationship Id="rId8" Type="http://schemas.openxmlformats.org/officeDocument/2006/relationships/hyperlink" Target="http://www.openecdis.org/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5000760" cy="405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95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Digitale Seekarten in ArcGIS nutzen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3240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Dipl.-Umweltwiss.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Fabian Meyer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Frutiger Light"/>
              </a:rPr>
              <a:t>plan</a:t>
            </a: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-GIS GmbH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Gustav-Elster-Str. 1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26789 Leer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E-Mail: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Frutiger Light"/>
                <a:hlinkClick r:id="rId2"/>
              </a:rPr>
              <a:t>f.meyer@plan-gis.de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ight"/>
              </a:rPr>
              <a:t>Internet: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Frutiger Light"/>
                <a:hlinkClick r:id="rId3"/>
              </a:rPr>
              <a:t>www.plan-gis.de</a:t>
            </a: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NC Abdeckung Nordsee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84400"/>
            <a:ext cx="68961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NC Abdeckung Ostsee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Frutiger 55 Roman"/>
              </a:rPr>
              <a:t>ENCs in ArcGIS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Entschlüsseln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Frutiger Light"/>
              </a:rPr>
              <a:t>plan</a:t>
            </a: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-GIS Decrypter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Konvertieren in SENC (ArcGIS Nautical Data Model – Personal Geodatabase)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ESRI S-57 Importer und Exporter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Symbolisieren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NOAA ENC Data Handler Extension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rweiterung laden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NC Manager öffnen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Geodatabase laden I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33680" y="1197000"/>
            <a:ext cx="6178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Geodatabase laden II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9360" y="134136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Geodatabase laden III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47720" y="1268280"/>
            <a:ext cx="6093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rgebnis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47720" y="1268280"/>
            <a:ext cx="6093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Geodatabase anlegen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utiger 55 Roman"/>
              </a:rPr>
              <a:t>Was ist die digitale Seekarte?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Digitale Repräsentation der Papierseekarte als Datensatz im Rasterformat oder im Vektorformat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RNC: Raster Navigational Chart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ENC: Electronic Navigational Chart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NC laden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utiger 55 Roman"/>
              </a:rPr>
              <a:t>ENC Konvertierung und Import I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1469880"/>
            <a:ext cx="601956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Import Fehlerreport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utiger 55 Roman"/>
              </a:rPr>
              <a:t>ENC Konvertierung und Import II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47720" y="1434960"/>
            <a:ext cx="6093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Daten-Export?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19360" y="1341360"/>
            <a:ext cx="609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Nicht möglich!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47720" y="1290600"/>
            <a:ext cx="6093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Weiterführende Links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IMO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1"/>
              </a:rPr>
              <a:t>www.imo.org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IHO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2"/>
              </a:rPr>
              <a:t>www.iho.shom.fr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IC-ENC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3"/>
              </a:rPr>
              <a:t>www.ic-enc.org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Primar Stavanger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4"/>
              </a:rPr>
              <a:t>www.primar-stavanger.org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BSH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5"/>
              </a:rPr>
              <a:t>www.bsh.de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Admiralty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6"/>
              </a:rPr>
              <a:t>www.ukho.gov.uk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NOAA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7"/>
              </a:rPr>
              <a:t>www.csc.noaa.gov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OpenECDIS: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Frutiger Light"/>
                <a:hlinkClick r:id="rId8"/>
              </a:rPr>
              <a:t>www.openecdis.org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rutiger Light"/>
              </a:rPr>
              <a:t>Vielen Dank für Ihre Aufmerksamkeit</a:t>
            </a:r>
            <a:endParaRPr b="0" lang="en-US" sz="66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Frutiger 55 Roman"/>
              </a:rPr>
              <a:t>Rasterkarte (Maptech, BSB)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62240" y="1425600"/>
            <a:ext cx="6665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Frutiger 55 Roman"/>
              </a:rPr>
              <a:t>Vektorkarte (Admiralty, S-57) 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62240" y="1341360"/>
            <a:ext cx="6665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Frutiger 55 Roman"/>
              </a:rPr>
              <a:t>Vektorkarte in SeeMyDEnc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961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utiger 55 Roman"/>
              </a:rPr>
              <a:t>Was ist die digitale Seekarte?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Frutiger Light"/>
              </a:rPr>
              <a:t>Digitale Repräsentation der Papierseekarte als Datensatz im Rasterformat oder im Vektorformat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lvl="1" marL="698400" indent="-268560">
              <a:spcBef>
                <a:spcPts val="601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Frutiger Light"/>
              </a:rPr>
              <a:t>RNC: Raster Navigational Chart</a:t>
            </a:r>
            <a:endParaRPr b="0" lang="en-US" sz="2400" spc="-1" strike="noStrike">
              <a:solidFill>
                <a:srgbClr val="000000"/>
              </a:solidFill>
              <a:latin typeface="Frutiger Light"/>
            </a:endParaRPr>
          </a:p>
          <a:p>
            <a:pPr lvl="1" marL="698400" indent="-268560">
              <a:spcBef>
                <a:spcPts val="601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Frutiger Light"/>
              </a:rPr>
              <a:t>ENC: Electronic Navigational Chart</a:t>
            </a:r>
            <a:endParaRPr b="0" lang="en-US" sz="2400" spc="-1" strike="noStrike">
              <a:solidFill>
                <a:srgbClr val="000000"/>
              </a:solidFill>
              <a:latin typeface="Frutiger Light"/>
            </a:endParaRPr>
          </a:p>
          <a:p>
            <a:pPr marL="322200" indent="-322200">
              <a:spcBef>
                <a:spcPts val="700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Datengrundlage für elektronische Seekartensysteme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lvl="1" marL="698400" indent="-268560">
              <a:spcBef>
                <a:spcPts val="601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ight"/>
              </a:rPr>
              <a:t>RCDS: Raster Chart Display System</a:t>
            </a:r>
            <a:endParaRPr b="0" lang="en-US" sz="2400" spc="-1" strike="noStrike">
              <a:solidFill>
                <a:srgbClr val="000000"/>
              </a:solidFill>
              <a:latin typeface="Frutiger Light"/>
            </a:endParaRPr>
          </a:p>
          <a:p>
            <a:pPr lvl="1" marL="698400" indent="-268560">
              <a:spcBef>
                <a:spcPts val="601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ight"/>
              </a:rPr>
              <a:t>ECS: Electronic Chart System</a:t>
            </a:r>
            <a:endParaRPr b="0" lang="en-US" sz="2400" spc="-1" strike="noStrike">
              <a:solidFill>
                <a:srgbClr val="000000"/>
              </a:solidFill>
              <a:latin typeface="Frutiger Light"/>
            </a:endParaRPr>
          </a:p>
          <a:p>
            <a:pPr lvl="1" marL="698400" indent="-268560">
              <a:spcBef>
                <a:spcPts val="601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ight"/>
              </a:rPr>
              <a:t>ECDIS: Electronic Chart Display and Information System</a:t>
            </a:r>
            <a:endParaRPr b="0" lang="en-US" sz="24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utiger 55 Roman"/>
              </a:rPr>
              <a:t>Was ist die Elektronische Seekarte?</a:t>
            </a:r>
            <a:endParaRPr b="1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Eine allgemeine Bezeichnung für ein interaktives, nautisches Informationssystem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marL="305280" indent="-3052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Besteht aus Daten, Software und Hardware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marL="305280" indent="-3052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Besitzt verschiedene Ausprägungen: ECS, ECDIS, RCDS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marL="305280" indent="-3052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ECDIS kann die Papierseekarte ersetzen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marL="305280" indent="-3052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ight"/>
              </a:rPr>
              <a:t>Ermöglicht Anbindung verschiedener Navigationssensoren (GPS, DGPS, RADAR)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Frutiger 55 Roman"/>
              </a:rPr>
              <a:t>Was sind ENCs und SENCs?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ENC: Electronic Navigational Chart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Offizielles Datenaustauschformat nach dem S-57 Standard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  <a:p>
            <a:pPr marL="343080" indent="-343080">
              <a:spcBef>
                <a:spcPts val="799"/>
              </a:spcBef>
              <a:buClr>
                <a:srgbClr val="4744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ight"/>
              </a:rPr>
              <a:t>SENC: System Electronic Navigational Chart</a:t>
            </a:r>
            <a:endParaRPr b="0" lang="en-US" sz="3200" spc="-1" strike="noStrike">
              <a:solidFill>
                <a:srgbClr val="000000"/>
              </a:solidFill>
              <a:latin typeface="Frutiger Light"/>
            </a:endParaRPr>
          </a:p>
          <a:p>
            <a:pPr lvl="1" marL="743040" indent="-285840">
              <a:spcBef>
                <a:spcPts val="700"/>
              </a:spcBef>
              <a:buClr>
                <a:srgbClr val="ac001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ight"/>
              </a:rPr>
              <a:t>Konvertierte ENC im Format der Anwendung</a:t>
            </a:r>
            <a:endParaRPr b="0" lang="en-US" sz="2800" spc="-1" strike="noStrike">
              <a:solidFill>
                <a:srgbClr val="000000"/>
              </a:solidFill>
              <a:latin typeface="Frutiger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55 Roman"/>
              </a:rPr>
              <a:t>ENC Vertriebsstruktur</a:t>
            </a:r>
            <a:endParaRPr b="1" lang="en-US" sz="44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06600" y="1268280"/>
            <a:ext cx="4784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6:29:41Z</dcterms:created>
  <dc:creator>Fabian Meyer</dc:creator>
  <dc:description/>
  <dc:language>en-US</dc:language>
  <cp:lastModifiedBy>Fabian Meyer</cp:lastModifiedBy>
  <dcterms:modified xsi:type="dcterms:W3CDTF">2005-10-17T13:09:41Z</dcterms:modified>
  <cp:revision>46</cp:revision>
  <dc:subject/>
  <dc:title>Digitale Seekarten in ArcGIS nutzen</dc:title>
</cp:coreProperties>
</file>