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wmf" ContentType="image/x-wmf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6.jpeg" ContentType="image/jpeg"/>
  <Override PartName="/ppt/media/image23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DB60-D01F-401C-9DE1-83257640C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8A82-A36D-4E83-A4D7-D13B05E2D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90EF-C401-4A57-AB78-8C3648442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052F-23D5-43C8-856D-5E00E069C5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730E-49DA-4B10-A3BD-0DA5C7179D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138B-52A0-444D-8730-29D596544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D858-8DFB-4B5F-AA49-2C766660A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73BE7-7E6F-40F8-93FA-5645647BB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685800"/>
            <a:ext cx="708660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9B3E-2172-4218-8946-866998294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C44CE-134E-4940-84AC-A7846C249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ED6A8-E129-46A5-B799-50FCFB4D9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681120"/>
            <a:ext cx="7086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36467-02ED-4F5E-B530-4C13F817F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1268280"/>
            <a:ext cx="8281800" cy="0"/>
          </a:xfrm>
          <a:prstGeom prst="line">
            <a:avLst/>
          </a:prstGeom>
          <a:ln w="9360">
            <a:solidFill>
              <a:srgbClr val="007f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fa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453360"/>
            <a:ext cx="7200720" cy="304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Verdana"/>
              </a:rPr>
              <a:t>Lage- und Höhensysteme an Nord- und Ostsee, GIS-Küst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18280" y="879480"/>
            <a:ext cx="192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304920"/>
            <a:ext cx="380880" cy="304560"/>
          </a:xfrm>
          <a:prstGeom prst="rect">
            <a:avLst/>
          </a:prstGeom>
          <a:solidFill>
            <a:srgbClr val="00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304920"/>
            <a:ext cx="228600" cy="304560"/>
          </a:xfrm>
          <a:prstGeom prst="rect">
            <a:avLst/>
          </a:prstGeom>
          <a:solidFill>
            <a:srgbClr val="00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304920"/>
            <a:ext cx="152640" cy="304560"/>
          </a:xfrm>
          <a:prstGeom prst="rect">
            <a:avLst/>
          </a:prstGeom>
          <a:solidFill>
            <a:srgbClr val="00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95280" y="304920"/>
            <a:ext cx="76320" cy="304560"/>
          </a:xfrm>
          <a:prstGeom prst="rect">
            <a:avLst/>
          </a:prstGeom>
          <a:solidFill>
            <a:srgbClr val="007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077320" y="6454800"/>
            <a:ext cx="761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8EA5-C56B-4853-8ED2-E4F6FC577DDC}" type="slidenum">
              <a:rPr b="0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11280" y="6453360"/>
            <a:ext cx="828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596360" y="115920"/>
            <a:ext cx="139536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5181480" y="3733920"/>
            <a:ext cx="3047760" cy="2329920"/>
            <a:chOff x="5181480" y="3733920"/>
            <a:chExt cx="3047760" cy="232992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439240" y="4088160"/>
              <a:ext cx="2220480" cy="197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81480" y="5555160"/>
              <a:ext cx="3618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52040" y="558324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59720" y="540252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25600" y="543060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20600" y="3733920"/>
              <a:ext cx="309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92240" y="37616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7013520" y="4889160"/>
              <a:ext cx="18000" cy="739800"/>
              <a:chOff x="7013520" y="4889160"/>
              <a:chExt cx="18000" cy="739800"/>
            </a:xfrm>
          </p:grpSpPr>
          <p:sp>
            <p:nvSpPr>
              <p:cNvPr id="57" name=""/>
              <p:cNvSpPr/>
              <p:nvPr/>
            </p:nvSpPr>
            <p:spPr>
              <a:xfrm>
                <a:off x="7013520" y="488916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013520" y="4926960"/>
                <a:ext cx="18000" cy="19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013520" y="496440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13520" y="500220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013520" y="504000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13520" y="507780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013520" y="511704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013520" y="515484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13520" y="5192640"/>
                <a:ext cx="18000" cy="17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013520" y="523008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013520" y="526824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013520" y="530568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13520" y="534384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013520" y="538128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013520" y="541872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13520" y="545832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13520" y="5496120"/>
                <a:ext cx="18000" cy="17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013520" y="553392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13520" y="5571720"/>
                <a:ext cx="18000" cy="19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013520" y="560952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6189480" y="5366520"/>
              <a:ext cx="839880" cy="260280"/>
              <a:chOff x="6189480" y="5366520"/>
              <a:chExt cx="839880" cy="260280"/>
            </a:xfrm>
          </p:grpSpPr>
          <p:sp>
            <p:nvSpPr>
              <p:cNvPr id="78" name=""/>
              <p:cNvSpPr/>
              <p:nvPr/>
            </p:nvSpPr>
            <p:spPr>
              <a:xfrm>
                <a:off x="7004520" y="560232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3" y="30"/>
                    </a:moveTo>
                    <a:lnTo>
                      <a:pt x="29" y="8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3" y="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967800" y="5592600"/>
                <a:ext cx="24840" cy="230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930720" y="558108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894000" y="557172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857280" y="556020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29"/>
                    </a:moveTo>
                    <a:lnTo>
                      <a:pt x="29" y="8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820200" y="554868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1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1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782040" y="553860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1" y="28"/>
                    </a:moveTo>
                    <a:lnTo>
                      <a:pt x="28" y="7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1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45320" y="5528880"/>
                <a:ext cx="24840" cy="230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2" y="29"/>
                    </a:moveTo>
                    <a:lnTo>
                      <a:pt x="28" y="7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08240" y="551736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2" y="30"/>
                    </a:moveTo>
                    <a:lnTo>
                      <a:pt x="28" y="8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71520" y="550584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29"/>
                    </a:moveTo>
                    <a:lnTo>
                      <a:pt x="29" y="7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34800" y="5496120"/>
                <a:ext cx="23040" cy="223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29"/>
                    </a:moveTo>
                    <a:lnTo>
                      <a:pt x="29" y="7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97720" y="548460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9200" y="5474520"/>
                <a:ext cx="23400" cy="230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24280" y="5463360"/>
                <a:ext cx="23040" cy="223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85400" y="545184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48680" y="5441760"/>
                <a:ext cx="23400" cy="230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2" y="28"/>
                    </a:moveTo>
                    <a:lnTo>
                      <a:pt x="29" y="6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11960" y="543204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2" y="28"/>
                    </a:moveTo>
                    <a:lnTo>
                      <a:pt x="29" y="7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74880" y="5418720"/>
                <a:ext cx="23400" cy="248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36720" y="5409000"/>
                <a:ext cx="24840" cy="230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7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99640" y="539928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3" y="29"/>
                    </a:moveTo>
                    <a:lnTo>
                      <a:pt x="29" y="7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262920" y="5387760"/>
                <a:ext cx="23040" cy="223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2" y="29"/>
                    </a:moveTo>
                    <a:lnTo>
                      <a:pt x="28" y="7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26200" y="537624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23" y="29"/>
                    </a:moveTo>
                    <a:lnTo>
                      <a:pt x="30" y="7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89480" y="536652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1" y="29"/>
                    </a:moveTo>
                    <a:lnTo>
                      <a:pt x="28" y="7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1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046640" y="5430600"/>
              <a:ext cx="485280" cy="209880"/>
              <a:chOff x="7046640" y="5430600"/>
              <a:chExt cx="485280" cy="209880"/>
            </a:xfrm>
          </p:grpSpPr>
          <p:sp>
            <p:nvSpPr>
              <p:cNvPr id="102" name=""/>
              <p:cNvSpPr/>
              <p:nvPr/>
            </p:nvSpPr>
            <p:spPr>
              <a:xfrm>
                <a:off x="7046640" y="5614200"/>
                <a:ext cx="25200" cy="2628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0" y="9"/>
                    </a:moveTo>
                    <a:lnTo>
                      <a:pt x="9" y="30"/>
                    </a:lnTo>
                    <a:lnTo>
                      <a:pt x="29" y="21"/>
                    </a:lnTo>
                    <a:lnTo>
                      <a:pt x="2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83360" y="5599800"/>
                <a:ext cx="23400" cy="259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9"/>
                    </a:moveTo>
                    <a:lnTo>
                      <a:pt x="9" y="30"/>
                    </a:lnTo>
                    <a:lnTo>
                      <a:pt x="30" y="21"/>
                    </a:lnTo>
                    <a:lnTo>
                      <a:pt x="2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18640" y="558468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9"/>
                    </a:moveTo>
                    <a:lnTo>
                      <a:pt x="9" y="30"/>
                    </a:lnTo>
                    <a:lnTo>
                      <a:pt x="31" y="21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53920" y="557172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9"/>
                    </a:moveTo>
                    <a:lnTo>
                      <a:pt x="9" y="31"/>
                    </a:lnTo>
                    <a:lnTo>
                      <a:pt x="31" y="22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90640" y="555696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9"/>
                    </a:moveTo>
                    <a:lnTo>
                      <a:pt x="9" y="31"/>
                    </a:lnTo>
                    <a:lnTo>
                      <a:pt x="30" y="22"/>
                    </a:lnTo>
                    <a:lnTo>
                      <a:pt x="2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25560" y="55422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9"/>
                    </a:moveTo>
                    <a:lnTo>
                      <a:pt x="9" y="31"/>
                    </a:lnTo>
                    <a:lnTo>
                      <a:pt x="31" y="22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60840" y="55288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9"/>
                    </a:moveTo>
                    <a:lnTo>
                      <a:pt x="9" y="31"/>
                    </a:lnTo>
                    <a:lnTo>
                      <a:pt x="31" y="22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97920" y="551412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9"/>
                    </a:moveTo>
                    <a:lnTo>
                      <a:pt x="9" y="31"/>
                    </a:lnTo>
                    <a:lnTo>
                      <a:pt x="29" y="22"/>
                    </a:lnTo>
                    <a:lnTo>
                      <a:pt x="2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32840" y="549972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9"/>
                    </a:moveTo>
                    <a:lnTo>
                      <a:pt x="9" y="31"/>
                    </a:lnTo>
                    <a:lnTo>
                      <a:pt x="31" y="22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68120" y="5484600"/>
                <a:ext cx="26640" cy="2592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9"/>
                    </a:moveTo>
                    <a:lnTo>
                      <a:pt x="9" y="30"/>
                    </a:lnTo>
                    <a:lnTo>
                      <a:pt x="31" y="21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04840" y="5469840"/>
                <a:ext cx="24840" cy="262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9"/>
                    </a:moveTo>
                    <a:lnTo>
                      <a:pt x="9" y="30"/>
                    </a:lnTo>
                    <a:lnTo>
                      <a:pt x="30" y="21"/>
                    </a:lnTo>
                    <a:lnTo>
                      <a:pt x="2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40120" y="545508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9"/>
                    </a:moveTo>
                    <a:lnTo>
                      <a:pt x="9" y="30"/>
                    </a:lnTo>
                    <a:lnTo>
                      <a:pt x="31" y="21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477200" y="544212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9"/>
                    </a:moveTo>
                    <a:lnTo>
                      <a:pt x="9" y="31"/>
                    </a:lnTo>
                    <a:lnTo>
                      <a:pt x="31" y="22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12120" y="5430600"/>
                <a:ext cx="19800" cy="212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5"/>
                    </a:moveTo>
                    <a:lnTo>
                      <a:pt x="9" y="27"/>
                    </a:lnTo>
                    <a:lnTo>
                      <a:pt x="23" y="22"/>
                    </a:lnTo>
                    <a:lnTo>
                      <a:pt x="1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377400" y="3953880"/>
              <a:ext cx="1704240" cy="1509480"/>
              <a:chOff x="6377400" y="3953880"/>
              <a:chExt cx="1704240" cy="15094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77400" y="3953880"/>
                <a:ext cx="1704240" cy="15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77400" y="3953880"/>
                <a:ext cx="1704240" cy="1509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"/>
            <p:cNvSpPr/>
            <p:nvPr/>
          </p:nvSpPr>
          <p:spPr>
            <a:xfrm>
              <a:off x="6884640" y="3733920"/>
              <a:ext cx="3114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64560" y="3763080"/>
              <a:ext cx="12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0000"/>
                  </a:solidFill>
                  <a:latin typeface="Verdana"/>
                </a:rPr>
                <a:t>Z‘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53160" y="5276520"/>
              <a:ext cx="3096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30920" y="530604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0000"/>
                  </a:solidFill>
                  <a:latin typeface="Verdana"/>
                </a:rPr>
                <a:t>X‘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17480" y="4846320"/>
              <a:ext cx="3117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90920" y="4875840"/>
              <a:ext cx="122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0000"/>
                  </a:solidFill>
                  <a:latin typeface="Verdana"/>
                </a:rPr>
                <a:t>Y‘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5555160"/>
              <a:ext cx="3618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2040" y="558324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59720" y="5402520"/>
              <a:ext cx="36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5600" y="543060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20600" y="3733920"/>
              <a:ext cx="309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92240" y="3761640"/>
              <a:ext cx="11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7013520" y="4889160"/>
              <a:ext cx="18000" cy="739800"/>
              <a:chOff x="7013520" y="4889160"/>
              <a:chExt cx="18000" cy="739800"/>
            </a:xfrm>
          </p:grpSpPr>
          <p:sp>
            <p:nvSpPr>
              <p:cNvPr id="132" name=""/>
              <p:cNvSpPr/>
              <p:nvPr/>
            </p:nvSpPr>
            <p:spPr>
              <a:xfrm>
                <a:off x="7013520" y="488916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13520" y="4926960"/>
                <a:ext cx="18000" cy="19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13520" y="496440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13520" y="500220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13520" y="504000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13520" y="507780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013520" y="511704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013520" y="515484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013520" y="5192640"/>
                <a:ext cx="18000" cy="17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13520" y="523008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3520" y="526824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3520" y="530568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013520" y="534384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013520" y="538128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013520" y="541872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13520" y="545832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13520" y="5496120"/>
                <a:ext cx="18000" cy="176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13520" y="5533920"/>
                <a:ext cx="18000" cy="18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13520" y="5571720"/>
                <a:ext cx="18000" cy="19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13520" y="5609520"/>
                <a:ext cx="18000" cy="19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6189480" y="5366520"/>
              <a:ext cx="839880" cy="260280"/>
              <a:chOff x="6189480" y="5366520"/>
              <a:chExt cx="839880" cy="260280"/>
            </a:xfrm>
          </p:grpSpPr>
          <p:sp>
            <p:nvSpPr>
              <p:cNvPr id="153" name=""/>
              <p:cNvSpPr/>
              <p:nvPr/>
            </p:nvSpPr>
            <p:spPr>
              <a:xfrm>
                <a:off x="7004520" y="560232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3" y="30"/>
                    </a:moveTo>
                    <a:lnTo>
                      <a:pt x="29" y="8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3" y="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967800" y="5592600"/>
                <a:ext cx="24840" cy="230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930720" y="558108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94000" y="557172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7280" y="556020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29"/>
                    </a:moveTo>
                    <a:lnTo>
                      <a:pt x="29" y="8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820200" y="554868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1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1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82040" y="553860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1" y="28"/>
                    </a:moveTo>
                    <a:lnTo>
                      <a:pt x="28" y="7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1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745320" y="5528880"/>
                <a:ext cx="24840" cy="230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2" y="29"/>
                    </a:moveTo>
                    <a:lnTo>
                      <a:pt x="28" y="7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708240" y="551736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22" y="30"/>
                    </a:moveTo>
                    <a:lnTo>
                      <a:pt x="28" y="8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3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71520" y="550584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29"/>
                    </a:moveTo>
                    <a:lnTo>
                      <a:pt x="29" y="7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34800" y="5496120"/>
                <a:ext cx="23040" cy="223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2" y="29"/>
                    </a:moveTo>
                    <a:lnTo>
                      <a:pt x="29" y="7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597720" y="548460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59200" y="5474520"/>
                <a:ext cx="23400" cy="230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24280" y="5463360"/>
                <a:ext cx="23040" cy="223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85400" y="545184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48680" y="5441760"/>
                <a:ext cx="23400" cy="2304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2" y="28"/>
                    </a:moveTo>
                    <a:lnTo>
                      <a:pt x="29" y="6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11960" y="5432040"/>
                <a:ext cx="23400" cy="2232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22" y="28"/>
                    </a:moveTo>
                    <a:lnTo>
                      <a:pt x="29" y="7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374880" y="5418720"/>
                <a:ext cx="23400" cy="248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6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36720" y="5409000"/>
                <a:ext cx="24840" cy="2304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22" y="28"/>
                    </a:moveTo>
                    <a:lnTo>
                      <a:pt x="28" y="7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2" y="2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99640" y="539928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3" y="29"/>
                    </a:moveTo>
                    <a:lnTo>
                      <a:pt x="29" y="7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62920" y="5387760"/>
                <a:ext cx="23040" cy="223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2" y="29"/>
                    </a:moveTo>
                    <a:lnTo>
                      <a:pt x="28" y="7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26200" y="537624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23" y="29"/>
                    </a:moveTo>
                    <a:lnTo>
                      <a:pt x="30" y="7"/>
                    </a:lnTo>
                    <a:lnTo>
                      <a:pt x="7" y="0"/>
                    </a:lnTo>
                    <a:lnTo>
                      <a:pt x="0" y="22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189480" y="5366520"/>
                <a:ext cx="23040" cy="2304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21" y="29"/>
                    </a:moveTo>
                    <a:lnTo>
                      <a:pt x="28" y="7"/>
                    </a:lnTo>
                    <a:lnTo>
                      <a:pt x="6" y="0"/>
                    </a:lnTo>
                    <a:lnTo>
                      <a:pt x="0" y="22"/>
                    </a:lnTo>
                    <a:lnTo>
                      <a:pt x="21" y="2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7046640" y="5430600"/>
              <a:ext cx="485280" cy="209880"/>
              <a:chOff x="7046640" y="5430600"/>
              <a:chExt cx="485280" cy="209880"/>
            </a:xfrm>
          </p:grpSpPr>
          <p:sp>
            <p:nvSpPr>
              <p:cNvPr id="177" name=""/>
              <p:cNvSpPr/>
              <p:nvPr/>
            </p:nvSpPr>
            <p:spPr>
              <a:xfrm>
                <a:off x="7046640" y="5614200"/>
                <a:ext cx="25200" cy="2628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0" y="9"/>
                    </a:moveTo>
                    <a:lnTo>
                      <a:pt x="9" y="30"/>
                    </a:lnTo>
                    <a:lnTo>
                      <a:pt x="29" y="21"/>
                    </a:lnTo>
                    <a:lnTo>
                      <a:pt x="2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083360" y="5599800"/>
                <a:ext cx="23400" cy="259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9"/>
                    </a:moveTo>
                    <a:lnTo>
                      <a:pt x="9" y="30"/>
                    </a:lnTo>
                    <a:lnTo>
                      <a:pt x="30" y="21"/>
                    </a:lnTo>
                    <a:lnTo>
                      <a:pt x="2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18640" y="558468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9"/>
                    </a:moveTo>
                    <a:lnTo>
                      <a:pt x="9" y="30"/>
                    </a:lnTo>
                    <a:lnTo>
                      <a:pt x="31" y="21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53920" y="557172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9"/>
                    </a:moveTo>
                    <a:lnTo>
                      <a:pt x="9" y="31"/>
                    </a:lnTo>
                    <a:lnTo>
                      <a:pt x="31" y="22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90640" y="555696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9"/>
                    </a:moveTo>
                    <a:lnTo>
                      <a:pt x="9" y="31"/>
                    </a:lnTo>
                    <a:lnTo>
                      <a:pt x="30" y="22"/>
                    </a:lnTo>
                    <a:lnTo>
                      <a:pt x="2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25560" y="55422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9"/>
                    </a:moveTo>
                    <a:lnTo>
                      <a:pt x="9" y="31"/>
                    </a:lnTo>
                    <a:lnTo>
                      <a:pt x="31" y="22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60840" y="55288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9"/>
                    </a:moveTo>
                    <a:lnTo>
                      <a:pt x="9" y="31"/>
                    </a:lnTo>
                    <a:lnTo>
                      <a:pt x="31" y="22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97920" y="551412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29" h="31">
                    <a:moveTo>
                      <a:pt x="0" y="9"/>
                    </a:moveTo>
                    <a:lnTo>
                      <a:pt x="9" y="31"/>
                    </a:lnTo>
                    <a:lnTo>
                      <a:pt x="29" y="22"/>
                    </a:lnTo>
                    <a:lnTo>
                      <a:pt x="2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32840" y="5499720"/>
                <a:ext cx="26640" cy="24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9"/>
                    </a:moveTo>
                    <a:lnTo>
                      <a:pt x="9" y="31"/>
                    </a:lnTo>
                    <a:lnTo>
                      <a:pt x="31" y="22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68120" y="5484600"/>
                <a:ext cx="26640" cy="2592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9"/>
                    </a:moveTo>
                    <a:lnTo>
                      <a:pt x="9" y="30"/>
                    </a:lnTo>
                    <a:lnTo>
                      <a:pt x="31" y="21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404840" y="5469840"/>
                <a:ext cx="24840" cy="2628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0" y="9"/>
                    </a:moveTo>
                    <a:lnTo>
                      <a:pt x="9" y="30"/>
                    </a:lnTo>
                    <a:lnTo>
                      <a:pt x="30" y="21"/>
                    </a:lnTo>
                    <a:lnTo>
                      <a:pt x="2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40120" y="5455080"/>
                <a:ext cx="26280" cy="2628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0" y="9"/>
                    </a:moveTo>
                    <a:lnTo>
                      <a:pt x="9" y="30"/>
                    </a:lnTo>
                    <a:lnTo>
                      <a:pt x="31" y="21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477200" y="544212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9"/>
                    </a:moveTo>
                    <a:lnTo>
                      <a:pt x="9" y="31"/>
                    </a:lnTo>
                    <a:lnTo>
                      <a:pt x="31" y="22"/>
                    </a:lnTo>
                    <a:lnTo>
                      <a:pt x="2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12120" y="5430600"/>
                <a:ext cx="19800" cy="2124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0" y="5"/>
                    </a:moveTo>
                    <a:lnTo>
                      <a:pt x="9" y="27"/>
                    </a:lnTo>
                    <a:lnTo>
                      <a:pt x="23" y="22"/>
                    </a:lnTo>
                    <a:lnTo>
                      <a:pt x="1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377400" y="3953880"/>
              <a:ext cx="1704240" cy="1509480"/>
              <a:chOff x="6377400" y="3953880"/>
              <a:chExt cx="1704240" cy="1509480"/>
            </a:xfrm>
          </p:grpSpPr>
          <p:pic>
            <p:nvPicPr>
              <p:cNvPr id="19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77400" y="3953880"/>
                <a:ext cx="1704240" cy="15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377400" y="3953880"/>
                <a:ext cx="1704240" cy="1509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"/>
            <p:cNvSpPr/>
            <p:nvPr/>
          </p:nvSpPr>
          <p:spPr>
            <a:xfrm>
              <a:off x="6884640" y="3733920"/>
              <a:ext cx="3114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64560" y="3763080"/>
              <a:ext cx="124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0000"/>
                  </a:solidFill>
                  <a:latin typeface="Verdana"/>
                </a:rPr>
                <a:t>Z‘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3160" y="5276520"/>
              <a:ext cx="3096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30920" y="530604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0000"/>
                  </a:solidFill>
                  <a:latin typeface="Verdana"/>
                </a:rPr>
                <a:t>X‘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17480" y="4846320"/>
              <a:ext cx="31176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90920" y="4875840"/>
              <a:ext cx="122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300" spc="-1" strike="noStrike">
                  <a:solidFill>
                    <a:srgbClr val="ff0000"/>
                  </a:solidFill>
                  <a:latin typeface="Verdana"/>
                </a:rPr>
                <a:t>Y‘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1676520"/>
            <a:ext cx="7696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Lage- und Höhensysteme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Verdana"/>
              </a:rPr>
              <a:t>an der Nord- und Ostsee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pl.-Ing. Birgit Thomsen</a:t>
            </a:r>
            <a:endParaRPr b="1" lang="en-US" sz="2000" spc="-1" strike="noStrike">
              <a:solidFill>
                <a:srgbClr val="007faa"/>
              </a:solidFill>
              <a:latin typeface="Verdana"/>
            </a:endParaRPr>
          </a:p>
        </p:txBody>
      </p:sp>
      <p:pic>
        <p:nvPicPr>
          <p:cNvPr id="201" name="FIG040405D_EIGEN-CHGR01C_web_1_t" descr=""/>
          <p:cNvPicPr/>
          <p:nvPr/>
        </p:nvPicPr>
        <p:blipFill>
          <a:blip r:embed="rId6"/>
          <a:srcRect l="6003" t="6003" r="0" b="6003"/>
          <a:stretch/>
        </p:blipFill>
        <p:spPr>
          <a:xfrm>
            <a:off x="762120" y="3906720"/>
            <a:ext cx="2286000" cy="214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6D65-675E-49C4-BE78-A93E2AD69B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755640"/>
            <a:ext cx="735012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Lagesysteme in den Nachbarländern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28600" y="1557360"/>
          <a:ext cx="8763120" cy="412272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1676520"/>
                <a:gridCol w="1828800"/>
                <a:gridCol w="2286000"/>
              </a:tblGrid>
              <a:tr h="63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(GC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s-pun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ipso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ederlan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jksdriehoeks Datum (R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rsfo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sel 18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forme Doppelprojektion (stereographis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/58 Pulko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lkowo, Russ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rassowski 1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reographisch, Transverse Merc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en (19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RF 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Sta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S 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verse Mercator (GK, eine Z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en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RF 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Statio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S 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verse Mercator (GK, vier 3°-Streif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äne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ropäisches Datum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ts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yford 1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versal Transvers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kator (UT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5158800" y="5943600"/>
            <a:ext cx="369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Quelle: Bundesamt f. Kartographie und Geodäsi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de-DE" sz="1200" spc="-1" strike="noStrike">
                <a:solidFill>
                  <a:srgbClr val="000000"/>
                </a:solidFill>
                <a:latin typeface="Verdana"/>
              </a:rPr>
              <a:t>http://crs.bkg.bund.de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BD2EF-97CB-4124-96FA-8BFD4954A5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457200" y="1295280"/>
            <a:ext cx="6556320" cy="3270240"/>
            <a:chOff x="457200" y="1295280"/>
            <a:chExt cx="6556320" cy="3270240"/>
          </a:xfrm>
        </p:grpSpPr>
        <p:grpSp>
          <p:nvGrpSpPr>
            <p:cNvPr id="305" name=""/>
            <p:cNvGrpSpPr/>
            <p:nvPr/>
          </p:nvGrpSpPr>
          <p:grpSpPr>
            <a:xfrm>
              <a:off x="457200" y="1295280"/>
              <a:ext cx="6556320" cy="3270240"/>
              <a:chOff x="457200" y="1295280"/>
              <a:chExt cx="6556320" cy="3270240"/>
            </a:xfrm>
          </p:grpSpPr>
          <p:pic>
            <p:nvPicPr>
              <p:cNvPr id="306" name="ell_oth_Hoehe3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295280"/>
                <a:ext cx="6556320" cy="3270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7" name=""/>
              <p:cNvGrpSpPr/>
              <p:nvPr/>
            </p:nvGrpSpPr>
            <p:grpSpPr>
              <a:xfrm>
                <a:off x="1387440" y="2750760"/>
                <a:ext cx="92160" cy="74160"/>
                <a:chOff x="1387440" y="2750760"/>
                <a:chExt cx="92160" cy="741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405440" y="2750760"/>
                  <a:ext cx="74160" cy="1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1387440" y="2750760"/>
                  <a:ext cx="18000" cy="7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523880" y="3733560"/>
                <a:ext cx="76320" cy="76320"/>
                <a:chOff x="1523880" y="3733560"/>
                <a:chExt cx="76320" cy="763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523880" y="3733560"/>
                  <a:ext cx="76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523880" y="3733560"/>
                  <a:ext cx="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012360" y="3802680"/>
                <a:ext cx="90720" cy="73800"/>
                <a:chOff x="6012360" y="3802680"/>
                <a:chExt cx="90720" cy="7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86160" y="3802680"/>
                  <a:ext cx="16920" cy="7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6012360" y="3802680"/>
                  <a:ext cx="73800" cy="1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351400" y="3645360"/>
                <a:ext cx="70200" cy="99720"/>
                <a:chOff x="5351400" y="3645360"/>
                <a:chExt cx="70200" cy="99720"/>
              </a:xfrm>
            </p:grpSpPr>
            <p:sp>
              <p:nvSpPr>
                <p:cNvPr id="317" name=""/>
                <p:cNvSpPr/>
                <p:nvPr/>
              </p:nvSpPr>
              <p:spPr>
                <a:xfrm flipH="1">
                  <a:off x="5392080" y="3674520"/>
                  <a:ext cx="29520" cy="7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 flipV="1">
                  <a:off x="5351400" y="3645360"/>
                  <a:ext cx="70200" cy="2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9" name=""/>
            <p:cNvSpPr/>
            <p:nvPr/>
          </p:nvSpPr>
          <p:spPr>
            <a:xfrm>
              <a:off x="1122840" y="2261880"/>
              <a:ext cx="3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90120" y="2895480"/>
              <a:ext cx="3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05600" y="312408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8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28200" y="3047760"/>
              <a:ext cx="433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de-DE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6896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Höhenbezugsflächen für Landkarten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614160" y="4800600"/>
            <a:ext cx="2687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Geometrische Hö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über Ellips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Physikalische Hö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über Ge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495680"/>
            <a:ext cx="529272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öhe: geometrischer Abstand von ein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      Höhenbezugsfläc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roblem: Definition dieser Bezugsflä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15200" y="1600200"/>
            <a:ext cx="13716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A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h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H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15200" y="1523880"/>
            <a:ext cx="13716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696F-6954-454C-BF04-A5DB4E9D28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6896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Höhendefinitionen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203040" y="1447920"/>
            <a:ext cx="815364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eometrische Höhe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- Entfernung vom 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Referenzellipsoid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entlang der Ellipsoidnormal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- Kein Bezug zum Erdschwerefeld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- Nur durch GPS direkt bestimm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llipsoidische Höhen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sehr unpraktisch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hysikalische Höhen, „Gebrauchshöhen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öhen orientieren sich am Schwerefeld der Er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rthometrische Höhen (H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optimale Definition (Lotlinie Geoid - Erdoberfläche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Nachteil: hypothesenbehaftet</a:t>
            </a:r>
            <a:br>
              <a:rPr sz="1600"/>
            </a:br>
            <a:br>
              <a:rPr sz="8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shalb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Verdana"/>
              </a:rPr>
              <a:t>andere Bezugsfläch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ormal-orthometrische Höhen (N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ormalhöhen (</a:t>
            </a:r>
            <a:r>
              <a:rPr b="0" lang="de-DE" sz="1800" spc="-1" strike="noStrike">
                <a:solidFill>
                  <a:srgbClr val="ff0000"/>
                </a:solidFill>
                <a:latin typeface="Verdana"/>
              </a:rPr>
              <a:t>NH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35840" y="335268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996633"/>
                </a:solidFill>
                <a:latin typeface="Verdana"/>
              </a:rPr>
              <a:t>Topograph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324480" y="3809880"/>
            <a:ext cx="2582640" cy="2643120"/>
            <a:chOff x="6324480" y="3809880"/>
            <a:chExt cx="2582640" cy="2643120"/>
          </a:xfrm>
        </p:grpSpPr>
        <p:pic>
          <p:nvPicPr>
            <p:cNvPr id="332" name="Höhen" descr=""/>
            <p:cNvPicPr/>
            <p:nvPr/>
          </p:nvPicPr>
          <p:blipFill>
            <a:blip r:embed="rId1"/>
            <a:stretch/>
          </p:blipFill>
          <p:spPr>
            <a:xfrm>
              <a:off x="6324480" y="3809880"/>
              <a:ext cx="258264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363080" y="4227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80808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77520" y="4060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80808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46480" y="47883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571720" y="5410080"/>
            <a:ext cx="22564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: ellipsoidische Hö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: Höhe über Ge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: Geoidund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695720" y="3886200"/>
            <a:ext cx="22860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0" y="3733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Verdana"/>
              </a:rPr>
              <a:t>N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8DFE1-E0DE-4792-BCA0-AEA535EF9C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rcRect l="13436" t="0" r="0" b="-73"/>
          <a:stretch/>
        </p:blipFill>
        <p:spPr>
          <a:xfrm>
            <a:off x="4495680" y="2133720"/>
            <a:ext cx="4496040" cy="37987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6896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Festlegung eines Höhensystems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5562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89440" y="597528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ktuelle Höhensyst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4920" y="1447920"/>
            <a:ext cx="75373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s lassen sich nur Höhen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differenze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direkt messen, kein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Absoluthö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stlegung eines Nullpunkt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(Pegelpunk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finition einer Bezugsflä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ssung der Höhenunterschied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und evtl. Schwerewert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in den einzelnen Pun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rechnung der absoluten Höh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nach bestimmten Vorschri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markung von Höhenfestpunkt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als dauerhafte Realisierung de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Höhensystems, z.B. an Gebäu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mmer Kompromisslö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9040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88178-06A6-4918-B975-837AEA2E5A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rcRect l="9836" t="0" r="0" b="0"/>
          <a:stretch/>
        </p:blipFill>
        <p:spPr>
          <a:xfrm>
            <a:off x="4648320" y="2743200"/>
            <a:ext cx="4343400" cy="30607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6896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Festlegung eines Höhensystems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1447920"/>
            <a:ext cx="75373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s lassen sich nur Höhen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differenzen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direkt messen, kein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Absoluthö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stlegung eines Nullpunktes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(Pegelpunk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finition einer Bezugsflä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ssung der Höhenunterschied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und evtl. Schwerewert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in den einzelnen Pun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rechnung der absoluten Höh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nach bestimmten Vorschrif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markung von Höhenfestpunkt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als dauerhafte Realisierung de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Höhensystems, z.B. an Gebäu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mmer Kompromisslös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9880" y="5562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720320" y="59752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e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" y="59040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4642-7BD7-4CB2-9609-6596A84090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71215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Pegel Amsterdam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1600200"/>
            <a:ext cx="8574120" cy="37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Pegel dienen zur Messung der Wasserstandsschwank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ullpunkt Amsterdamer Pege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: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- willkürliche Festlegung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- 17. Jhd.: mittleres Tidehochwass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17cm über mittlerem Wasserstan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- heute: mittlerer Meeresspiegel an d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niederländischen Nordseekü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3 Säulen: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- aktueller Wasserstand der Nordsee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- aktueller Wasserstand der Westerschelde              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- höchster Wasserstand 1953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       (4,55m über Normalpeg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normalnull3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976840" cy="3975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7089-D112-4AD6-BBDF-6EC1643A63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6896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Orthometrische Höhen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3935520"/>
            <a:ext cx="8763120" cy="27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änge der Lotlinie vom Geoid zur Erdoberflä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ssenschaftlich beste Definition einer Höhe (Erdphysi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) Schweremessungen an der Oberflä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) Schwerewerte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entlang der Lotlini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sind nicht messba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ompromiss: Verwendung eines </a:t>
            </a:r>
            <a:r>
              <a:rPr b="0" i="1" lang="de-DE" sz="1600" spc="-1" strike="noStrike">
                <a:solidFill>
                  <a:srgbClr val="000000"/>
                </a:solidFill>
                <a:latin typeface="Verdana"/>
              </a:rPr>
              <a:t>mittleren Schwerewerte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 (Berechnung aus Oberflächenschwere und Annahmen über Schwereverlau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icht eindeutig, hypothesenbehaftet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Höhensysteme" descr=""/>
          <p:cNvPicPr/>
          <p:nvPr/>
        </p:nvPicPr>
        <p:blipFill>
          <a:blip r:embed="rId1"/>
          <a:srcRect l="0" t="61600" r="21070" b="0"/>
          <a:stretch/>
        </p:blipFill>
        <p:spPr>
          <a:xfrm>
            <a:off x="304920" y="1368360"/>
            <a:ext cx="5333760" cy="25257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5834160" y="1447920"/>
            <a:ext cx="320040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öhenbezugsfläche: GE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iveaufläche des Schwerefeldes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läche gleicher potentieller Energi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6140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7CBB-4C2A-4044-9D4C-E4D12D1589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71215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Normal-orthometrische Höhen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pic>
        <p:nvPicPr>
          <p:cNvPr id="360" name="Höhensysteme" descr=""/>
          <p:cNvPicPr/>
          <p:nvPr/>
        </p:nvPicPr>
        <p:blipFill>
          <a:blip r:embed="rId1"/>
          <a:srcRect l="0" t="61600" r="21070" b="0"/>
          <a:stretch/>
        </p:blipFill>
        <p:spPr>
          <a:xfrm>
            <a:off x="304920" y="1376280"/>
            <a:ext cx="5333760" cy="25257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64960" y="3963960"/>
            <a:ext cx="857412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) Keine Schweremessungen, sonder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Berechnung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der Normalschwer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(berechenbar über Referenzellips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achteil: keine Berücksichtigung der lokalen Massen und Topographi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Wegabhängigkeit, Höhenbezugsfläche ist nicht eindeuti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) Berücksichtigung der mittleren Normalschwere (berechenb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ealisierung: Früheres System in West-Deutschland (DHHN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ormalnullpunkt: fiktiver Punkt, 37,000m unterhalb Normalhöhenpun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1447920"/>
            <a:ext cx="312408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öhenbezugsfläche: NORMAL-NULL (N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eine physikalische 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gibt sich durch Abtragen der NO-Höhen von der Oberfläche nach un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61D77-CBDB-4CE4-9E5C-FAA155732B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6896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Normalhöhen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4008600"/>
            <a:ext cx="845820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) Schweremessungen an der Oberfläch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keine Wegabhängigkeit, Bezugsfläche ist eindeutig definier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) Berücksichtigung der mittleren Normalschwere (berechenbar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hypothesenfre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nwendung in vielen Ländern, auch in Deutschland (Beschluss 199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weiterer Vorteil: eindeutige Umrechnung in ellipsoidische Höhe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                       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Höhensysteme" descr=""/>
          <p:cNvPicPr/>
          <p:nvPr/>
        </p:nvPicPr>
        <p:blipFill>
          <a:blip r:embed="rId1"/>
          <a:srcRect l="0" t="61600" r="21070" b="0"/>
          <a:stretch/>
        </p:blipFill>
        <p:spPr>
          <a:xfrm>
            <a:off x="304920" y="1376280"/>
            <a:ext cx="5333760" cy="25257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5791320" y="1447920"/>
            <a:ext cx="312408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öhenbezugsfläche:QUASI-GE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eine Niveaufläche des Erdschwerefel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gibt sich durch Abtragen der Normalhöhen von der Oberfläche nach un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4C2B0-627C-4565-84ED-18166017F7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74200" y="755640"/>
            <a:ext cx="689292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Höhensysteme in Deutschland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28600" y="1676520"/>
          <a:ext cx="8763120" cy="4030560"/>
        </p:xfrm>
        <a:graphic>
          <a:graphicData uri="http://schemas.openxmlformats.org/drawingml/2006/table">
            <a:tbl>
              <a:tblPr/>
              <a:tblGrid>
                <a:gridCol w="1143000"/>
                <a:gridCol w="1571760"/>
                <a:gridCol w="2466720"/>
                <a:gridCol w="1828800"/>
                <a:gridCol w="17528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s-pun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zugsflä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pun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öhen-defi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HHN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rnwarte Berlin (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ppegart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öhen über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-Null (NN), Mittelwasser dt. Kü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gel Amster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-orthometri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HHN 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llenhorst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aus DHHN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öhen über </a:t>
                      </a:r>
                      <a:br>
                        <a:rPr sz="1600"/>
                      </a:b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-Null (NN), Mittelwasser dt. Küs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gel Amster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-orthometri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NN 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ppe-gar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höhen über Höhennull (H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gel Kronstad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hö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92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HHN 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llenhorst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Osnabrü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höhen über Normalhöhen-Null (NH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gel Amster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hö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"/>
          <p:cNvSpPr/>
          <p:nvPr/>
        </p:nvSpPr>
        <p:spPr>
          <a:xfrm>
            <a:off x="5158800" y="5943600"/>
            <a:ext cx="369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Quelle: Bundesamt f. Kartographie und Geodäsi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de-DE" sz="1200" spc="-1" strike="noStrike">
                <a:solidFill>
                  <a:srgbClr val="000000"/>
                </a:solidFill>
                <a:latin typeface="Verdana"/>
              </a:rPr>
              <a:t>http://crs.bkg.bund.de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2EC9-B7DE-4782-B5E5-EE65D338B2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74560" y="685800"/>
            <a:ext cx="42292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Übersicht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6120" y="1665360"/>
            <a:ext cx="815328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odätische Grundlag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Hintergr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Die Figur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Koordinatensysteme (Lage, Hö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agekoordinatensystem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...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...in den Nachbarl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Höhensystem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...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...in den Nachbarl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C4EE-1226-4106-8DDD-A01EF3A993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6896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Höhensysteme der Nachbarländer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14479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urchschnittliche Höhendifferenzen zur Normal-Null-Flä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1981080"/>
          <a:ext cx="8229600" cy="3919680"/>
        </p:xfrm>
        <a:graphic>
          <a:graphicData uri="http://schemas.openxmlformats.org/drawingml/2006/table">
            <a:tbl>
              <a:tblPr/>
              <a:tblGrid>
                <a:gridCol w="1889280"/>
                <a:gridCol w="2023920"/>
                <a:gridCol w="2022480"/>
                <a:gridCol w="22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g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ö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N-Höhe minus Landeshö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utsch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ster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hö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lg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t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thometrische Hö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23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äne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penh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thometrische Hö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ronsta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alhö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16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ederl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ster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thometrische Hö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4853880" y="5943600"/>
            <a:ext cx="369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Quelle: Bundesamt f. Kartographie und Geodäsi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de-DE" sz="1200" spc="-1" strike="noStrike">
                <a:solidFill>
                  <a:srgbClr val="000000"/>
                </a:solidFill>
                <a:latin typeface="Verdana"/>
              </a:rPr>
              <a:t>http://crs.bkg.bund.de/evrs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9EF8-56AD-476C-AFF7-E8B7F63814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5845320" y="3228840"/>
            <a:ext cx="3238200" cy="31910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71215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Bezugsfläche für Nautik: Seekarten-Null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98280" y="1371600"/>
            <a:ext cx="88934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Pegelnull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: Bezugsebene eines Pegels, liegt an der Nordseeküste 5,00m unter 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SKN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Tiefenhorizont, der möglichst selten unterschritten werden sol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  Stimmt nicht mit der Nullfläche der Landesvermessung über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iefen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gaben in den Seekarten: Mindestwassertiefen, Bezug: SK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Bis Ende 2004: Niveau des SKN im Bereich der deutschen Nordseeküste gleich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  Höhe des mittleren Springniedrigwassers (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MSpNW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2005 einheitlicher Bezugshorizont für Anrainerstaaten der Nordse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Neues SKN entspricht dem Niveau des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 niedrigstmöglichen Gezeitenwasserstands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 (Lowest Astronomical Tide, </a:t>
            </a:r>
            <a:r>
              <a:rPr b="1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LAT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LAT liegt im Bereich der deutschen Nordseeküste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  etwa 50 cm unterhalb des MSpNW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SKN in den Seekarten der Ostsee bleibt unverändert,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Arial"/>
              </a:rPr>
              <a:t>   weil LAT nur für Tidengewässer eingeführt wurde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AE10-4B08-40AB-8280-0388FD9C17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4560" y="755640"/>
            <a:ext cx="6896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Zusammenfassung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>
            <a:off x="284040" y="1447920"/>
            <a:ext cx="86932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s gibt europaweit verschiedene Lage- und Höhensyst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messungswesen ist in Deutschland Ländersach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unterschiedliche Lagesysteme auch in den einzelnen Bundesländ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 der Verknüpfung ist Grundlagenwissen und Verständnis fü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diese Problematik w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 Angaben von Koordinaten (Lage und Höhe) gehören immer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Informationen über den jeweiligen Bezug, dann ist eine Umrechn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mögl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terschiede in den Höhen kann man für die meisten Anwendun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 vernachlässigen, im Flachland sind die Bezugsflächen fast gle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kunft: einheitliches Lagesystem für Europa: ETRS89, U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heitliches Höhensystem für Europa: UELN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de-DE" sz="1800" spc="-1" strike="noStrike">
                <a:solidFill>
                  <a:srgbClr val="000000"/>
                </a:solidFill>
                <a:latin typeface="Verdana"/>
              </a:rPr>
              <a:t>United European Leveling Network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Pegel Amsterdam, Normalhö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AD5B-C1A2-4FC3-8F5C-776F11A63D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7086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Kontakt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333333"/>
                </a:solidFill>
                <a:latin typeface="Verdana"/>
              </a:rPr>
              <a:t>GISCON </a:t>
            </a: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Geoinformatik GmbH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Rebenring 3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38106 Braunschwei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Tel.: 0049-(0)531-380 43 71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www.giscon.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33"/>
                </a:solidFill>
                <a:latin typeface="Verdana"/>
              </a:rPr>
              <a:t>Birgit Thomse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Verdana"/>
              </a:rPr>
              <a:t>birgit.thomsen@giscon.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0F72C-D43A-416F-9E60-4C38B74E2E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669960"/>
            <a:ext cx="5049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Hintergrund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3074" t="8786" r="6153" b="9973"/>
          <a:stretch/>
        </p:blipFill>
        <p:spPr>
          <a:xfrm>
            <a:off x="304920" y="3886200"/>
            <a:ext cx="3886200" cy="2438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" y="1490760"/>
            <a:ext cx="609588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Warum ist das Thema so wichti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Weil die Erde keine Scheibe is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Koordinatensalat“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schiedene Lage- und Höhensyste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n einzelnen Länd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72200" y="4952880"/>
            <a:ext cx="2514600" cy="1306800"/>
            <a:chOff x="6172200" y="4952880"/>
            <a:chExt cx="2514600" cy="1306800"/>
          </a:xfrm>
        </p:grpSpPr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6172200" y="4952880"/>
              <a:ext cx="2514600" cy="13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034040" y="5578560"/>
              <a:ext cx="1074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58520" y="574056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Verdana"/>
                </a:rPr>
                <a:t>ca.180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523880" y="4876920"/>
            <a:ext cx="4572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715000"/>
            <a:ext cx="990720" cy="380880"/>
          </a:xfrm>
          <a:custGeom>
            <a:avLst/>
            <a:gdLst>
              <a:gd name="textAreaLeft" fmla="*/ 154800 w 990720"/>
              <a:gd name="textAreaRight" fmla="*/ 866880 w 9907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7f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83080" y="441972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D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54360" y="5562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H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7960" y="401940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de-DE" sz="1800" spc="-1" strike="noStrike">
                <a:solidFill>
                  <a:srgbClr val="000000"/>
                </a:solidFill>
                <a:latin typeface="Verdana"/>
              </a:rPr>
              <a:t>Umrechnung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möglich, aber genaue Kenntnis der Systeme und Parameter erforderlich, sonst entstehen Fehl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Salat1" descr=""/>
          <p:cNvPicPr/>
          <p:nvPr/>
        </p:nvPicPr>
        <p:blipFill>
          <a:blip r:embed="rId3"/>
          <a:srcRect l="4488" t="3525" r="5617" b="4288"/>
          <a:stretch/>
        </p:blipFill>
        <p:spPr>
          <a:xfrm>
            <a:off x="5791320" y="1938240"/>
            <a:ext cx="2819160" cy="1762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883560" y="178596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G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66120" y="178596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U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79960" y="193824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H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34200" y="2243160"/>
            <a:ext cx="7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T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43920" y="2395440"/>
            <a:ext cx="96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HH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44360" y="270036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S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19600" y="2776680"/>
            <a:ext cx="58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4920" y="231948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69240" y="315756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NO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98440" y="285264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B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19640" y="338616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Krassows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6F1C-3DCA-4183-B870-2CB0C447E4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61520" y="5867280"/>
            <a:ext cx="2285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Verdana"/>
              </a:rPr>
              <a:t>Ge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cc"/>
                </a:solidFill>
                <a:latin typeface="Verdana"/>
              </a:rPr>
              <a:t>(mittlerer Meeresspieg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4560" y="685800"/>
            <a:ext cx="69692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Die Figur der Erde - Bezugsflächen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1371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e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llips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60" y="1841400"/>
            <a:ext cx="434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ometrisch / mathematisch defini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schiedene Ellipsoid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(lokal, glob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nnäherung an Geoid, Hilfskör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ezugsfläche für </a:t>
            </a:r>
            <a:r>
              <a:rPr b="1" i="1" lang="de-DE" sz="1600" spc="-1" strike="noStrike">
                <a:solidFill>
                  <a:srgbClr val="000000"/>
                </a:solidFill>
                <a:latin typeface="Verdana"/>
              </a:rPr>
              <a:t>Lagemess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67400" y="1833480"/>
            <a:ext cx="434340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hysikalisch definiert, ungleichmäßig,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 nicht exakt beschreib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ittlerer Meeresspiegel, Niveau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orm ähnelt einer Kartoff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ezugsfläche für </a:t>
            </a:r>
            <a:r>
              <a:rPr b="1" i="1" lang="de-DE" sz="1600" spc="-1" strike="noStrike">
                <a:solidFill>
                  <a:srgbClr val="000000"/>
                </a:solidFill>
                <a:latin typeface="Verdana"/>
              </a:rPr>
              <a:t>Höhenmess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wischen Punkten dieser Niveaufläch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fließt kein Wasser 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(gleiche Anziehungs-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k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Ell_Geoid2" descr=""/>
          <p:cNvPicPr/>
          <p:nvPr/>
        </p:nvPicPr>
        <p:blipFill>
          <a:blip r:embed="rId1"/>
          <a:stretch/>
        </p:blipFill>
        <p:spPr>
          <a:xfrm>
            <a:off x="762120" y="3886200"/>
            <a:ext cx="2819160" cy="2098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938240" y="4413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60760" y="4865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64240" y="5867280"/>
            <a:ext cx="182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lobales (mittleres)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llipsoid (WGS8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6280" y="3276720"/>
            <a:ext cx="232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okal bestanschließendes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llipsoid (z.B. Bess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5486400"/>
            <a:ext cx="38124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3657600"/>
            <a:ext cx="3812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295280" y="5638320"/>
            <a:ext cx="228600" cy="3812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27480" y="6126120"/>
            <a:ext cx="16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Quelle: GFZ-Potsd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FIG040405D_EIGEN-CHGR01C_web_1_t" descr=""/>
          <p:cNvPicPr/>
          <p:nvPr/>
        </p:nvPicPr>
        <p:blipFill>
          <a:blip r:embed="rId2"/>
          <a:srcRect l="6003" t="6003" r="0" b="6003"/>
          <a:stretch/>
        </p:blipFill>
        <p:spPr>
          <a:xfrm>
            <a:off x="5715000" y="3733920"/>
            <a:ext cx="2286000" cy="213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3559-78CD-4849-9AC1-82C6E85156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680760"/>
            <a:ext cx="6922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Lagekoordinatensysteme</a:t>
            </a:r>
            <a:r>
              <a:rPr b="0" lang="de-DE" sz="2400" spc="-1" strike="noStrike">
                <a:solidFill>
                  <a:srgbClr val="007faa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361120" y="3657600"/>
            <a:ext cx="1981080" cy="1060560"/>
            <a:chOff x="5361120" y="3657600"/>
            <a:chExt cx="1981080" cy="106056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5361120" y="3657600"/>
              <a:ext cx="19810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527800" y="4343400"/>
              <a:ext cx="453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G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345280" y="5126040"/>
            <a:ext cx="2057400" cy="1100160"/>
            <a:chOff x="5345280" y="5126040"/>
            <a:chExt cx="2057400" cy="110016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rcRect l="6896" t="0" r="0" b="0"/>
            <a:stretch/>
          </p:blipFill>
          <p:spPr>
            <a:xfrm>
              <a:off x="5345280" y="5126040"/>
              <a:ext cx="205740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5497560" y="5811840"/>
              <a:ext cx="6858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UT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249200" y="3733920"/>
            <a:ext cx="2286000" cy="982440"/>
            <a:chOff x="1249200" y="3733920"/>
            <a:chExt cx="2286000" cy="982440"/>
          </a:xfrm>
        </p:grpSpPr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1249200" y="3733920"/>
              <a:ext cx="228600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48920" y="4319280"/>
              <a:ext cx="8384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HD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97080" y="5257800"/>
            <a:ext cx="2286000" cy="938160"/>
            <a:chOff x="1297080" y="5257800"/>
            <a:chExt cx="2286000" cy="938160"/>
          </a:xfrm>
        </p:grpSpPr>
        <p:pic>
          <p:nvPicPr>
            <p:cNvPr id="255" name="" descr=""/>
            <p:cNvPicPr/>
            <p:nvPr/>
          </p:nvPicPr>
          <p:blipFill>
            <a:blip r:embed="rId4"/>
            <a:stretch/>
          </p:blipFill>
          <p:spPr>
            <a:xfrm>
              <a:off x="1297080" y="5257800"/>
              <a:ext cx="22860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449360" y="5790960"/>
              <a:ext cx="990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ETRF8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5"/>
          <a:srcRect l="8006" t="0" r="3994" b="2617"/>
          <a:stretch/>
        </p:blipFill>
        <p:spPr>
          <a:xfrm>
            <a:off x="2057400" y="1447920"/>
            <a:ext cx="1447920" cy="13827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7172280" y="1295280"/>
            <a:ext cx="1599840" cy="1523880"/>
            <a:chOff x="7172280" y="1295280"/>
            <a:chExt cx="1599840" cy="1523880"/>
          </a:xfrm>
        </p:grpSpPr>
        <p:pic>
          <p:nvPicPr>
            <p:cNvPr id="259" name="" descr=""/>
            <p:cNvPicPr/>
            <p:nvPr/>
          </p:nvPicPr>
          <p:blipFill>
            <a:blip r:embed="rId6"/>
            <a:srcRect l="4283" t="6744" r="5791" b="4434"/>
            <a:stretch/>
          </p:blipFill>
          <p:spPr>
            <a:xfrm>
              <a:off x="7172280" y="1526760"/>
              <a:ext cx="12841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7797960" y="2206800"/>
              <a:ext cx="70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7778520" y="1643400"/>
              <a:ext cx="0" cy="54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501040" y="2074680"/>
              <a:ext cx="27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Verdan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42440" y="1295280"/>
              <a:ext cx="27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0000"/>
                  </a:solidFill>
                  <a:latin typeface="Verdan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52280" y="13716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Geo-graph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1523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artes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760" y="2286000"/>
            <a:ext cx="15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3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änge/Br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89680" y="1981080"/>
            <a:ext cx="151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ben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ordin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48800" y="304812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Projek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2666880"/>
            <a:ext cx="990720" cy="381240"/>
          </a:xfrm>
          <a:custGeom>
            <a:avLst/>
            <a:gdLst>
              <a:gd name="textAreaLeft" fmla="*/ 154800 w 990720"/>
              <a:gd name="textAreaRight" fmla="*/ 866880 w 9907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7f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rot="5399400">
            <a:off x="338040" y="4648320"/>
            <a:ext cx="990720" cy="380880"/>
          </a:xfrm>
          <a:custGeom>
            <a:avLst/>
            <a:gdLst>
              <a:gd name="textAreaLeft" fmla="*/ 154800 w 990720"/>
              <a:gd name="textAreaRight" fmla="*/ 866880 w 9907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7f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391600">
            <a:off x="-838440" y="468972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02160" y="4114800"/>
            <a:ext cx="140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:  7°51’43‘‘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:53°47’22‘‘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42120" y="5562720"/>
            <a:ext cx="140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:  7°51’41‘‘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:53°47’15‘‘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6720" y="480060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Differenz ca. 180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05560" y="4159080"/>
            <a:ext cx="14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:3.425.02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H:5.962.453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42640" y="5667480"/>
            <a:ext cx="157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:32.424.978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:5.960.495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6DA4-9441-4507-9249-57D08D819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74560" y="677880"/>
            <a:ext cx="674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Lagekoordinatensyst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6858000" cy="4597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16000" y="1371600"/>
            <a:ext cx="88390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schiedliche Bezugssysteme in den einzelnen Bundesländer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bzw. in 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führung ein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einheitlichen,</a:t>
            </a:r>
            <a:br>
              <a:rPr sz="2000"/>
            </a:b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   europäischen</a:t>
            </a: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ystems: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TRF89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UTM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-Koordin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F7E4-13BA-45C2-8E62-B7FCB1F069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755640"/>
            <a:ext cx="696924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Lagesysteme in Deutschland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685800" y="1403280"/>
          <a:ext cx="8148600" cy="4513320"/>
        </p:xfrm>
        <a:graphic>
          <a:graphicData uri="http://schemas.openxmlformats.org/drawingml/2006/table">
            <a:tbl>
              <a:tblPr/>
              <a:tblGrid>
                <a:gridCol w="1214280"/>
                <a:gridCol w="1295640"/>
                <a:gridCol w="1828800"/>
                <a:gridCol w="2120760"/>
                <a:gridCol w="16891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 (GC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ums-</a:t>
                      </a:r>
                      <a:br>
                        <a:rPr sz="1800"/>
                      </a:b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n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lipso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ültigk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HDN 90</a:t>
                      </a:r>
                      <a:br>
                        <a:rPr sz="1400"/>
                      </a:b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Rauenberg, Potsda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uenbe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sel 18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verse Mercator, 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GK, 3°-Streif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 Bundeslä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 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uenbe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sel 18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verse Mercator,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GK, 3°-Streif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ürin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D 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uenbe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sel 18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verse Mercator, </a:t>
                      </a:r>
                      <a:br>
                        <a:rPr sz="1200"/>
                      </a:b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GK, 3°-Streife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ch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42/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lkowo, Russ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rassowski 1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verse Mercator, (GK, 3°-Streif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cklenburg-Vorpommern, Sachsen-Anh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D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yford /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na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versal Transverse Mercator, UTM (6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itär, Seefahrt,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ETRF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S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versal Transverse Mercator, UTM (6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ndenburg</a:t>
                      </a:r>
                      <a:br>
                        <a:rPr sz="1400"/>
                      </a:b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Zukunft: alle B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GS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GS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ltweit, </a:t>
                      </a:r>
                      <a:r>
                        <a:rPr b="0" lang="de-DE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G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 flipH="1">
            <a:off x="-360" y="49165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194000">
            <a:off x="-67320" y="3343320"/>
            <a:ext cx="8384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lok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-143280" y="5259960"/>
            <a:ext cx="99072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58800" y="6022800"/>
            <a:ext cx="369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Quelle: Bundesamt f. Kartographie und Geodäsi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de-DE" sz="1200" spc="-1" strike="noStrike">
                <a:solidFill>
                  <a:srgbClr val="000000"/>
                </a:solidFill>
                <a:latin typeface="Verdana"/>
              </a:rPr>
              <a:t>http://crs.bkg.bund.de</a:t>
            </a: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-360" y="43434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5029200"/>
            <a:ext cx="10670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5502240"/>
            <a:ext cx="10670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528B-4A54-4212-B775-45F1C7A229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749160"/>
            <a:ext cx="6027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Abbildungskoordinaten: GK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pic>
        <p:nvPicPr>
          <p:cNvPr id="290" name="a06_2_1_2-1gk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166920" cy="3857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62120" y="55627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K-Meridianstreif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ds. GK2,GK3,GK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2362320"/>
            <a:ext cx="434340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rührz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längentreuer Hauptmerid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3° breite Meridianstreifensyst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Rechtswert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(Abstand vom Hauptmeridian, inkl. Kennziffer und + 500.000)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3.593.571,204 m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ochwert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(Abstand vom Äquator)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5.902.174,215 m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och amtliche Koordinaten in z.B. Niedersach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rundlage: DHDN (Bes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a05_1_0-1trmk" descr=""/>
          <p:cNvPicPr/>
          <p:nvPr/>
        </p:nvPicPr>
        <p:blipFill>
          <a:blip r:embed="rId2"/>
          <a:stretch/>
        </p:blipFill>
        <p:spPr>
          <a:xfrm>
            <a:off x="6858000" y="1371600"/>
            <a:ext cx="1447920" cy="132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A7D1-6AC9-46C8-B232-4C8CDC1005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7f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749160"/>
            <a:ext cx="61912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7faa"/>
                </a:solidFill>
                <a:latin typeface="Verdana"/>
              </a:rPr>
              <a:t>Abbildungskoordinaten: UTM</a:t>
            </a:r>
            <a:endParaRPr b="1" lang="en-US" sz="2400" spc="-1" strike="noStrike">
              <a:solidFill>
                <a:srgbClr val="007faa"/>
              </a:solidFill>
              <a:latin typeface="Verdan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624480" cy="36669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33520" y="57117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TM-Zonen, Nds. Zone 32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ldeg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1981080"/>
            <a:ext cx="388620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nittz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längentreue Parallelkreis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ca. 180km östlich und westli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s Hauptmeridi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6° breite Z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orth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5.685.588,576m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ast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(inkl. Zonennummer und +500.000)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32.534.481,957m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künftiges amtliches Koordinaten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rundlage: ETRF89 (GRS8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0360" y="2286000"/>
            <a:ext cx="851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Zone 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07640" y="2286000"/>
            <a:ext cx="851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Zone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2680" y="2286000"/>
            <a:ext cx="851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Zone 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F97C-65B8-430F-90B4-AFEBA8F495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14:07:26Z</dcterms:created>
  <dc:creator>Feety</dc:creator>
  <dc:description/>
  <dc:language>en-US</dc:language>
  <cp:lastModifiedBy>Grande</cp:lastModifiedBy>
  <cp:lastPrinted>2003-11-07T07:46:30Z</cp:lastPrinted>
  <dcterms:modified xsi:type="dcterms:W3CDTF">2005-10-17T20:33:18Z</dcterms:modified>
  <cp:revision>410</cp:revision>
  <dc:subject/>
  <dc:title>PowerPoint-Präsentation</dc:title>
</cp:coreProperties>
</file>