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EAFD-C57C-4663-9537-BEC2CDD37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903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9AA0-F7DC-4007-851F-3491ED3FC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903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0903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ACA2-B0F4-4038-8DF7-0D3FF223B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9807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9807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903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0903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0903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4FCF-BB7A-489D-8EAC-90A480693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51E9-12F9-44CD-8780-2F88ABB60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95B3-A660-45CB-ABAF-D5DEACCFF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5CD5-EE3A-46F0-81E4-D00D96460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DD09-4DA6-4A6F-9982-3FBD1189C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0EEA-AF0C-42B3-AB2B-B2A51B56D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903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3DB8-4EDD-4DB7-8075-C3DFA7A46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0903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1A61-F517-4F81-B5C1-3EF297FE7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903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0594-5FB5-4C1E-8553-63B07B3F1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266720" y="62481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r.: </a:t>
            </a:r>
            <a:fld id="{49F6148D-CA49-4C3F-A726-C6C019C2374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095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04080" y="6194520"/>
            <a:ext cx="1143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edersächsisch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Ökolo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LÖ%20logo%20rgb%20ohne%20Schrift" descr=""/>
          <p:cNvPicPr/>
          <p:nvPr/>
        </p:nvPicPr>
        <p:blipFill>
          <a:blip r:embed="rId2"/>
          <a:stretch/>
        </p:blipFill>
        <p:spPr>
          <a:xfrm>
            <a:off x="6934320" y="6172200"/>
            <a:ext cx="87156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095880"/>
            <a:ext cx="381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Routenbearbeitung in ArcView 8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ttina Harms – Dez. 3.4 Hydrologie der oberirdischen Gewäs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ww.nloe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rbeitung von Routendaten mit ArcView 8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e Referenzie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sche Segmentie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l.-Ing. Bettina H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1058760"/>
            <a:ext cx="838224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uten können im Coverage-Format, als Shapefile oder in einer Geodatabase gespeichert werd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e Sammlung von Routen mit demselben Maßsystem kann als Feature-Class im Shape-File gespeichert werden (z.B. alle Gewässer im Einzugsgebiet der Leine oder alle Straßen eines Landkreises et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 einer Geodatabase können viele Routen-Feature-Classes mit unterschiedlichen Maßsystemen in einem Feature-Dataset gespeichert werd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25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werden Routen gespeiche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utenbearbeitung in ArcMap/Arc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XX2_2" descr=""/>
          <p:cNvPicPr/>
          <p:nvPr/>
        </p:nvPicPr>
        <p:blipFill>
          <a:blip r:embed="rId1"/>
          <a:stretch/>
        </p:blipFill>
        <p:spPr>
          <a:xfrm>
            <a:off x="380880" y="1442880"/>
            <a:ext cx="552600" cy="57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430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date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XX3_1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571680" cy="59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838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positionen 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20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ereignisse hinzu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Toolbox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4487760" cy="701640"/>
          </a:xfrm>
          <a:prstGeom prst="rect">
            <a:avLst/>
          </a:prstGeom>
          <a:ln w="0">
            <a:noFill/>
          </a:ln>
        </p:spPr>
      </p:pic>
      <p:pic>
        <p:nvPicPr>
          <p:cNvPr id="75" name="Rou_hinzu" descr=""/>
          <p:cNvPicPr/>
          <p:nvPr/>
        </p:nvPicPr>
        <p:blipFill>
          <a:blip r:embed="rId4"/>
          <a:stretch/>
        </p:blipFill>
        <p:spPr>
          <a:xfrm>
            <a:off x="380880" y="21337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743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Toolbox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ten-Ereignistabelle in Feature-Class umwand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5257800"/>
            <a:ext cx="5486400" cy="790200"/>
            <a:chOff x="380880" y="5257800"/>
            <a:chExt cx="5486400" cy="790200"/>
          </a:xfrm>
        </p:grpSpPr>
        <p:pic>
          <p:nvPicPr>
            <p:cNvPr id="78" name="Layer_Eigenschaften" descr=""/>
            <p:cNvPicPr/>
            <p:nvPr/>
          </p:nvPicPr>
          <p:blipFill>
            <a:blip r:embed="rId5"/>
            <a:stretch/>
          </p:blipFill>
          <p:spPr>
            <a:xfrm>
              <a:off x="380880" y="5257800"/>
              <a:ext cx="54864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00920" y="5765400"/>
              <a:ext cx="2365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4160" y="5776920"/>
              <a:ext cx="0" cy="18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7200" y="5773320"/>
              <a:ext cx="0" cy="18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05720" y="5957640"/>
              <a:ext cx="297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957480" y="5957640"/>
              <a:ext cx="29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04920" y="4359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yer-Eigenschaft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ten und Skalenstriche (Hat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yereigenschaf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935600"/>
            <a:ext cx="8534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n-Kennung festle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n-Messwertabweichungen anzei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990720"/>
            <a:ext cx="5081760" cy="3913200"/>
            <a:chOff x="1981080" y="990720"/>
            <a:chExt cx="5081760" cy="39132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25627" t="24216" r="28136" b="31267"/>
            <a:stretch/>
          </p:blipFill>
          <p:spPr>
            <a:xfrm>
              <a:off x="1981080" y="990720"/>
              <a:ext cx="508176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114720" y="1362240"/>
              <a:ext cx="799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17960" y="1371600"/>
              <a:ext cx="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95560" y="1368360"/>
              <a:ext cx="0" cy="15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12680" y="152388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885840" y="152388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495288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eatures im Layer mit Skalenstrichen verse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kalenstrichklassen definie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6120" y="457200"/>
            <a:ext cx="5565960" cy="4282920"/>
            <a:chOff x="1446120" y="457200"/>
            <a:chExt cx="5565960" cy="42829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23117" t="19528" r="30616" b="35956"/>
            <a:stretch/>
          </p:blipFill>
          <p:spPr>
            <a:xfrm>
              <a:off x="1446120" y="457200"/>
              <a:ext cx="5565960" cy="428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3193560" y="885960"/>
              <a:ext cx="2216520" cy="168120"/>
              <a:chOff x="3193560" y="885960"/>
              <a:chExt cx="2216520" cy="168120"/>
            </a:xfrm>
          </p:grpSpPr>
          <p:sp>
            <p:nvSpPr>
              <p:cNvPr id="98" name=""/>
              <p:cNvSpPr/>
              <p:nvPr/>
            </p:nvSpPr>
            <p:spPr>
              <a:xfrm>
                <a:off x="3495600" y="885960"/>
                <a:ext cx="162252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98840" y="89532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05520" y="89856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3193560" y="1047600"/>
                <a:ext cx="304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105520" y="1054080"/>
                <a:ext cx="304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olgende Funktionen sind generell nur mit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rcInfo/ArcEditor-Lizenz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nwendba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72894" t="36251" r="20460" b="58585"/>
          <a:stretch/>
        </p:blipFill>
        <p:spPr>
          <a:xfrm>
            <a:off x="4343400" y="2209680"/>
            <a:ext cx="1619280" cy="100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1249200"/>
            <a:ext cx="594360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kzeugleiste Routenbearbeitu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 Teil defin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kalib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74754" t="4762" r="23058" b="92215"/>
          <a:stretch/>
        </p:blipFill>
        <p:spPr>
          <a:xfrm>
            <a:off x="533520" y="3733920"/>
            <a:ext cx="533160" cy="59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43000" y="35812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rkzeug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„Assistent Geoverarbeitung von Routenereignissen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oolbox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404496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00600" y="480060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oolbox: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neare Referenzier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1480" y="5067360"/>
            <a:ext cx="2371680" cy="600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8750" t="32748" r="28750" b="32976"/>
          <a:stretch/>
        </p:blipFill>
        <p:spPr>
          <a:xfrm>
            <a:off x="990720" y="1295280"/>
            <a:ext cx="7010280" cy="4523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25704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kzeu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„Assistent Geoverarbeitung von Routenereignissen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1873" t="30012" r="10629" b="45000"/>
          <a:stretch/>
        </p:blipFill>
        <p:spPr>
          <a:xfrm>
            <a:off x="3657600" y="1930320"/>
            <a:ext cx="5248440" cy="2793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539640"/>
            <a:ext cx="861048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ntextmenü Bearbeitung der Routen-Messwert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ützpunkt bei M ei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ktor üb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N bere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sswerte entf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 Distanz ei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/Nach ei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htung als M ei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83808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npositionen abfrag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outen_ident" descr=""/>
          <p:cNvPicPr/>
          <p:nvPr/>
        </p:nvPicPr>
        <p:blipFill>
          <a:blip r:embed="rId1"/>
          <a:stretch/>
        </p:blipFill>
        <p:spPr>
          <a:xfrm>
            <a:off x="1542960" y="1371600"/>
            <a:ext cx="6553440" cy="4656240"/>
          </a:xfrm>
          <a:prstGeom prst="rect">
            <a:avLst/>
          </a:prstGeom>
          <a:ln w="0">
            <a:noFill/>
          </a:ln>
        </p:spPr>
      </p:pic>
      <p:pic>
        <p:nvPicPr>
          <p:cNvPr id="117" name="Kontext_Rou_ident" descr=""/>
          <p:cNvPicPr/>
          <p:nvPr/>
        </p:nvPicPr>
        <p:blipFill>
          <a:blip r:embed="rId2"/>
          <a:stretch/>
        </p:blipFill>
        <p:spPr>
          <a:xfrm>
            <a:off x="1066680" y="4264200"/>
            <a:ext cx="2043360" cy="1444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2133720"/>
            <a:ext cx="335304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12736"/>
              <a:gd name="adj5" fmla="val 71759"/>
              <a:gd name="adj6" fmla="val 123578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hen Messwert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he Routenkennu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1040" y="17928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edene Arbeitsschrit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XX2_2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552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ndaten suc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n einer bestimmten Position entlang einer Route (z.B. KM 150,5 der Autobahn A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XX3_1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571320" cy="590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7510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das Suchen von Routenpositionen gibt es ein spezielles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Rou_suchen2" descr=""/>
          <p:cNvPicPr/>
          <p:nvPr/>
        </p:nvPicPr>
        <p:blipFill>
          <a:blip r:embed="rId2"/>
          <a:stretch/>
        </p:blipFill>
        <p:spPr>
          <a:xfrm>
            <a:off x="4952880" y="4203720"/>
            <a:ext cx="3276720" cy="7556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533520" y="2666880"/>
            <a:ext cx="4267080" cy="2293920"/>
            <a:chOff x="533520" y="2666880"/>
            <a:chExt cx="4267080" cy="2293920"/>
          </a:xfrm>
        </p:grpSpPr>
        <p:pic>
          <p:nvPicPr>
            <p:cNvPr id="127" name="Rou_suchen" descr=""/>
            <p:cNvPicPr/>
            <p:nvPr/>
          </p:nvPicPr>
          <p:blipFill>
            <a:blip r:embed="rId3"/>
            <a:stretch/>
          </p:blipFill>
          <p:spPr>
            <a:xfrm>
              <a:off x="533520" y="2666880"/>
              <a:ext cx="4267080" cy="229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838440" y="2959200"/>
              <a:ext cx="1479240" cy="177840"/>
              <a:chOff x="838440" y="2959200"/>
              <a:chExt cx="1479240" cy="177840"/>
            </a:xfrm>
          </p:grpSpPr>
          <p:sp>
            <p:nvSpPr>
              <p:cNvPr id="129" name=""/>
              <p:cNvSpPr/>
              <p:nvPr/>
            </p:nvSpPr>
            <p:spPr>
              <a:xfrm>
                <a:off x="1127160" y="2959200"/>
                <a:ext cx="91116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33640" y="29718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22480" y="29718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838440" y="3137040"/>
                <a:ext cx="304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012760" y="3137040"/>
                <a:ext cx="304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380880" y="5181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gefundenen Positionen können ebenfalls angezeigt und beschrift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n-Messwertabweichungen anzeig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Routen_messwerte1" descr=""/>
          <p:cNvPicPr/>
          <p:nvPr/>
        </p:nvPicPr>
        <p:blipFill>
          <a:blip r:embed="rId1"/>
          <a:stretch/>
        </p:blipFill>
        <p:spPr>
          <a:xfrm>
            <a:off x="4038480" y="1162080"/>
            <a:ext cx="4961160" cy="386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996840"/>
            <a:ext cx="36576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vorhandene Messwerte (NaN) anze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zeigen, wenn Messwerte nicht zunehmen oder nicht in Digitalisierrichtung zu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älle aufeinander folgender Stützpunkte mit gleichen Messwerten igno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sic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eare Referenzierung - R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ynamische Segmentierung - Routenereig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cView - ArcInfo/Arc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Arbeitsschrit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tendaten abfragen, Routenposition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alenstriche (Routenbeschrif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tenereig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spiel: Routen-Messwertabweichungen anze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outen_messwerte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805200" cy="4419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438280" y="1371600"/>
            <a:ext cx="2751120" cy="934920"/>
          </a:xfrm>
          <a:prstGeom prst="borderCallout1">
            <a:avLst>
              <a:gd name="adj1" fmla="val 18750"/>
              <a:gd name="adj2" fmla="val -8333"/>
              <a:gd name="adj3" fmla="val -21393"/>
              <a:gd name="adj4" fmla="val -16388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werte nehmen nicht in Digitalisierrichtung 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outen_messwerte5" descr=""/>
          <p:cNvPicPr/>
          <p:nvPr/>
        </p:nvPicPr>
        <p:blipFill>
          <a:blip r:embed="rId2"/>
          <a:stretch/>
        </p:blipFill>
        <p:spPr>
          <a:xfrm>
            <a:off x="5715000" y="914400"/>
            <a:ext cx="2590920" cy="1454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3124080"/>
            <a:ext cx="2205000" cy="685800"/>
          </a:xfrm>
          <a:prstGeom prst="borderCallout1">
            <a:avLst>
              <a:gd name="adj1" fmla="val 18750"/>
              <a:gd name="adj2" fmla="val -8333"/>
              <a:gd name="adj3" fmla="val 238888"/>
              <a:gd name="adj4" fmla="val 140675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cht vorhandene Messwerte (N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Routen_messwerte6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3657600" cy="1689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518148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arstellung der Routenmesswertabweichungen kann eine große Hilfe bei der Plausibilisierung von Routendat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n mit Skalenstriche beschrif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85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GIS ermöglicht es, die M-Werte eines Routenlayers automatisiert mit Skalenstrichen zu beschri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Skala1" descr=""/>
          <p:cNvPicPr/>
          <p:nvPr/>
        </p:nvPicPr>
        <p:blipFill>
          <a:blip r:embed="rId1"/>
          <a:stretch/>
        </p:blipFill>
        <p:spPr>
          <a:xfrm>
            <a:off x="1371600" y="1576440"/>
            <a:ext cx="56386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spiel: Routen mit Skalenstriche beschri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SkalaBSP_Bild1" descr=""/>
          <p:cNvPicPr/>
          <p:nvPr/>
        </p:nvPicPr>
        <p:blipFill>
          <a:blip r:embed="rId1"/>
          <a:stretch/>
        </p:blipFill>
        <p:spPr>
          <a:xfrm>
            <a:off x="152280" y="1452600"/>
            <a:ext cx="8842320" cy="3308400"/>
          </a:xfrm>
          <a:prstGeom prst="rect">
            <a:avLst/>
          </a:prstGeom>
          <a:ln w="0">
            <a:noFill/>
          </a:ln>
        </p:spPr>
      </p:pic>
      <p:pic>
        <p:nvPicPr>
          <p:cNvPr id="150" name="SkalaBSP_Bild2" descr=""/>
          <p:cNvPicPr/>
          <p:nvPr/>
        </p:nvPicPr>
        <p:blipFill>
          <a:blip r:embed="rId2"/>
          <a:stretch/>
        </p:blipFill>
        <p:spPr>
          <a:xfrm>
            <a:off x="152280" y="1452600"/>
            <a:ext cx="8855280" cy="3308400"/>
          </a:xfrm>
          <a:prstGeom prst="rect">
            <a:avLst/>
          </a:prstGeom>
          <a:ln w="0">
            <a:noFill/>
          </a:ln>
        </p:spPr>
      </p:pic>
      <p:pic>
        <p:nvPicPr>
          <p:cNvPr id="151" name="SkalaBSP_Bild3" descr=""/>
          <p:cNvPicPr/>
          <p:nvPr/>
        </p:nvPicPr>
        <p:blipFill>
          <a:blip r:embed="rId3"/>
          <a:stretch/>
        </p:blipFill>
        <p:spPr>
          <a:xfrm>
            <a:off x="152280" y="1447920"/>
            <a:ext cx="8855280" cy="3308400"/>
          </a:xfrm>
          <a:prstGeom prst="rect">
            <a:avLst/>
          </a:prstGeom>
          <a:ln w="0">
            <a:noFill/>
          </a:ln>
        </p:spPr>
      </p:pic>
      <p:pic>
        <p:nvPicPr>
          <p:cNvPr id="152" name="SkalaBSP_Bild4" descr=""/>
          <p:cNvPicPr/>
          <p:nvPr/>
        </p:nvPicPr>
        <p:blipFill>
          <a:blip r:embed="rId4"/>
          <a:stretch/>
        </p:blipFill>
        <p:spPr>
          <a:xfrm>
            <a:off x="152280" y="1447920"/>
            <a:ext cx="88394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nereignisse (dynamische Segmentierung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57200" y="2057400"/>
            <a:ext cx="5105520" cy="1458720"/>
            <a:chOff x="457200" y="2057400"/>
            <a:chExt cx="5105520" cy="1458720"/>
          </a:xfrm>
        </p:grpSpPr>
        <p:pic>
          <p:nvPicPr>
            <p:cNvPr id="155" name="Ereignis1" descr=""/>
            <p:cNvPicPr/>
            <p:nvPr/>
          </p:nvPicPr>
          <p:blipFill>
            <a:blip r:embed="rId1"/>
            <a:stretch/>
          </p:blipFill>
          <p:spPr>
            <a:xfrm>
              <a:off x="457200" y="2057400"/>
              <a:ext cx="510552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629080" y="2239920"/>
              <a:ext cx="1333440" cy="9716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838080"/>
            <a:ext cx="5106960" cy="1074600"/>
            <a:chOff x="457200" y="838080"/>
            <a:chExt cx="5106960" cy="1074600"/>
          </a:xfrm>
        </p:grpSpPr>
        <p:pic>
          <p:nvPicPr>
            <p:cNvPr id="158" name="Ereignis2" descr=""/>
            <p:cNvPicPr/>
            <p:nvPr/>
          </p:nvPicPr>
          <p:blipFill>
            <a:blip r:embed="rId2"/>
            <a:stretch/>
          </p:blipFill>
          <p:spPr>
            <a:xfrm>
              <a:off x="457200" y="838080"/>
              <a:ext cx="510696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552760" y="1012680"/>
              <a:ext cx="657000" cy="5713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4920" y="37339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kennung (um die Daten eindeutig an eine Route zu hä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werte (um die Position des Ereignisses auf der Route zu bestim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(um das Ereignis zu beschreib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990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eignistabelle für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286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eignistabelle für Lin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nereignisse (dynamische Segmentierung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nereignisse an ein Routenthema anhä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7150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ereig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48006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ienereign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1044720"/>
            <a:ext cx="3447720" cy="4593600"/>
            <a:chOff x="457200" y="1044720"/>
            <a:chExt cx="3447720" cy="4593600"/>
          </a:xfrm>
        </p:grpSpPr>
        <p:pic>
          <p:nvPicPr>
            <p:cNvPr id="168" name="Ereignis4" descr=""/>
            <p:cNvPicPr/>
            <p:nvPr/>
          </p:nvPicPr>
          <p:blipFill>
            <a:blip r:embed="rId1"/>
            <a:stretch/>
          </p:blipFill>
          <p:spPr>
            <a:xfrm>
              <a:off x="457200" y="1044720"/>
              <a:ext cx="3447720" cy="45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55840" y="3954600"/>
              <a:ext cx="3243600" cy="55656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52760" y="2263680"/>
            <a:ext cx="3419280" cy="2327040"/>
            <a:chOff x="4352760" y="2263680"/>
            <a:chExt cx="3419280" cy="2327040"/>
          </a:xfrm>
        </p:grpSpPr>
        <p:pic>
          <p:nvPicPr>
            <p:cNvPr id="171" name="Ereignis5" descr=""/>
            <p:cNvPicPr/>
            <p:nvPr/>
          </p:nvPicPr>
          <p:blipFill>
            <a:blip r:embed="rId2"/>
            <a:stretch/>
          </p:blipFill>
          <p:spPr>
            <a:xfrm>
              <a:off x="4352760" y="2263680"/>
              <a:ext cx="341928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426920" y="3822840"/>
              <a:ext cx="3243960" cy="7675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Rou_hinzu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738360" cy="7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43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outenereignisse (dynam. Segmentier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94336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eignis-Layer werden als Layer-Dateien angezeig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72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halb einer Editiersitzung können die Attribute der Ereignisthemen bzw. die Ereignistabellen direkt bearbeitet, ergänzt oder gelösch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Ereignis8a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5638680" cy="3684600"/>
          </a:xfrm>
          <a:prstGeom prst="rect">
            <a:avLst/>
          </a:prstGeom>
          <a:ln w="0">
            <a:noFill/>
          </a:ln>
        </p:spPr>
      </p:pic>
      <p:pic>
        <p:nvPicPr>
          <p:cNvPr id="178" name="Ereignis9a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152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nereignisse (dynamische Segmentierung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ld für Lokalisierungsfehl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rstelle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der Ereignistabelle wird notiert, ob das Ereignis auf der Route gefunden wurde oder ob es einen Fehler g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809880"/>
            <a:ext cx="8382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 EXTENT OUT OF ROUTE MEASURE RAN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egebener M-Wert ist höher als Routenlä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e Route wurde nicht gef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 MATCH FOR THE TO-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 der bis-Messwert wurde gef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905120"/>
            <a:ext cx="8229600" cy="1752480"/>
            <a:chOff x="457200" y="1905120"/>
            <a:chExt cx="8229600" cy="1752480"/>
          </a:xfrm>
        </p:grpSpPr>
        <p:pic>
          <p:nvPicPr>
            <p:cNvPr id="183" name="Ereignis7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8229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89120" y="2099520"/>
              <a:ext cx="2680560" cy="115776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152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sammenfassu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spricht für die Nutzung von Routen-Da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074600"/>
            <a:ext cx="83822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Neudigitalisierung von Routendaten kann unabhängig von den Attributwerten durchgefüh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Pflege der Routengeometrien hat keinen Einfluss auf die Ereignisthe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liebig viele Ereignisthemen können unabhängig von der linearen Geometrie vorgehalt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Übertragung der linearen Routenfeature in einen gröberen Maßstab können die Ereignisse ohne weitere Bearbeitung auf den kalibrierten Datenbestand dargestellt werden.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sp.: Übertragen der Fliessgewässer-Ereignisthemen vom Basismaßstab auf DLM1000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e Referenz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ichern von linearen 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ktorform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gnet sich für die Darstellung von Features mit statischen Eigenschaft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eometrien werden als Ansammlung von X- und Y-Koordinaten abgeleg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rgabe: Bei jedem Wechsel der Attributwerte müssen lineare Feature geteilt werd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 segmentierter Daten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Speicherbeda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ierige, umständliche Datenpf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P_Linie" descr=""/>
          <p:cNvPicPr/>
          <p:nvPr/>
        </p:nvPicPr>
        <p:blipFill>
          <a:blip r:embed="rId1"/>
          <a:stretch/>
        </p:blipFill>
        <p:spPr>
          <a:xfrm>
            <a:off x="2386080" y="3276720"/>
            <a:ext cx="43718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3818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80240" indent="-480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utenform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möglicht die dynamische Darstellung von relativen Positionen entlang eines linearen Fea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sammen mit den X-Y-Koordinaten werden die relativen Entfernungen zwischen den Stützpunkten als sogenannte M-Werte (Messwerte) gespeicher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möglicht die Beschreibung eindeutiger Positionen auf einer Linie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ohn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die Kenntnis von Rechts- und Hochwer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0240" indent="-4802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near referenzierten Daten können mehrere Attributsets zugeordnet werden, ohne dass sich dieses auf die Geometrie der linearen Features auswirk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SP_Linie2" descr=""/>
          <p:cNvPicPr/>
          <p:nvPr/>
        </p:nvPicPr>
        <p:blipFill>
          <a:blip r:embed="rId1"/>
          <a:stretch/>
        </p:blipFill>
        <p:spPr>
          <a:xfrm>
            <a:off x="2400480" y="2590920"/>
            <a:ext cx="4343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ind Rou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36640"/>
            <a:ext cx="838224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uten sind lineare Features, welche über eine ein-deutige Kennung und ein Maßsystem verfüg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indeutige Kennung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nt der Identifizierung einer einzelnen Route.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sp.: Autobahn A7, Gewässer 488 (Leine)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aßsyste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espeicherte M-Werte der Ro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sp.: Autobahnkilometer, Flusskilometer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8580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e alle linearen Features werden Routen mit dem Geometrietyp „Polylinie“ abgelegt (zu sehen in der Attributtabelle im Feld Shape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35268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usätzlich mit der Geometrie werden bei Routendaten die Messwerte M gespeiche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55495" t="49169" r="28807" b="46650"/>
          <a:stretch/>
        </p:blipFill>
        <p:spPr>
          <a:xfrm>
            <a:off x="1066680" y="2438280"/>
            <a:ext cx="6477120" cy="63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 flipH="1">
            <a:off x="3200400" y="1981080"/>
            <a:ext cx="76320" cy="45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53361" t="23474" r="33147" b="62539"/>
          <a:stretch/>
        </p:blipFill>
        <p:spPr>
          <a:xfrm>
            <a:off x="1905120" y="4267080"/>
            <a:ext cx="44193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sche Segment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85800"/>
            <a:ext cx="86868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rcGIS speichert linear referenzierte Attribute in Routen-Ereignistabell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urch die dynamische Segmentierung können diese separat gespeicherten Attribute bestimmten Positionen entlang einer Route zugeordnet und dargestellt werd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ie Attribute können angezeigt, abgefragt, analysiert und bearbeitet werden, ohne dass die Geometrie der zugrunde liegenden Routen-Features verändert wi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P_dynSeg" descr=""/>
          <p:cNvPicPr/>
          <p:nvPr/>
        </p:nvPicPr>
        <p:blipFill>
          <a:blip r:embed="rId1"/>
          <a:stretch/>
        </p:blipFill>
        <p:spPr>
          <a:xfrm>
            <a:off x="1523880" y="3022560"/>
            <a:ext cx="55627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522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nereig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762120"/>
            <a:ext cx="8382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nereignisstabellen enthalten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nkennung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 das Ereignis einer bestimmten Route zuzuordnen (z.B. der Leine oder der A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wert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ur Angabe der Position auf dieser Route (z.B. Leine bei KM 55 oder A7 von KM 256 bis KM 3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ur Beschreibung des Ereignisses (Leine-Pegel oder Baustellenbereic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 gibt punktförmige und linienförmige Ereignis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5335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gibt sowohl punkt- als auch linienförmige Ereignis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19320"/>
            <a:ext cx="8382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nktförmige Ereignisse an Fliessgewäss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leitungs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rbauwerke (Brücken, Düker, Durchläss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nienförmige Ereignisse an Fliessgewäss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ässert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ässerordnung (von Bund, Land oder Verband unterhal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kturgüte eines Gewässerabschni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6:42:41Z</dcterms:created>
  <dc:creator>lhi419</dc:creator>
  <dc:description/>
  <dc:language>en-US</dc:language>
  <cp:lastModifiedBy>h+s</cp:lastModifiedBy>
  <cp:lastPrinted>2004-10-20T12:00:55Z</cp:lastPrinted>
  <dcterms:modified xsi:type="dcterms:W3CDTF">2004-10-20T17:50:07Z</dcterms:modified>
  <cp:revision>59</cp:revision>
  <dc:subject/>
  <dc:title>PowerPoint-Präsentation</dc:title>
</cp:coreProperties>
</file>