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rcGIS-Logo_cmyk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838080" cy="452160"/>
          </a:xfrm>
          <a:prstGeom prst="rect">
            <a:avLst/>
          </a:prstGeom>
          <a:ln w="0">
            <a:noFill/>
          </a:ln>
        </p:spPr>
      </p:pic>
      <p:pic>
        <p:nvPicPr>
          <p:cNvPr id="1" name="POINTSLO" descr=""/>
          <p:cNvPicPr/>
          <p:nvPr/>
        </p:nvPicPr>
        <p:blipFill>
          <a:blip r:embed="rId4"/>
          <a:stretch/>
        </p:blipFill>
        <p:spPr>
          <a:xfrm>
            <a:off x="8381880" y="228600"/>
            <a:ext cx="6368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6167520"/>
            <a:ext cx="8458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167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©Points Verlag Norden</a:t>
            </a:r>
            <a:r>
              <a:rPr b="0" lang="de-DE" sz="8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lms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5167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chulung: ArcGIS-ArcView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523880"/>
            <a:ext cx="697068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ESRI Anwendergruppe Kü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11. Treffen 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23. bis 24. Oktober 2003 in Warnemü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5280" y="14968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Raumbezogene Datener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3800" y="239760"/>
            <a:ext cx="57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r Zeit aktuelle Themen be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o-Informationssyste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640" y="2208240"/>
            <a:ext cx="53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Raumbezogene Datenhal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odatenba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200" y="3346560"/>
            <a:ext cx="620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Präsentation von raumbezogen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ten i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120" y="4486320"/>
            <a:ext cx="593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Koordinatensysteme, Projektion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und Transformat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560" y="55879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Top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240" y="55879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Meta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1312920"/>
            <a:ext cx="3911400" cy="909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06040" y="47304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umbezogene Datener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1920" y="1608120"/>
            <a:ext cx="69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Datenerfassung am Digitalisierbrett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Luftb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Satell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Laser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G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1960" y="18900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umbezogene Datenhal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odatenba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3680" y="1614600"/>
            <a:ext cx="801864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Warum Geodaten in Geodatenbanken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Brauche ich überhaupt eine Geodatenbank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Was ist eine professionelle Geodatenb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Was leistet eine Geodatenbank gegenüber ein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filebasieren Datenhalt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- Was ist die Personal-Geodatabase in ArcG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47440" y="358920"/>
            <a:ext cx="598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äsentation von raumbezogen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ten i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040" y="2200320"/>
            <a:ext cx="839952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Verteilen meiner Daten im Internet (Downlo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GIS-Funktionalitäten werden über ein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wöhnlichen Internet-Browser zur Verfüg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tel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79480" y="415800"/>
            <a:ext cx="573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Koordinatensysteme, Projektion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und Transformat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1320" y="1638360"/>
            <a:ext cx="7607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GPS-Daten (WGS 84) auf T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Streifenwechsel bei Gauß-Krüger 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Gauß-Krüger (unterschiedliche Ellipso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. B. Bessel, Krasows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Daten von Bundesbehö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 Daten für EU-Projek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z. B. Wasserrahmenrichtli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31T15:02:04Z</dcterms:created>
  <dc:creator>Liebig</dc:creator>
  <dc:description/>
  <dc:language>en-US</dc:language>
  <cp:lastModifiedBy>FSC</cp:lastModifiedBy>
  <cp:lastPrinted>1996-10-24T19:05:40Z</cp:lastPrinted>
  <dcterms:modified xsi:type="dcterms:W3CDTF">2003-10-22T15:29:56Z</dcterms:modified>
  <cp:revision>142</cp:revision>
  <dc:subject/>
  <dc:title>Kein Folientitel</dc:title>
</cp:coreProperties>
</file>