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642100" cy="96551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918A4-E44D-4E38-8DF2-68F878E79A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2E654-D68E-4389-9D27-DB898C5A78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A346A-E94A-4AD0-8223-28447EB884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36859-3745-470B-B019-7FC604E4E0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6D026-5A38-4B65-B55E-31B027E680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EAFDA-85FE-499F-843E-568986F49E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86410-7FD9-48A9-A58B-1E206D26EC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FCD55-76FE-4A8B-8F2E-7A1FCA7289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7C330-B2F3-4782-A145-CB73197CE0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D18D9-72BC-42B8-8FCD-E124D0A96F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F2D71-E023-4172-980F-6487F69B3E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EE068-57F1-4B52-9385-4DC96B8312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380880" y="6552720"/>
            <a:ext cx="914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lie: </a:t>
            </a:r>
            <a:fld id="{5E98E496-47A2-4B43-8F03-01CE3571636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586728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238880" y="6100920"/>
            <a:ext cx="160020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edersächsisc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ndesamt fü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Ökolog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NLÖ%20logo%20rgb%20ohne%20Schrift" descr=""/>
          <p:cNvPicPr/>
          <p:nvPr/>
        </p:nvPicPr>
        <p:blipFill>
          <a:blip r:embed="rId2"/>
          <a:stretch/>
        </p:blipFill>
        <p:spPr>
          <a:xfrm>
            <a:off x="6019920" y="6029280"/>
            <a:ext cx="1143000" cy="6001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380880" y="6004080"/>
            <a:ext cx="42674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Vortrag: Pflege eines Gewässernetzes für die EU-Wasserrahmenrichtlini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ttina Harms, Dezernat 3.4  – Hydrologie der oberirdischen Gewäss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nloe.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2296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flege eines Gewässernetzes für die EU-Wasserrahmenrichtlinie</a:t>
            </a:r>
            <a:br>
              <a:rPr sz="4000"/>
            </a:br>
            <a:br>
              <a:rPr sz="4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pl.-Ing. Bettina Harms, NL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Beispiel eines Screenshots für die LG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697040"/>
            <a:ext cx="7848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f7_030428_auto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6477120" cy="457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75378-442E-40B1-9BC9-69593764B2BA}" type="slidenum">
              <a:t>10</a:t>
            </a:fld>
          </a:p>
        </p:txBody>
      </p:sp>
    </p:spTree>
  </p:cSld>
  <p:transition spd="med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Weitere Bearbeitungsmöglichkeiten und Plausibilisieru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ücken im Fließgewässersystem festste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ündungslage der Fließgewässer besti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outenberechnung und Stationierung festlegen       (Sonderbearbeitung nach Richtlini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lausibilisierung (ca. 10 Kontrollläufe, die ständig erweitert werd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schneidung von Einzugsgebieten und Gewässern zur Feststellung von geometrischen und Verschlüsselungsabweich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zugsgebiete auf Gewässermündungen sna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5EB6E-4369-4C9F-8604-5567B1403F12}" type="slidenum">
              <a:t>11</a:t>
            </a:fld>
          </a:p>
        </p:txBody>
      </p:sp>
    </p:spTree>
  </p:cSld>
  <p:transition spd="med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tzung des Gewässernet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1295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inien- und Punkt-Ereignisthemaverarbeitungen für die EU-WRR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nienthem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grenzung der Fließgewässerkörper (River Segme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eßgewässer-Typis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gabe von Fischgewässern (besondere Qualitätsanforderung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unktthem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ütemessste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nlei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1383B-45A2-4256-91AF-E8CE285FB29E}" type="slidenum">
              <a:t>12</a:t>
            </a:fld>
          </a:p>
        </p:txBody>
      </p:sp>
    </p:spTree>
  </p:cSld>
  <p:transition spd="med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forderungen an ein EU-Berichtsnetz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1295280"/>
            <a:ext cx="7467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asisanforderun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e Gewässer mit einem Einzugsgebiet &gt; 10 q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iffbare Kanä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üstengewässer bis 1 SM-Gren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eferung als „GIS-Daten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Übersichtskarte im kleinen Maßst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rweiterte/abgeleitete Forderun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essgewässer als geschlossenes Ne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essrichtungsanga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nhaltung vorgegebener Struktu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erarchische Gliederung (Verschlüsselu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FE37A-F279-46D0-8D97-94120BF3A16E}" type="slidenum">
              <a:t>13</a:t>
            </a:fld>
          </a:p>
        </p:txBody>
      </p:sp>
    </p:spTree>
  </p:cSld>
  <p:transition spd="med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s EU-Berichtsnetz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undlage in Deutschland ist das DLM 1000 W (Gewässernetz im Maßstab 1 : 1.000.000) des B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Fachverwaltungen (hier BfG) übernehmen die Modellierungen (Routen, Netzwerk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1E7C4-61E5-4743-A56B-8987A962126E}" type="slidenum">
              <a:t>14</a:t>
            </a:fld>
          </a:p>
        </p:txBody>
      </p:sp>
    </p:spTree>
  </p:cSld>
  <p:transition spd="med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Übertragung der Stationswerte auf das Berichtsne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1752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librierung der Routen des Basisgewässernetzes mittels eindeutig identifizierbaren Kalibrierungspunkten im Basis-DLM als auch im DLM 1000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3809880"/>
            <a:ext cx="7772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nanfangspunk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onierungsnullpunk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ündungspunkte von Nebenar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n- und Ausmündungen von S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31240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lche Punkte sind z.Bsp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21658-5190-4B65-BB63-166799F1CDE7}" type="slidenum">
              <a:t>15</a:t>
            </a:fld>
          </a:p>
        </p:txBody>
      </p:sp>
    </p:spTree>
  </p:cSld>
  <p:transition spd="med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Übertragung der Stationswerte auf das Berichtsne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7524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s dem Basismaßstab werden die Stationswerte für die Kalibrierungspunkte ermitte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27432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Stationswerte werden an die Kalibrierungspunkte im Berichtsnetz verknüpft. Diese Punkte werden zur Kalibrierung der dort vorliegenden Routen verwend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403848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jeweiligen Fachthemen müssen als Ereignisthema zum Basisgewässernetz erstellt werden. Sie müssen die Gewässerkennzahl und den Stationswert (bei Punktthemen) enthal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24721-80DA-4C93-88AC-67148002D847}" type="slidenum">
              <a:t>16</a:t>
            </a:fld>
          </a:p>
        </p:txBody>
      </p:sp>
    </p:spTree>
  </p:cSld>
  <p:transition spd="med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isgewässernetz DLM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371600" y="1143000"/>
            <a:ext cx="6400800" cy="4697280"/>
            <a:chOff x="1371600" y="1143000"/>
            <a:chExt cx="6400800" cy="4697280"/>
          </a:xfrm>
        </p:grpSpPr>
        <p:pic>
          <p:nvPicPr>
            <p:cNvPr id="108" name="DLM%2025-Gewässer" descr=""/>
            <p:cNvPicPr/>
            <p:nvPr/>
          </p:nvPicPr>
          <p:blipFill>
            <a:blip r:embed="rId1"/>
            <a:stretch/>
          </p:blipFill>
          <p:spPr>
            <a:xfrm>
              <a:off x="1371600" y="1143000"/>
              <a:ext cx="6400800" cy="46972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09" name=""/>
            <p:cNvSpPr txBox="1"/>
            <p:nvPr/>
          </p:nvSpPr>
          <p:spPr>
            <a:xfrm>
              <a:off x="1371600" y="1143000"/>
              <a:ext cx="6400800" cy="469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EA876-80C5-4F6E-A058-B67447BA493E}" type="slidenum">
              <a:t>17</a:t>
            </a:fld>
          </a:p>
        </p:txBody>
      </p:sp>
    </p:spTree>
  </p:cSld>
  <p:transition spd="med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richtsgewässernetz DLM 1000 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DLM%201000-Gewässer" descr=""/>
          <p:cNvPicPr/>
          <p:nvPr/>
        </p:nvPicPr>
        <p:blipFill>
          <a:blip r:embed="rId1"/>
          <a:stretch/>
        </p:blipFill>
        <p:spPr>
          <a:xfrm>
            <a:off x="1371600" y="1090440"/>
            <a:ext cx="6402240" cy="470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15A30-BFD0-4F6B-9CAE-E313DE6DA8AB}" type="slidenum">
              <a:t>18</a:t>
            </a:fld>
          </a:p>
        </p:txBody>
      </p:sp>
    </p:spTree>
  </p:cSld>
  <p:transition spd="med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ie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1295280"/>
            <a:ext cx="777240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in durch alle Maßstäbe abgestimmtes Gewässernetz mit geometrisch abgestimmten Einzugsgebieten fü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2514600"/>
            <a:ext cx="77724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zwerkanaly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schneid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nübertrag von feinen auf groben Maßst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richte, Verzeichni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r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.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0A525-370A-40F8-B41C-8DD459C600BC}" type="slidenum">
              <a:t>19</a:t>
            </a:fld>
          </a:p>
        </p:txBody>
      </p:sp>
    </p:spTree>
  </p:cSld>
  <p:transition spd="med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halt des Vortrag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stellung des Gewässernet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flege des Datenbestan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t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forderungen an ein EU-Berichtsne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Übertragung vom Bearbeitungsmaßstab auf den Berichtsmaßst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elvorga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2202E-6F62-4A62-B2A7-7EE19CD79551}" type="slidenum">
              <a:t>2</a:t>
            </a:fld>
          </a:p>
        </p:txBody>
      </p:sp>
    </p:spTree>
  </p:cSld>
  <p:transition spd="med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stellung des Basis-Gewässernet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14778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1. Schrit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21337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undlage: topographisches Gewässernetz DLM 25 der Landesvermessung (LGN) in der 1. 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gabe von Gewässer-Kennzahlen gemäß der LAWA-Richtlinie für Gewässerverschlüssel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Übernahme dieser Kennzahlen in das DLM 25 durch die L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90BA3-9955-4798-95B9-6C8673CFB79E}" type="slidenum">
              <a:t>3</a:t>
            </a:fld>
          </a:p>
        </p:txBody>
      </p:sp>
    </p:spTree>
  </p:cSld>
  <p:transition spd="med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stellung des Basis-Gewässernet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gänzung fiktiver Achsen für flächenförmige Gewässer und verrohrte Abschni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stellung eines topologisch geschlossenen Net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richtung der Arcs in Fließrich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Übergabe der gerichteten Achsen an die LGN zur Übernahme in das DLM 2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14778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2. Schrit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06E62-3096-4262-8E19-2B4398F2AE7E}" type="slidenum">
              <a:t>4</a:t>
            </a:fld>
          </a:p>
        </p:txBody>
      </p:sp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stellung des Basis-Gewässernet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nberech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on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zwerk-Topolo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14778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3. Schrit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CC8EC-1E63-4255-87E8-87FB6B67C658}" type="slidenum">
              <a:t>5</a:t>
            </a:fld>
          </a:p>
        </p:txBody>
      </p:sp>
    </p:spTree>
  </p:cSld>
  <p:transition spd="med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flege des Gewässernet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wässername „GewBez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wässerkennzahl „GKZ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terhaltungsgrad „WDM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age zur Oberfläche „OFL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rt der Gewässerachse „AGA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age/Geometrie des Gewäss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ließrichtu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22096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flege folgender Attribu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2952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zirksregierungen und Unterhaltungsverbände liefern  Änderungsmeld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493AA-A094-434C-90BE-ADED5B054D35}" type="slidenum">
              <a:t>6</a:t>
            </a:fld>
          </a:p>
        </p:txBody>
      </p:sp>
    </p:spTree>
  </p:cSld>
  <p:transition spd="med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ditier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 ArcEdit (ArcInfo-Workstation) aufgesetzte Editieroberflä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tandteil einer Zusammenstellung von aml-Programmen zur Bearbeitung von hydrologischen Fragestellun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twickelt speziell für unsere Daten von der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a. Gis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79A54-4E42-4A7E-B043-5C54D5D2201F}" type="slidenum">
              <a:t>7</a:t>
            </a:fld>
          </a:p>
        </p:txBody>
      </p:sp>
    </p:spTree>
  </p:cSld>
  <p:transition spd="med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555" t="0" r="0" b="1292"/>
          <a:stretch/>
        </p:blipFill>
        <p:spPr>
          <a:xfrm>
            <a:off x="1447920" y="838080"/>
            <a:ext cx="6248160" cy="4961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486400" y="21337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Arial"/>
              </a:rPr>
              <a:t>WDM 15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952880" y="3200400"/>
            <a:ext cx="304920" cy="76320"/>
          </a:xfrm>
          <a:prstGeom prst="rightArrow">
            <a:avLst>
              <a:gd name="adj1" fmla="val 50000"/>
              <a:gd name="adj2" fmla="val 99882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29718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Arial"/>
              </a:rPr>
              <a:t>WDM 15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91320" y="2362320"/>
            <a:ext cx="380880" cy="75960"/>
          </a:xfrm>
          <a:prstGeom prst="leftArrow">
            <a:avLst>
              <a:gd name="adj1" fmla="val 50000"/>
              <a:gd name="adj2" fmla="val 125355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76720" y="25146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Arial"/>
              </a:rPr>
              <a:t>WDM 15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05320" y="24382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743200" y="49831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Arial"/>
              </a:rPr>
              <a:t>WDM 15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4952880"/>
            <a:ext cx="304560" cy="76320"/>
          </a:xfrm>
          <a:prstGeom prst="rightArrow">
            <a:avLst>
              <a:gd name="adj1" fmla="val 50000"/>
              <a:gd name="adj2" fmla="val 99764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52880" y="4038480"/>
            <a:ext cx="304920" cy="76320"/>
          </a:xfrm>
          <a:prstGeom prst="rightArrow">
            <a:avLst>
              <a:gd name="adj1" fmla="val 50000"/>
              <a:gd name="adj2" fmla="val 99882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95680" y="41148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Arial"/>
              </a:rPr>
              <a:t>EZG-Gren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447920" y="914400"/>
            <a:ext cx="5033880" cy="4800600"/>
            <a:chOff x="1447920" y="914400"/>
            <a:chExt cx="5033880" cy="4800600"/>
          </a:xfrm>
        </p:grpSpPr>
        <p:pic>
          <p:nvPicPr>
            <p:cNvPr id="74" name="" descr=""/>
            <p:cNvPicPr/>
            <p:nvPr/>
          </p:nvPicPr>
          <p:blipFill>
            <a:blip r:embed="rId2">
              <a:lum bright="-24000"/>
            </a:blip>
            <a:srcRect l="30351" t="24080" r="14197" b="12361"/>
            <a:stretch/>
          </p:blipFill>
          <p:spPr>
            <a:xfrm>
              <a:off x="1447920" y="914400"/>
              <a:ext cx="5033880" cy="48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4114800" y="4191120"/>
              <a:ext cx="2362320" cy="14396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990720" y="3049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rstellung der Editieroberfläch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05120" y="2362320"/>
            <a:ext cx="685800" cy="83808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81080" y="3962520"/>
            <a:ext cx="685800" cy="45720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1600200"/>
            <a:ext cx="838080" cy="22860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05120" y="1981080"/>
            <a:ext cx="838080" cy="22860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3505320"/>
            <a:ext cx="1371600" cy="22860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62520" y="1066680"/>
            <a:ext cx="1447560" cy="297180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057400" y="3200400"/>
            <a:ext cx="304920" cy="15228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C7D17-CBAD-446E-8B66-6375271A4659}" type="slidenum">
              <a:t>8</a:t>
            </a:fld>
          </a:p>
        </p:txBody>
      </p:sp>
    </p:spTree>
  </p:cSld>
  <p:transition spd="med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itergabe der Änderungsmeldungen an die L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69704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stellung von georeferenzierten Screenshots (tif-Dateien) einer Änderungssituation aus dem Editierprogramm hera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LGN verifiziert die Änderungsmeldungen anhand der aktuellsten Luftbilder und fügt die Änderungen mit der erforderlichen Erfassungsqualität in das DLM 25 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direkte Übertragung der Geometrien erfolgt nur bei den Gewässerach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B8C52-E535-4A45-9F4A-2AA727946D49}" type="slidenum">
              <a:t>9</a:t>
            </a:fld>
          </a:p>
        </p:txBody>
      </p:sp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2T14:36:25Z</dcterms:created>
  <dc:creator>lhi419</dc:creator>
  <dc:description/>
  <dc:language>en-US</dc:language>
  <cp:lastModifiedBy>lhi419</cp:lastModifiedBy>
  <cp:lastPrinted>2003-10-31T10:25:20Z</cp:lastPrinted>
  <dcterms:modified xsi:type="dcterms:W3CDTF">2003-10-31T10:27:14Z</dcterms:modified>
  <cp:revision>33</cp:revision>
  <dc:subject/>
  <dc:title>Kein Folientitel</dc:title>
</cp:coreProperties>
</file>