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779640" y="-36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77680" y="736560"/>
            <a:ext cx="4911480" cy="368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888480" y="4665240"/>
            <a:ext cx="4891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0" y="93279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779640" y="932796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CDFC-7C61-48E1-80A3-AB78FA861DA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84160" y="76680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888840" y="4668840"/>
            <a:ext cx="4889520" cy="444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pplikationsentwicklung im LAN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: einfach zu bediendendes, aber flexibles Auskunftssystem für Nicht-GIS-Spezialis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konvertierung vom Coverageformat von ArcInfo (Datenaufbereitung) ins Shapeformat von ArcView (Datenvisualisieru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implementierung in ArcView-Projekt unter Windows NT (Betriebssystem, welches von allen Mitarbeitern genutzt wird; Datenaufbereitung erfolgte unter Betriebssystem Uni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pplikationsentwicklung mittels Avenue-Programmiersprache von Arc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folgt eine Livedemonstration der Applikation zum GFV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Fertigstellung erst vor wenigen Tag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84160" y="76680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88840" y="4668840"/>
            <a:ext cx="4889520" cy="444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pplikationsentwicklung im LAN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: einfach zu bediendendes, aber flexibles Auskunftssystem für Nicht-GIS-Spezialis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konvertierung vom Coverageformat von ArcInfo (Datenaufbereitung) ins Shapeformat von ArcView (Datenvisualisieru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implementierung in ArcView-Projekt unter Windows NT (Betriebssystem, welches von allen Mitarbeitern genutzt wird; Datenaufbereitung erfolgte unter Betriebssystem Uni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pplikationsentwicklung mittels Avenue-Programmiersprache von Arc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folgt eine Livedemonstration der Applikation zum GFV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Fertigstellung erst vor wenigen Tag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08600" cy="3681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8480" y="4665240"/>
            <a:ext cx="4891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iterer Vortra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Meßnetzkataster gibt Hinweis auf Datenherkunft, ab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-&gt; Verwendung der NUIS-Daten im LAN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wozu der Aufw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-&gt; dann Blick von außen auf das NU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- woher kommen die 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dann Einstieg in die Teile des NU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drei Fachinformationssysteme als Beispiele fü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Umfang der geleisteten Arbei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Aufgaben und Inhalte der Syst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noch zu leistende Arb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NUIS-Kern - das unbekannte Wesen (wirklich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dann Blick von innen (NUIS) nach auß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Einsatz der NUIS-Daten für die Öffentlichk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&gt; Beispiel für Kernanwendung: Umweltdaten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84160" y="76680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88840" y="4668840"/>
            <a:ext cx="4889520" cy="444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rten a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beitsunterlagen, Unikate in hoher Qualität für Entscheidungsträger, Karten in geringer Auflage für fachliche Berichte oder Karten für zu veröffentlichende Berichte mit der Notwendigkeit der Erstellung von Druckvorlagen erstel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karte- Druckvorla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---minuten bis Wo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au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_ Angabe einer Geometri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genschaft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- Attribut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i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- hat noch keine direkte Einbindung erfahr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reidimensionalitä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kann mit Hilfe von Höhenangaben eines Geländemodells als Zusatzattri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84160" y="76680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88840" y="4668840"/>
            <a:ext cx="4889520" cy="444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grundlage Geofachdaten (Vektordaten zum GF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gitalisierung nach analogen Vorlagen (analoges Flächenverzeichnis mit TK25-Blätter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FV besteht aus hierarchischer Gliederung von der 1. bis zur 7. Stelle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Stelle: grobe Unterteilung in EZG Elbe / EZG von Nord- und Ostse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bis 7. Stelle: immer feinere Unterteilungen (theoretisch auf beliebig viele Stell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3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bereitung im LANU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leitung der Teil-EZG der übergeordneten Stellen (1. bis 6. Stelle) von den digitalisierten Basisgeometrien (7. Stel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leitung der Gesamt-EZG für alle Ste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leitung der Gewässer-EZG für alle Ste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leitung von Grenzliniencodierungen für die Teilgebietsgrenz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alles in ArcInfo mittels A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Bedeutung der EZG-Typen wird in Demo erläuter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vor: Zahlen zur Aufberei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ADDD1-31FA-41AD-870D-2C37288E0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320" y="38523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83777-DD88-477C-A189-8708EDFE2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88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0DED0-C4AA-41DD-90F2-E1F837394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488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7844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132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488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7844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F7FB3-DF47-45B5-809E-9F9C4E480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C8545-40FD-4ACC-AACC-F79C0A6B2B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E6977-1816-497C-844F-6E9EA11F78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F57FE-E7D6-4F2A-960B-A4670EC83D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DA6D8-1BBE-483C-BEF0-D26EC61F1B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25992-8282-47F1-B492-F033A4208D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7200" y="376200"/>
            <a:ext cx="6594480" cy="17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D6B37-A028-4347-81F0-EB53CAAF70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0017B-1B8E-4859-A728-2C5B3F360D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A3B55-46EC-4CD9-A44C-36C3A2AE8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9288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567A3-0FF6-43CD-92AF-33663F12DB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6025D-642F-479E-B350-0662168299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1320" y="38523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B3921-661D-405C-B3E5-8531AFCFED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9288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F41A0-0511-4E13-8691-B6B9A55523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2488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7844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7132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2488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7844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E5E0C-C05B-42B6-BFB5-240A6877CE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408B8-5A98-4D81-8E95-909920CDB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5F5D7-6FAB-40A2-84DA-3D58EBC9A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D0368-66FB-48D7-AE79-2A268B8AA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87200" y="376200"/>
            <a:ext cx="6594480" cy="17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43529-FB82-4153-9F7D-5385749CE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52572-E667-4C3A-8BB1-D4F60B51A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88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48E2B-7C25-401D-88C3-F00A9448F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06EB0-64BC-4545-9567-80022EDB3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535960" y="235080"/>
            <a:ext cx="609480" cy="488880"/>
            <a:chOff x="8535960" y="235080"/>
            <a:chExt cx="609480" cy="488880"/>
          </a:xfrm>
        </p:grpSpPr>
        <p:sp>
          <p:nvSpPr>
            <p:cNvPr id="1" name=""/>
            <p:cNvSpPr/>
            <p:nvPr/>
          </p:nvSpPr>
          <p:spPr>
            <a:xfrm>
              <a:off x="8535960" y="519120"/>
              <a:ext cx="609480" cy="204840"/>
            </a:xfrm>
            <a:custGeom>
              <a:avLst/>
              <a:gdLst/>
              <a:ahLst/>
              <a:rect l="l" t="t" r="r" b="b"/>
              <a:pathLst>
                <a:path w="384" h="129">
                  <a:moveTo>
                    <a:pt x="0" y="128"/>
                  </a:moveTo>
                  <a:lnTo>
                    <a:pt x="97" y="128"/>
                  </a:lnTo>
                  <a:lnTo>
                    <a:pt x="110" y="96"/>
                  </a:lnTo>
                  <a:lnTo>
                    <a:pt x="383" y="96"/>
                  </a:lnTo>
                  <a:lnTo>
                    <a:pt x="383" y="0"/>
                  </a:lnTo>
                  <a:lnTo>
                    <a:pt x="147" y="0"/>
                  </a:lnTo>
                  <a:lnTo>
                    <a:pt x="135" y="30"/>
                  </a:lnTo>
                  <a:lnTo>
                    <a:pt x="0" y="30"/>
                  </a:lnTo>
                  <a:lnTo>
                    <a:pt x="0" y="12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35960" y="235080"/>
              <a:ext cx="609480" cy="204480"/>
            </a:xfrm>
            <a:custGeom>
              <a:avLst/>
              <a:gdLst/>
              <a:ahLst/>
              <a:rect l="l" t="t" r="r" b="b"/>
              <a:pathLst>
                <a:path w="384" h="129">
                  <a:moveTo>
                    <a:pt x="0" y="128"/>
                  </a:moveTo>
                  <a:lnTo>
                    <a:pt x="168" y="128"/>
                  </a:lnTo>
                  <a:lnTo>
                    <a:pt x="181" y="96"/>
                  </a:lnTo>
                  <a:lnTo>
                    <a:pt x="383" y="96"/>
                  </a:lnTo>
                  <a:lnTo>
                    <a:pt x="383" y="0"/>
                  </a:lnTo>
                  <a:lnTo>
                    <a:pt x="218" y="0"/>
                  </a:lnTo>
                  <a:lnTo>
                    <a:pt x="206" y="30"/>
                  </a:lnTo>
                  <a:lnTo>
                    <a:pt x="0" y="30"/>
                  </a:lnTo>
                  <a:lnTo>
                    <a:pt x="0" y="128"/>
                  </a:lnTo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81080" y="851040"/>
            <a:ext cx="8962920" cy="5702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190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09720" indent="-190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09720" indent="-190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09720" indent="-190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10360" y="6668640"/>
            <a:ext cx="3109680" cy="1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915400" y="6645240"/>
            <a:ext cx="18432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C9B1-8BAF-4634-B448-CE2E5CA71D4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0" y="259200"/>
            <a:ext cx="1562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Landesamt fü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Natur und Umwe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des Land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Schleswig-Holst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535960" y="519120"/>
            <a:ext cx="609480" cy="204840"/>
          </a:xfrm>
          <a:custGeom>
            <a:avLst/>
            <a:gdLst/>
            <a:ahLst/>
            <a:rect l="l" t="t" r="r" b="b"/>
            <a:pathLst>
              <a:path w="384" h="129">
                <a:moveTo>
                  <a:pt x="0" y="128"/>
                </a:moveTo>
                <a:lnTo>
                  <a:pt x="97" y="128"/>
                </a:lnTo>
                <a:lnTo>
                  <a:pt x="110" y="96"/>
                </a:lnTo>
                <a:lnTo>
                  <a:pt x="383" y="96"/>
                </a:lnTo>
                <a:lnTo>
                  <a:pt x="383" y="0"/>
                </a:lnTo>
                <a:lnTo>
                  <a:pt x="147" y="0"/>
                </a:lnTo>
                <a:lnTo>
                  <a:pt x="135" y="30"/>
                </a:lnTo>
                <a:lnTo>
                  <a:pt x="0" y="30"/>
                </a:lnTo>
                <a:lnTo>
                  <a:pt x="0" y="128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35960" y="235080"/>
            <a:ext cx="609480" cy="204480"/>
          </a:xfrm>
          <a:custGeom>
            <a:avLst/>
            <a:gdLst/>
            <a:ahLst/>
            <a:rect l="l" t="t" r="r" b="b"/>
            <a:pathLst>
              <a:path w="384" h="129">
                <a:moveTo>
                  <a:pt x="0" y="128"/>
                </a:moveTo>
                <a:lnTo>
                  <a:pt x="168" y="128"/>
                </a:lnTo>
                <a:lnTo>
                  <a:pt x="181" y="96"/>
                </a:lnTo>
                <a:lnTo>
                  <a:pt x="383" y="96"/>
                </a:lnTo>
                <a:lnTo>
                  <a:pt x="383" y="0"/>
                </a:lnTo>
                <a:lnTo>
                  <a:pt x="218" y="0"/>
                </a:lnTo>
                <a:lnTo>
                  <a:pt x="206" y="30"/>
                </a:lnTo>
                <a:lnTo>
                  <a:pt x="0" y="30"/>
                </a:lnTo>
                <a:lnTo>
                  <a:pt x="0" y="128"/>
                </a:lnTo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1080" y="851040"/>
            <a:ext cx="8962920" cy="5702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11760" y="259200"/>
            <a:ext cx="1808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Landesamt fü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Natur und Umwe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des Land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Schleswig-Holst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3"/>
          </p:nvPr>
        </p:nvSpPr>
        <p:spPr>
          <a:xfrm>
            <a:off x="5310360" y="6652800"/>
            <a:ext cx="3109680" cy="1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915400" y="6645240"/>
            <a:ext cx="18432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72A3-B4A6-4835-9E79-C6FFDF063DA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143000"/>
            <a:ext cx="7772400" cy="45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3399"/>
                </a:solidFill>
                <a:latin typeface="Times New Roman"/>
              </a:rPr>
              <a:t>GIS am LAN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3399"/>
                </a:solidFill>
                <a:latin typeface="Times New Roman"/>
              </a:rPr>
              <a:t>u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3399"/>
                </a:solidFill>
                <a:latin typeface="Times New Roman"/>
              </a:rPr>
              <a:t>Vorbereitung eines Metadatens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876920"/>
            <a:ext cx="31240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mon M. Hiemcke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nuela Pfei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.M. Hiemc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C86A2-6AFA-4D1E-9400-71572D3875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Geofachdaten der Abt.3 LA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912960"/>
            <a:ext cx="86104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atenerfassung bis Mitte 1999 mittels Digitalisierbrett in SIC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Kontrolle der Abgrenzungen war erst auf Ausdruck möglich (TK 25- Kopie wurde in Plotter eingeleg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Sachdatenhaltung in ADA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b Mitte 1999 Übertragung ins ArcInfo-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seitdem Überarbeitung / Pflege / Digitalisierung am Bildschirm auf georeferenzierten TK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Sachdatenhaltung in INFO (direkt nachattributie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Metadaten in README-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.M. Hiemc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CBDBC-6F3F-43F4-B1D4-18A6076AC2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87200" y="376200"/>
            <a:ext cx="8956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GIS-Einsatz in der Abt.3 LA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33280" y="1219320"/>
          <a:ext cx="883944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219320"/>
                    <a:ext cx="883944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.M. Hiemc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C7159-DDFB-44F7-B12C-0690115512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GIS-Einsatz in der Abt.3 LA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912960"/>
            <a:ext cx="86104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ct val="110000"/>
              </a:lnSpc>
              <a:spcBef>
                <a:spcPts val="524"/>
              </a:spcBef>
              <a:spcAft>
                <a:spcPts val="524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IC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Eingabe der Daten erfolgte durch wenige Pers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kein Zugriff auf die Daten durch andere Dezer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524"/>
              </a:spcBef>
              <a:spcAft>
                <a:spcPts val="524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rc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Zahl der Personen mit  lesendem Zugriff ist stark gestiegen, Erzeugung „eigener“ Fachth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Metadaten in README-Files bleiben unbeach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Anwendungsfehler bei (Nicht-)Selektion von Flächen aus Cover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neue Anforderungen an Datenaufbereitung und Metadatenh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.M. Hiemc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F8BE-16BD-4287-B737-7C396E12FB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Applikationsentwicklung Meta-Tool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ordnete Ablage von Daten</a:t>
            </a:r>
            <a:br>
              <a:rPr sz="32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 virtueller Verzeichnisstruktur / Metadaten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atenimplementierung</a:t>
            </a:r>
            <a:br>
              <a:rPr sz="32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 Fachschalen unter Windows 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eitere Applikationsentwicklung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ittels Avenue-Programmierung für Arc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152280"/>
            <a:ext cx="68230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99"/>
                </a:solidFill>
                <a:latin typeface="Arial"/>
              </a:rPr>
              <a:t>GIS-Applikation für ArcView-Anwender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.M. Hiemc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06E78-9FD7-4350-AC8A-D48E867F7D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Meta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912960"/>
            <a:ext cx="86104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sammentragen von Metad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 README‘s und Recherchen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nächst Eintrag in EXCEL-Tabel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1447920"/>
            <a:ext cx="830592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ame/Verzeichnis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yp (Datenforma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biet (räumlicher Bezu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nerfassung bzw. -aufberei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fassungsmaßsta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itpunkt der digitalen Erfassung (von ... bis, seit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fassungsprojek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ktualitä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auptattrib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ständigkeit (fachlic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npfle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elektion attributierter Fläc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vtl. Defizite / Anmerk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.M. Hiemc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9C11C-778A-4804-AD28-AFCA808670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tadaten in Meta-Tool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inscannen“ von README-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rekte Eingabe von Metadaten</a:t>
            </a:r>
            <a:br>
              <a:rPr sz="32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ch Aliasnamen, Joinoperationen, Anmerk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sgabe von Metadaten für Datenweitergab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152280"/>
            <a:ext cx="68230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99"/>
                </a:solidFill>
                <a:latin typeface="Arial"/>
              </a:rPr>
              <a:t>Metadatenkatalog für ArcView-Anwender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.M. Hiemc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3829B-1B3D-4904-9317-5F6CB592DD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2200" y="174600"/>
            <a:ext cx="55512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cc0000"/>
                </a:solidFill>
                <a:latin typeface="Arial"/>
              </a:rPr>
              <a:t>Management von Geofachd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55680" y="919080"/>
            <a:ext cx="8575560" cy="4800600"/>
            <a:chOff x="355680" y="919080"/>
            <a:chExt cx="8575560" cy="4800600"/>
          </a:xfrm>
        </p:grpSpPr>
        <p:graphicFrame>
          <p:nvGraphicFramePr>
            <p:cNvPr id="159" name=""/>
            <p:cNvGraphicFramePr/>
            <p:nvPr/>
          </p:nvGraphicFramePr>
          <p:xfrm>
            <a:off x="396720" y="1646280"/>
            <a:ext cx="8534520" cy="40734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6720" y="1646280"/>
                      <a:ext cx="8534520" cy="407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"/>
            <p:cNvSpPr/>
            <p:nvPr/>
          </p:nvSpPr>
          <p:spPr>
            <a:xfrm>
              <a:off x="355680" y="919080"/>
              <a:ext cx="63021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80"/>
                  </a:solidFill>
                  <a:latin typeface="Arial"/>
                </a:rPr>
                <a:t>Aufgab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.M. Hiemc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33147-71BB-4E86-8537-26403B78E3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7160" y="235080"/>
            <a:ext cx="61070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cc0000"/>
                </a:solidFill>
                <a:latin typeface="Arial"/>
              </a:rPr>
              <a:t>Management von Geofachd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46240" y="1728720"/>
            <a:ext cx="1927080" cy="4365360"/>
            <a:chOff x="246240" y="1728720"/>
            <a:chExt cx="1927080" cy="4365360"/>
          </a:xfrm>
        </p:grpSpPr>
        <p:sp>
          <p:nvSpPr>
            <p:cNvPr id="164" name=""/>
            <p:cNvSpPr/>
            <p:nvPr/>
          </p:nvSpPr>
          <p:spPr>
            <a:xfrm>
              <a:off x="246240" y="1728720"/>
              <a:ext cx="1927080" cy="61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spcBef>
                  <a:spcPts val="1800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Arial"/>
                </a:rPr>
                <a:t>Identifik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6240" y="2644560"/>
              <a:ext cx="1909440" cy="61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spcBef>
                  <a:spcPts val="400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Arial"/>
                </a:rPr>
                <a:t>Beschreib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40" y="3598560"/>
              <a:ext cx="1909440" cy="61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spcBef>
                  <a:spcPts val="400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Arial"/>
                </a:rPr>
                <a:t>Qualit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6240" y="4539960"/>
              <a:ext cx="1909440" cy="61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Administr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Angab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6240" y="5478120"/>
              <a:ext cx="1909440" cy="61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Vertri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325520" y="1789200"/>
            <a:ext cx="8588520" cy="4195080"/>
            <a:chOff x="1325520" y="1789200"/>
            <a:chExt cx="8588520" cy="4195080"/>
          </a:xfrm>
        </p:grpSpPr>
        <p:sp>
          <p:nvSpPr>
            <p:cNvPr id="170" name=""/>
            <p:cNvSpPr/>
            <p:nvPr/>
          </p:nvSpPr>
          <p:spPr>
            <a:xfrm>
              <a:off x="1362240" y="2509920"/>
              <a:ext cx="8551800" cy="12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28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99"/>
                  </a:solidFill>
                  <a:latin typeface="Arial"/>
                </a:rPr>
                <a:t>Kurzbeschreibung, Objekt- und Attributdefinitionen, Verweis Dokumentationen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28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99"/>
                  </a:solidFill>
                  <a:latin typeface="Arial"/>
                </a:rPr>
                <a:t>Erfassungsstand (lokal, regional, landesweit), Zeitbezug fachliche Bearbeitung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28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99"/>
                  </a:solidFill>
                  <a:latin typeface="Arial"/>
                </a:rPr>
                <a:t>Raumbezüge (Administrative Einheiten, fachl. Gebietseinheiten)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35240" y="1789200"/>
              <a:ext cx="63378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003399"/>
                  </a:solidFill>
                  <a:latin typeface="Arial"/>
                </a:rPr>
                <a:t>Titel, Dateibezeichnung, Zeitbezug Digitalisierung, datenlieferndes FIS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44600" y="3573720"/>
              <a:ext cx="6645600" cy="10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2" marL="914400">
                <a:lnSpc>
                  <a:spcPct val="128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99"/>
                  </a:solidFill>
                  <a:latin typeface="Arial"/>
                </a:rPr>
                <a:t>Thematische Qualität, Maßstabsbezüge (Erfassung-Anwendung)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28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99"/>
                  </a:solidFill>
                  <a:latin typeface="Arial"/>
                </a:rPr>
                <a:t>Geodätische Bezugssysteme (Erfassung, Abgabe)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25520" y="4395960"/>
              <a:ext cx="7441200" cy="12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2" marL="914400">
                <a:lnSpc>
                  <a:spcPct val="128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99"/>
                  </a:solidFill>
                  <a:latin typeface="Arial"/>
                </a:rPr>
                <a:t>Organisationsname, Funktion der Organisation (fachl. Datenerhebung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28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99"/>
                  </a:solidFill>
                  <a:latin typeface="Arial"/>
                </a:rPr>
                <a:t>Digitalisierung, Datenhaltung, Datenpflege, Datenverantwortung, Datenver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28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99"/>
                  </a:solidFill>
                  <a:latin typeface="Arial"/>
                </a:rPr>
                <a:t>teilung); Kontaktperson; Auskun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19040" y="5570640"/>
              <a:ext cx="3766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Karten, Datenträger, Datentypen, Form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331360" y="846000"/>
            <a:ext cx="1939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Metad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.M. Hiemc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24444-8933-4028-8A4D-D9A8E1040C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86840" y="376200"/>
            <a:ext cx="682308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Natur-und Umweltinformationssystem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25640" y="1406520"/>
          <a:ext cx="7251480" cy="48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406520"/>
                    <a:ext cx="7251480" cy="48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.M. Hiemc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4D6E6-D0BA-4B01-BEB6-7A603FC03958}" type="slidenum">
              <a:t>2</a:t>
            </a:fld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160" y="1447560"/>
            <a:ext cx="7848360" cy="348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76920" indent="-376920"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 Mensch nimmt Informationen mit den Augen au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rten als zentrale Produkte aus einem G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änomene der Natur sind nicht statis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um - Eigenschaft - Zeit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eidimensio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152280"/>
            <a:ext cx="68230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99"/>
                </a:solidFill>
                <a:latin typeface="Arial"/>
              </a:rPr>
              <a:t>Schwerpunkt: Visualisierung und Analyse mit GIS und Karto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.M. Hiemck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Geobasisdaten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obasisdaten umfassen Informationen im Bezug auf die Erdoberfläche (LVA- Schleswig-Holste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 LANU werden digital vorgehalt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opographische Karten als Rasterdaten (Hintergrundbil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TKIS als Vektordaten (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tliche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ographisch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tographische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formation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K als Vektordaten (Automatisierte Liegenschaftskarte; noch nicht vollständi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gitale Geländemodelle (zum Beispiel das DGM 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.M. Hiemc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01166-CC6B-46E5-970D-617FF52C4B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65400" indent="0"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ofachdate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ktordaten fachlicher Themen</a:t>
            </a:r>
            <a:br>
              <a:rPr sz="28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gitalisiert nach analogen Vorlagen / teilweise Übernahme digitaler Daten von auße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bereitung im LAN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ggf. Konvert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Georeferenzierung auf Zielprojektion GK 3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Implementierung in bestehende Datensätze/F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Erstellung landesweiter Datensätz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Abgabe von Daten / „Geodatenstelle des MUNF-Ressorts“ gem. Vereinbarung MUNF / LVermA / I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68230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Geofachdaten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.M. Hiemc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95CF8-22A6-4B12-B8E6-6550F35C39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190512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buClr>
                <a:srgbClr val="000000"/>
              </a:buClr>
              <a:buFont typeface="Times New Roman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echnische Interoperabilitä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arbeitung von raumbezogenen Daten unterschiedlichen Ursprun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15840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nabhängig vom Ort der Datenhal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15840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nabhängig von der eingesetzten Technik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15840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buClr>
                <a:srgbClr val="000000"/>
              </a:buClr>
              <a:buFont typeface="Times New Roman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emantische Interoperabilitä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15840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nabhängig vom Datenmodell (Objektdefini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15840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buClr>
                <a:srgbClr val="000000"/>
              </a:buClr>
              <a:buFont typeface="Times New Roman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eobasisdaten als kleinster gemeinsamer Ne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8480" y="920880"/>
            <a:ext cx="812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Technische und semantische Interoperabilitä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Voraussetzungen für Datenaustau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.M. Hiemc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19074-5120-47D8-A65C-57A7A7C4D7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87200" y="376200"/>
            <a:ext cx="68230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Anforderungen an den Datenpo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295280"/>
            <a:ext cx="792468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914400"/>
            <a:ext cx="84582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wendung einheitlicher Geometrien in Schleswig-Hol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 Basis DLM 25 ATKIS für die Bearbeitungsmaßstäbe 1:5.000 bis 1:25.000 und nach Erforder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ndere Bearbeitungsmaßstäbe ggf. Anpassung an andere D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Datenmod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 von raumbezogenen Daten in Geographischen Informationssyst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erte Austauschformate ( z.B.: EDBS, e00, shp, sq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stlegung der Proje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gaben für die Digitalisierung - Abstimmung von Anforde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.M. Hiemc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E7560-1D0C-4E5E-9F1B-E7994B63DF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81080" y="838080"/>
            <a:ext cx="8962920" cy="5702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259200"/>
            <a:ext cx="125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Landesamt fü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Natur und Umwe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des Land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Schleswig-Holst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3520" y="299880"/>
            <a:ext cx="659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Entwicklungsstand WaF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5960" y="214200"/>
            <a:ext cx="792360" cy="519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763120" y="6645240"/>
            <a:ext cx="1839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CA2C-D003-4079-BC04-A463B64C31D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10360" y="6669000"/>
            <a:ext cx="31096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ANU 441 - Diplom-Geologe Wolfgang Wolte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990720"/>
            <a:ext cx="3657600" cy="1447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"/>
              </a:rPr>
              <a:t>WaFIS Grundwass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"/>
              </a:rPr>
              <a:t>Produktionsbetrieb im L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"/>
              </a:rPr>
              <a:t>Start in den StUÄ/UWB mit verbesserter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Univers"/>
              </a:rPr>
              <a:t>ab Ende Mai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1219320"/>
            <a:ext cx="4114800" cy="1447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"/>
              </a:rPr>
              <a:t>WaFIS Hydrologi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"/>
              </a:rPr>
              <a:t>Modul </a:t>
            </a:r>
            <a:r>
              <a:rPr b="0" lang="de-DE" sz="1200" spc="-1" strike="noStrike">
                <a:solidFill>
                  <a:srgbClr val="000000"/>
                </a:solidFill>
                <a:latin typeface="Univers"/>
              </a:rPr>
              <a:t>WISKI</a:t>
            </a:r>
            <a:r>
              <a:rPr b="1" lang="de-DE" sz="1200" spc="-1" strike="noStrike">
                <a:solidFill>
                  <a:srgbClr val="000000"/>
                </a:solidFill>
                <a:latin typeface="Univers"/>
              </a:rPr>
              <a:t> im LANU/StU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"/>
              </a:rPr>
              <a:t>im Produktionsein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4876920"/>
            <a:ext cx="4038840" cy="1447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"/>
              </a:rPr>
              <a:t>WaFIS Küstengewäss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"/>
              </a:rPr>
              <a:t>Teilmodul </a:t>
            </a:r>
            <a:r>
              <a:rPr b="0" lang="de-DE" sz="1200" spc="-1" strike="noStrike">
                <a:solidFill>
                  <a:srgbClr val="000000"/>
                </a:solidFill>
                <a:latin typeface="Univers"/>
              </a:rPr>
              <a:t>AlgFIS</a:t>
            </a:r>
            <a:r>
              <a:rPr b="1" lang="de-DE" sz="1200" spc="-1" strike="noStrike">
                <a:solidFill>
                  <a:srgbClr val="000000"/>
                </a:solidFill>
                <a:latin typeface="Univers"/>
              </a:rPr>
              <a:t> i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"/>
              </a:rPr>
              <a:t>unter Produktionsbeding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"/>
              </a:rPr>
              <a:t>(LANU-inter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648320"/>
            <a:ext cx="3657600" cy="1447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"/>
              </a:rPr>
              <a:t>WaFIS Se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"/>
              </a:rPr>
              <a:t>Teil </a:t>
            </a:r>
            <a:r>
              <a:rPr b="0" lang="de-DE" sz="1200" spc="-1" strike="noStrike">
                <a:solidFill>
                  <a:srgbClr val="000000"/>
                </a:solidFill>
                <a:latin typeface="Univers"/>
              </a:rPr>
              <a:t>Seendatenbank</a:t>
            </a:r>
            <a:r>
              <a:rPr b="1" lang="de-DE" sz="1200" spc="-1" strike="noStrike">
                <a:solidFill>
                  <a:srgbClr val="000000"/>
                </a:solidFill>
                <a:latin typeface="Univers"/>
              </a:rPr>
              <a:t> 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"/>
              </a:rPr>
              <a:t>Oracle-Vers. im Ein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"/>
              </a:rPr>
              <a:t>(LANU-inter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2819520"/>
            <a:ext cx="3657600" cy="1447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"/>
              </a:rPr>
              <a:t>WaFIS Abwass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Univers"/>
              </a:rPr>
              <a:t>Testphase abgeschloss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Univers"/>
              </a:rPr>
              <a:t>Einfüh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Univers"/>
              </a:rPr>
              <a:t>voraussichtlich 11/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3048120"/>
            <a:ext cx="4038840" cy="1447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"/>
              </a:rPr>
              <a:t>WaFIS Fließgewäss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Univers"/>
              </a:rPr>
              <a:t>Teilmodul </a:t>
            </a:r>
            <a:r>
              <a:rPr b="0" lang="en-US" sz="1200" spc="-1" strike="noStrike">
                <a:solidFill>
                  <a:srgbClr val="000000"/>
                </a:solidFill>
                <a:latin typeface="Univers"/>
              </a:rPr>
              <a:t>SADEX</a:t>
            </a:r>
            <a:r>
              <a:rPr b="1" lang="en-US" sz="1200" spc="-1" strike="noStrike">
                <a:solidFill>
                  <a:srgbClr val="000000"/>
                </a:solidFill>
                <a:latin typeface="Univers"/>
              </a:rPr>
              <a:t> im Ein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Univers"/>
              </a:rPr>
              <a:t>detaillierte Überarbeitung in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838080"/>
            <a:ext cx="4191120" cy="3657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2680" y="2438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K3-Umw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.M. Hiemck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GIS- Einsatz im LANU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52388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895480"/>
            <a:ext cx="2057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S-Expe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2895480"/>
            <a:ext cx="17528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S-Nut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2895480"/>
            <a:ext cx="2819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gemeiner Nut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Verwaltungsinter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(Öffentlichke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4343400"/>
            <a:ext cx="2362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cInfo/Arc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343400"/>
            <a:ext cx="1371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c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4343400"/>
            <a:ext cx="2057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S-Vie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2819520"/>
            <a:ext cx="3276720" cy="266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295280"/>
            <a:ext cx="2361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wicklung eines WEB-G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.M. Hiemc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18208-2BC9-440C-A5CE-C5E178244C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11:00:26Z</dcterms:created>
  <dc:creator>Uwe Rammert</dc:creator>
  <dc:description/>
  <dc:language>en-US</dc:language>
  <cp:lastModifiedBy>Jörn Kohlus·</cp:lastModifiedBy>
  <cp:lastPrinted>1999-02-05T08:47:49Z</cp:lastPrinted>
  <dcterms:modified xsi:type="dcterms:W3CDTF">2001-10-29T08:26:37Z</dcterms:modified>
  <cp:revision>35</cp:revision>
  <dc:subject/>
  <dc:title>Kein Folientitel</dc:title>
</cp:coreProperties>
</file>