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2E4-7025-427A-8370-8FEFB52E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79D-E482-4F61-A1E7-A7C82FA5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F55-2A53-4C8C-A746-BF7E12E4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C63-6813-416F-A0FC-7A2EF786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119-3C89-413E-94E6-CBEC6574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CB14-7470-4329-AC26-A15DB8C6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C5FB-AC85-4ED0-9A60-1D4AF6D1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AB4B-A2CE-4F21-9745-E1D8A7CC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62F-9A1B-4961-ABB1-11530A48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C73-ECFD-4196-B334-30C59595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192-BF38-4017-93A0-F3ABA1B1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E718-BEDF-4596-BECA-F5D05582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8CD3-B8AC-47C6-B6E2-BB513023D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pic>
        <p:nvPicPr>
          <p:cNvPr id="44" name="udk_logo_neu" descr=""/>
          <p:cNvPicPr/>
          <p:nvPr/>
        </p:nvPicPr>
        <p:blipFill>
          <a:blip r:embed="rId2"/>
          <a:stretch/>
        </p:blipFill>
        <p:spPr>
          <a:xfrm>
            <a:off x="7315200" y="152280"/>
            <a:ext cx="644400" cy="685800"/>
          </a:xfrm>
          <a:prstGeom prst="rect">
            <a:avLst/>
          </a:prstGeom>
          <a:ln w="0">
            <a:noFill/>
          </a:ln>
        </p:spPr>
      </p:pic>
      <p:pic>
        <p:nvPicPr>
          <p:cNvPr id="45" name="geovek2" descr=""/>
          <p:cNvPicPr/>
          <p:nvPr/>
        </p:nvPicPr>
        <p:blipFill>
          <a:blip r:embed="rId3"/>
          <a:stretch/>
        </p:blipFill>
        <p:spPr>
          <a:xfrm>
            <a:off x="762120" y="228600"/>
            <a:ext cx="2895480" cy="55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48320" y="3049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etad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57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457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29860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Metadaten in ArcGIS und di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Verbindung zum UD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30520" y="439092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rald Hogrefe, Niedersächsisches Umweltminister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182080" cy="520704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401760" y="166680"/>
            <a:ext cx="8381880" cy="611280"/>
            <a:chOff x="401760" y="166680"/>
            <a:chExt cx="8381880" cy="611280"/>
          </a:xfrm>
        </p:grpSpPr>
        <p:pic>
          <p:nvPicPr>
            <p:cNvPr id="171" name="udk_logo_neu" descr=""/>
            <p:cNvPicPr/>
            <p:nvPr/>
          </p:nvPicPr>
          <p:blipFill>
            <a:blip r:embed="rId3"/>
            <a:stretch/>
          </p:blipFill>
          <p:spPr>
            <a:xfrm>
              <a:off x="7737480" y="166680"/>
              <a:ext cx="5428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geovek2" descr=""/>
            <p:cNvPicPr/>
            <p:nvPr/>
          </p:nvPicPr>
          <p:blipFill>
            <a:blip r:embed="rId4"/>
            <a:stretch/>
          </p:blipFill>
          <p:spPr>
            <a:xfrm>
              <a:off x="762120" y="228600"/>
              <a:ext cx="23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48320" y="304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Meta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60680" y="471600"/>
              <a:ext cx="939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32680" y="511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1760" y="7779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219320" y="1143000"/>
            <a:ext cx="6807240" cy="510552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401760" y="166680"/>
            <a:ext cx="8381880" cy="611280"/>
            <a:chOff x="401760" y="166680"/>
            <a:chExt cx="8381880" cy="611280"/>
          </a:xfrm>
        </p:grpSpPr>
        <p:pic>
          <p:nvPicPr>
            <p:cNvPr id="183" name="udk_logo_neu" descr=""/>
            <p:cNvPicPr/>
            <p:nvPr/>
          </p:nvPicPr>
          <p:blipFill>
            <a:blip r:embed="rId3"/>
            <a:stretch/>
          </p:blipFill>
          <p:spPr>
            <a:xfrm>
              <a:off x="7737480" y="166680"/>
              <a:ext cx="5428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geovek2" descr=""/>
            <p:cNvPicPr/>
            <p:nvPr/>
          </p:nvPicPr>
          <p:blipFill>
            <a:blip r:embed="rId4"/>
            <a:stretch/>
          </p:blipFill>
          <p:spPr>
            <a:xfrm>
              <a:off x="762120" y="228600"/>
              <a:ext cx="23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648320" y="304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Meta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60680" y="471600"/>
              <a:ext cx="939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32680" y="511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1760" y="7779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298520" y="1916280"/>
            <a:ext cx="6599160" cy="4189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060640" y="1119240"/>
            <a:ext cx="57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r geoMDK Niedersach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01760" y="166680"/>
            <a:ext cx="8381880" cy="611280"/>
            <a:chOff x="401760" y="166680"/>
            <a:chExt cx="8381880" cy="611280"/>
          </a:xfrm>
        </p:grpSpPr>
        <p:pic>
          <p:nvPicPr>
            <p:cNvPr id="196" name="udk_logo_neu" descr=""/>
            <p:cNvPicPr/>
            <p:nvPr/>
          </p:nvPicPr>
          <p:blipFill>
            <a:blip r:embed="rId3"/>
            <a:stretch/>
          </p:blipFill>
          <p:spPr>
            <a:xfrm>
              <a:off x="7737480" y="166680"/>
              <a:ext cx="5428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geovek2" descr=""/>
            <p:cNvPicPr/>
            <p:nvPr/>
          </p:nvPicPr>
          <p:blipFill>
            <a:blip r:embed="rId4"/>
            <a:stretch/>
          </p:blipFill>
          <p:spPr>
            <a:xfrm>
              <a:off x="762120" y="228600"/>
              <a:ext cx="23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4648320" y="304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Meta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60680" y="471600"/>
              <a:ext cx="939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32680" y="511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760" y="7779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7424640" cy="467532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401760" y="166680"/>
            <a:ext cx="8381880" cy="611280"/>
            <a:chOff x="401760" y="166680"/>
            <a:chExt cx="8381880" cy="611280"/>
          </a:xfrm>
        </p:grpSpPr>
        <p:pic>
          <p:nvPicPr>
            <p:cNvPr id="208" name="udk_logo_neu" descr=""/>
            <p:cNvPicPr/>
            <p:nvPr/>
          </p:nvPicPr>
          <p:blipFill>
            <a:blip r:embed="rId3"/>
            <a:stretch/>
          </p:blipFill>
          <p:spPr>
            <a:xfrm>
              <a:off x="7737480" y="166680"/>
              <a:ext cx="5428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geovek2" descr=""/>
            <p:cNvPicPr/>
            <p:nvPr/>
          </p:nvPicPr>
          <p:blipFill>
            <a:blip r:embed="rId4"/>
            <a:stretch/>
          </p:blipFill>
          <p:spPr>
            <a:xfrm>
              <a:off x="762120" y="228600"/>
              <a:ext cx="23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648320" y="304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Meta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60680" y="471600"/>
              <a:ext cx="939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32680" y="511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1760" y="7779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76200" y="1285920"/>
            <a:ext cx="8767800" cy="397332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401760" y="166680"/>
            <a:ext cx="8381880" cy="611280"/>
            <a:chOff x="401760" y="166680"/>
            <a:chExt cx="8381880" cy="611280"/>
          </a:xfrm>
        </p:grpSpPr>
        <p:pic>
          <p:nvPicPr>
            <p:cNvPr id="220" name="udk_logo_neu" descr=""/>
            <p:cNvPicPr/>
            <p:nvPr/>
          </p:nvPicPr>
          <p:blipFill>
            <a:blip r:embed="rId3"/>
            <a:stretch/>
          </p:blipFill>
          <p:spPr>
            <a:xfrm>
              <a:off x="7737480" y="166680"/>
              <a:ext cx="5428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geovek2" descr=""/>
            <p:cNvPicPr/>
            <p:nvPr/>
          </p:nvPicPr>
          <p:blipFill>
            <a:blip r:embed="rId4"/>
            <a:stretch/>
          </p:blipFill>
          <p:spPr>
            <a:xfrm>
              <a:off x="762120" y="228600"/>
              <a:ext cx="23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648320" y="304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Meta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60680" y="471600"/>
              <a:ext cx="939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32680" y="511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1760" y="7779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55800" y="1228680"/>
            <a:ext cx="72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s für Metadaten von Geod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69840" y="1979640"/>
            <a:ext cx="697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O/TC 211 Geographic Information / Geo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nal Text of CD 19115 „Geographic Information – Metadata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09800" y="3643200"/>
            <a:ext cx="6810120" cy="1326240"/>
          </a:xfrm>
          <a:prstGeom prst="rec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zeit Draft International Standard (D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ch 2001 Final Draft International Standard (FD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der Regel dann keine Änderungen mehr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01760" y="166680"/>
            <a:ext cx="8381880" cy="611280"/>
            <a:chOff x="401760" y="166680"/>
            <a:chExt cx="8381880" cy="611280"/>
          </a:xfrm>
        </p:grpSpPr>
        <p:pic>
          <p:nvPicPr>
            <p:cNvPr id="234" name="udk_logo_neu" descr=""/>
            <p:cNvPicPr/>
            <p:nvPr/>
          </p:nvPicPr>
          <p:blipFill>
            <a:blip r:embed="rId2"/>
            <a:stretch/>
          </p:blipFill>
          <p:spPr>
            <a:xfrm>
              <a:off x="7737480" y="166680"/>
              <a:ext cx="5428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geovek2" descr=""/>
            <p:cNvPicPr/>
            <p:nvPr/>
          </p:nvPicPr>
          <p:blipFill>
            <a:blip r:embed="rId3"/>
            <a:stretch/>
          </p:blipFill>
          <p:spPr>
            <a:xfrm>
              <a:off x="762120" y="228600"/>
              <a:ext cx="23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648320" y="304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Meta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60680" y="471600"/>
              <a:ext cx="939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32680" y="511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1760" y="7779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55800" y="1228680"/>
            <a:ext cx="72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s für Metadaten von Geod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8520" y="2004840"/>
            <a:ext cx="63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tere Aktivitä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70080" y="2689200"/>
            <a:ext cx="73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DD: Europäische Vermessungsverwal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55680" y="342576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IX:   Bundesamt für Geowissenschaften u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esäm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82680" y="4464000"/>
            <a:ext cx="57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: Federführung B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01760" y="166680"/>
            <a:ext cx="8381880" cy="611280"/>
            <a:chOff x="401760" y="166680"/>
            <a:chExt cx="8381880" cy="611280"/>
          </a:xfrm>
        </p:grpSpPr>
        <p:pic>
          <p:nvPicPr>
            <p:cNvPr id="250" name="udk_logo_neu" descr=""/>
            <p:cNvPicPr/>
            <p:nvPr/>
          </p:nvPicPr>
          <p:blipFill>
            <a:blip r:embed="rId2"/>
            <a:stretch/>
          </p:blipFill>
          <p:spPr>
            <a:xfrm>
              <a:off x="7737480" y="166680"/>
              <a:ext cx="5428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geovek2" descr=""/>
            <p:cNvPicPr/>
            <p:nvPr/>
          </p:nvPicPr>
          <p:blipFill>
            <a:blip r:embed="rId3"/>
            <a:stretch/>
          </p:blipFill>
          <p:spPr>
            <a:xfrm>
              <a:off x="762120" y="228600"/>
              <a:ext cx="23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4648320" y="304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Meta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60680" y="471600"/>
              <a:ext cx="939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32680" y="511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1760" y="7779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01680" y="901800"/>
            <a:ext cx="49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etadaten in ArcGIS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2360" y="1668600"/>
            <a:ext cx="4959360" cy="39639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2720880" y="3139920"/>
            <a:ext cx="3549600" cy="26323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5803920" y="3546360"/>
            <a:ext cx="3025800" cy="262116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401760" y="166680"/>
            <a:ext cx="8381880" cy="611280"/>
            <a:chOff x="401760" y="166680"/>
            <a:chExt cx="8381880" cy="611280"/>
          </a:xfrm>
        </p:grpSpPr>
        <p:pic>
          <p:nvPicPr>
            <p:cNvPr id="265" name="udk_logo_neu" descr=""/>
            <p:cNvPicPr/>
            <p:nvPr/>
          </p:nvPicPr>
          <p:blipFill>
            <a:blip r:embed="rId5"/>
            <a:stretch/>
          </p:blipFill>
          <p:spPr>
            <a:xfrm>
              <a:off x="7737480" y="166680"/>
              <a:ext cx="5428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geovek2" descr=""/>
            <p:cNvPicPr/>
            <p:nvPr/>
          </p:nvPicPr>
          <p:blipFill>
            <a:blip r:embed="rId6"/>
            <a:stretch/>
          </p:blipFill>
          <p:spPr>
            <a:xfrm>
              <a:off x="762120" y="228600"/>
              <a:ext cx="23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648320" y="304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Meta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60680" y="471600"/>
              <a:ext cx="939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32680" y="511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1760" y="7779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225440" y="1692360"/>
            <a:ext cx="6801120" cy="42670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14400" y="968400"/>
            <a:ext cx="74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r Standard-Metadateneditor von ArcG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01760" y="166680"/>
            <a:ext cx="8381880" cy="611280"/>
            <a:chOff x="401760" y="166680"/>
            <a:chExt cx="8381880" cy="611280"/>
          </a:xfrm>
        </p:grpSpPr>
        <p:pic>
          <p:nvPicPr>
            <p:cNvPr id="278" name="udk_logo_neu" descr=""/>
            <p:cNvPicPr/>
            <p:nvPr/>
          </p:nvPicPr>
          <p:blipFill>
            <a:blip r:embed="rId3"/>
            <a:stretch/>
          </p:blipFill>
          <p:spPr>
            <a:xfrm>
              <a:off x="7737480" y="166680"/>
              <a:ext cx="5428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geovek2" descr=""/>
            <p:cNvPicPr/>
            <p:nvPr/>
          </p:nvPicPr>
          <p:blipFill>
            <a:blip r:embed="rId4"/>
            <a:stretch/>
          </p:blipFill>
          <p:spPr>
            <a:xfrm>
              <a:off x="762120" y="228600"/>
              <a:ext cx="23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4648320" y="304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Meta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60680" y="471600"/>
              <a:ext cx="939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32680" y="511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1760" y="7779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174680" y="1593720"/>
            <a:ext cx="6729480" cy="4472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673360" y="1009800"/>
            <a:ext cx="45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cGIS und ISO 191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01760" y="166680"/>
            <a:ext cx="8381880" cy="611280"/>
            <a:chOff x="401760" y="166680"/>
            <a:chExt cx="8381880" cy="611280"/>
          </a:xfrm>
        </p:grpSpPr>
        <p:pic>
          <p:nvPicPr>
            <p:cNvPr id="291" name="udk_logo_neu" descr=""/>
            <p:cNvPicPr/>
            <p:nvPr/>
          </p:nvPicPr>
          <p:blipFill>
            <a:blip r:embed="rId3"/>
            <a:stretch/>
          </p:blipFill>
          <p:spPr>
            <a:xfrm>
              <a:off x="7737480" y="166680"/>
              <a:ext cx="5428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geovek2" descr=""/>
            <p:cNvPicPr/>
            <p:nvPr/>
          </p:nvPicPr>
          <p:blipFill>
            <a:blip r:embed="rId4"/>
            <a:stretch/>
          </p:blipFill>
          <p:spPr>
            <a:xfrm>
              <a:off x="762120" y="228600"/>
              <a:ext cx="23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648320" y="304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Meta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60680" y="471600"/>
              <a:ext cx="939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32680" y="511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1760" y="7779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82880" y="27288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um überhaupt Metadate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pic>
        <p:nvPicPr>
          <p:cNvPr id="57" name="udk_logo_neu" descr=""/>
          <p:cNvPicPr/>
          <p:nvPr/>
        </p:nvPicPr>
        <p:blipFill>
          <a:blip r:embed="rId2"/>
          <a:stretch/>
        </p:blipFill>
        <p:spPr>
          <a:xfrm>
            <a:off x="7315200" y="152280"/>
            <a:ext cx="64440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geovek2" descr=""/>
          <p:cNvPicPr/>
          <p:nvPr/>
        </p:nvPicPr>
        <p:blipFill>
          <a:blip r:embed="rId3"/>
          <a:stretch/>
        </p:blipFill>
        <p:spPr>
          <a:xfrm>
            <a:off x="762120" y="228600"/>
            <a:ext cx="2895480" cy="55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48320" y="3049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etada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457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457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9144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884160" y="1058760"/>
            <a:ext cx="738360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92000" y="982800"/>
            <a:ext cx="61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ML als gemeinsamer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79400" y="1541520"/>
            <a:ext cx="75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cGIS Metadaten werden bereits in XML gespeiche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528920" y="2100240"/>
            <a:ext cx="5062320" cy="3070080"/>
            <a:chOff x="1528920" y="2100240"/>
            <a:chExt cx="5062320" cy="3070080"/>
          </a:xfrm>
        </p:grpSpPr>
        <p:sp>
          <p:nvSpPr>
            <p:cNvPr id="304" name=""/>
            <p:cNvSpPr/>
            <p:nvPr/>
          </p:nvSpPr>
          <p:spPr>
            <a:xfrm>
              <a:off x="1528920" y="2100240"/>
              <a:ext cx="5062320" cy="3070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5" name="" descr=""/>
            <p:cNvPicPr/>
            <p:nvPr/>
          </p:nvPicPr>
          <p:blipFill>
            <a:blip r:embed="rId2"/>
            <a:stretch/>
          </p:blipFill>
          <p:spPr>
            <a:xfrm>
              <a:off x="1612800" y="2131920"/>
              <a:ext cx="4947840" cy="299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"/>
          <p:cNvSpPr/>
          <p:nvPr/>
        </p:nvSpPr>
        <p:spPr>
          <a:xfrm>
            <a:off x="806400" y="5349960"/>
            <a:ext cx="813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UDK wird ab Version 4.2 eine XML Im- und Exportschnittstelle enthalten (11.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01760" y="166680"/>
            <a:ext cx="8381880" cy="611280"/>
            <a:chOff x="401760" y="166680"/>
            <a:chExt cx="8381880" cy="611280"/>
          </a:xfrm>
        </p:grpSpPr>
        <p:pic>
          <p:nvPicPr>
            <p:cNvPr id="308" name="udk_logo_neu" descr=""/>
            <p:cNvPicPr/>
            <p:nvPr/>
          </p:nvPicPr>
          <p:blipFill>
            <a:blip r:embed="rId3"/>
            <a:stretch/>
          </p:blipFill>
          <p:spPr>
            <a:xfrm>
              <a:off x="7737480" y="166680"/>
              <a:ext cx="5428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geovek2" descr=""/>
            <p:cNvPicPr/>
            <p:nvPr/>
          </p:nvPicPr>
          <p:blipFill>
            <a:blip r:embed="rId4"/>
            <a:stretch/>
          </p:blipFill>
          <p:spPr>
            <a:xfrm>
              <a:off x="762120" y="228600"/>
              <a:ext cx="23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648320" y="304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Meta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460680" y="471600"/>
              <a:ext cx="939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32680" y="511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01760" y="7779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7520" y="102240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as neue GEOSUM auf der Basis von ArcGIS 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9560" y="174636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/ Upgra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882720" y="2503440"/>
          <a:ext cx="3298680" cy="2973600"/>
        </p:xfrm>
        <a:graphic>
          <a:graphicData uri="http://schemas.openxmlformats.org/drawingml/2006/table">
            <a:tbl>
              <a:tblPr/>
              <a:tblGrid>
                <a:gridCol w="2187360"/>
                <a:gridCol w="111132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View 3.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Analy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D-Analy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/Info 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/Info 7.x o.W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5937120" y="2500200"/>
          <a:ext cx="2443320" cy="2984760"/>
        </p:xfrm>
        <a:graphic>
          <a:graphicData uri="http://schemas.openxmlformats.org/drawingml/2006/table">
            <a:tbl>
              <a:tblPr/>
              <a:tblGrid>
                <a:gridCol w="1774800"/>
                <a:gridCol w="66852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 8.1 S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 8.1 F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Analy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D-Analy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/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E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4313160" y="2674800"/>
            <a:ext cx="133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25760" y="2933640"/>
            <a:ext cx="1283040" cy="2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0160" y="4695840"/>
            <a:ext cx="14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08560" y="4025880"/>
            <a:ext cx="137772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72120" y="3398760"/>
            <a:ext cx="143352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340160" y="4885920"/>
            <a:ext cx="1378080" cy="273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57720" y="2374920"/>
            <a:ext cx="99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00,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51280" y="2854440"/>
            <a:ext cx="99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00,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0400" y="5718240"/>
            <a:ext cx="7507440" cy="459720"/>
          </a:xfrm>
          <a:prstGeom prst="rect">
            <a:avLst/>
          </a:prstGeom>
          <a:solidFill>
            <a:srgbClr val="ff5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sten &gt; 400.000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€  </a:t>
            </a: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 ArcIMS als Standardvie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401760" y="166680"/>
            <a:ext cx="8381880" cy="611280"/>
            <a:chOff x="401760" y="166680"/>
            <a:chExt cx="8381880" cy="611280"/>
          </a:xfrm>
        </p:grpSpPr>
        <p:pic>
          <p:nvPicPr>
            <p:cNvPr id="332" name="udk_logo_neu" descr=""/>
            <p:cNvPicPr/>
            <p:nvPr/>
          </p:nvPicPr>
          <p:blipFill>
            <a:blip r:embed="rId2"/>
            <a:stretch/>
          </p:blipFill>
          <p:spPr>
            <a:xfrm>
              <a:off x="7737480" y="166680"/>
              <a:ext cx="5428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geovek2" descr=""/>
            <p:cNvPicPr/>
            <p:nvPr/>
          </p:nvPicPr>
          <p:blipFill>
            <a:blip r:embed="rId3"/>
            <a:stretch/>
          </p:blipFill>
          <p:spPr>
            <a:xfrm>
              <a:off x="762120" y="228600"/>
              <a:ext cx="23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4648320" y="304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Meta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60680" y="471600"/>
              <a:ext cx="939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32680" y="511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1760" y="7779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558720" y="5308560"/>
            <a:ext cx="8188560" cy="6825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87520" y="102240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as neue GEOSUM auf der Basis von ArcGIS 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69960" y="1746360"/>
            <a:ext cx="80802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stieg über GEOSUM-Logo mit B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zenzverwaltung (Freigabe bei Inaktivitä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sualisierung sämtlicher TK blattschnittfrei, landesw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oom/Positionierung auf Gemeinde / Lankr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ndard Karten-Layouts A4 bis A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lementation von Signaturenkatalogen und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eichenvor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zieller Metadaten-Edi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01760" y="166680"/>
            <a:ext cx="8381880" cy="611280"/>
            <a:chOff x="401760" y="166680"/>
            <a:chExt cx="8381880" cy="611280"/>
          </a:xfrm>
        </p:grpSpPr>
        <p:pic>
          <p:nvPicPr>
            <p:cNvPr id="346" name="udk_logo_neu" descr=""/>
            <p:cNvPicPr/>
            <p:nvPr/>
          </p:nvPicPr>
          <p:blipFill>
            <a:blip r:embed="rId2"/>
            <a:stretch/>
          </p:blipFill>
          <p:spPr>
            <a:xfrm>
              <a:off x="7737480" y="166680"/>
              <a:ext cx="5428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geovek2" descr=""/>
            <p:cNvPicPr/>
            <p:nvPr/>
          </p:nvPicPr>
          <p:blipFill>
            <a:blip r:embed="rId3"/>
            <a:stretch/>
          </p:blipFill>
          <p:spPr>
            <a:xfrm>
              <a:off x="762120" y="228600"/>
              <a:ext cx="23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4648320" y="304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Meta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60680" y="471600"/>
              <a:ext cx="939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32680" y="511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1760" y="7779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7520" y="102240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as neue GEOSUM auf der Basis von ArcGIS 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StandorteLIC_01" descr=""/>
          <p:cNvPicPr/>
          <p:nvPr/>
        </p:nvPicPr>
        <p:blipFill>
          <a:blip r:embed="rId2"/>
          <a:stretch/>
        </p:blipFill>
        <p:spPr>
          <a:xfrm>
            <a:off x="1704960" y="1603440"/>
            <a:ext cx="6208560" cy="45036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600120" y="54198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daten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StandorteLIC_02" descr=""/>
          <p:cNvPicPr/>
          <p:nvPr/>
        </p:nvPicPr>
        <p:blipFill>
          <a:blip r:embed="rId3"/>
          <a:stretch/>
        </p:blipFill>
        <p:spPr>
          <a:xfrm>
            <a:off x="1689120" y="1612800"/>
            <a:ext cx="6203880" cy="4502160"/>
          </a:xfrm>
          <a:prstGeom prst="rect">
            <a:avLst/>
          </a:prstGeom>
          <a:ln w="0">
            <a:noFill/>
          </a:ln>
        </p:spPr>
      </p:pic>
      <p:grpSp>
        <p:nvGrpSpPr>
          <p:cNvPr id="360" name=""/>
          <p:cNvGrpSpPr/>
          <p:nvPr/>
        </p:nvGrpSpPr>
        <p:grpSpPr>
          <a:xfrm>
            <a:off x="401760" y="166680"/>
            <a:ext cx="8381880" cy="611280"/>
            <a:chOff x="401760" y="166680"/>
            <a:chExt cx="8381880" cy="611280"/>
          </a:xfrm>
        </p:grpSpPr>
        <p:pic>
          <p:nvPicPr>
            <p:cNvPr id="361" name="udk_logo_neu" descr=""/>
            <p:cNvPicPr/>
            <p:nvPr/>
          </p:nvPicPr>
          <p:blipFill>
            <a:blip r:embed="rId4"/>
            <a:stretch/>
          </p:blipFill>
          <p:spPr>
            <a:xfrm>
              <a:off x="7737480" y="166680"/>
              <a:ext cx="5428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geovek2" descr=""/>
            <p:cNvPicPr/>
            <p:nvPr/>
          </p:nvPicPr>
          <p:blipFill>
            <a:blip r:embed="rId5"/>
            <a:stretch/>
          </p:blipFill>
          <p:spPr>
            <a:xfrm>
              <a:off x="762120" y="228600"/>
              <a:ext cx="23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4648320" y="304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Meta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60680" y="471600"/>
              <a:ext cx="939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32680" y="511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1760" y="7779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68160" y="1023840"/>
            <a:ext cx="53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daten im neuen GEOS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48360" y="1052640"/>
            <a:ext cx="16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uswah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4120" y="1733400"/>
            <a:ext cx="814860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 (des Objek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chreib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lüsselworte (min. 3 aus Umweltthesaurus, zus. fre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hebungs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stellungs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rheber, Verantwortlic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fassungsmaßstab, Erfassungsgrundl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äumliche Ausdehn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nqualit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ordinatensystem, Projek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82560" y="5376960"/>
            <a:ext cx="7561440" cy="8254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ichern eines neuen Datensatzes nur nach Eingeben der Metadate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01760" y="166680"/>
            <a:ext cx="8381880" cy="611280"/>
            <a:chOff x="401760" y="166680"/>
            <a:chExt cx="8381880" cy="611280"/>
          </a:xfrm>
        </p:grpSpPr>
        <p:pic>
          <p:nvPicPr>
            <p:cNvPr id="376" name="udk_logo_neu" descr=""/>
            <p:cNvPicPr/>
            <p:nvPr/>
          </p:nvPicPr>
          <p:blipFill>
            <a:blip r:embed="rId2"/>
            <a:stretch/>
          </p:blipFill>
          <p:spPr>
            <a:xfrm>
              <a:off x="7737480" y="166680"/>
              <a:ext cx="5428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geovek2" descr=""/>
            <p:cNvPicPr/>
            <p:nvPr/>
          </p:nvPicPr>
          <p:blipFill>
            <a:blip r:embed="rId3"/>
            <a:stretch/>
          </p:blipFill>
          <p:spPr>
            <a:xfrm>
              <a:off x="762120" y="228600"/>
              <a:ext cx="23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4648320" y="304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Meta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60680" y="471600"/>
              <a:ext cx="939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32680" y="511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1760" y="7779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1341360" y="1716120"/>
            <a:ext cx="6421680" cy="44593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008000" y="1012680"/>
            <a:ext cx="75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in neuer Metadaten-Editor für GEOS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01760" y="166680"/>
            <a:ext cx="8381880" cy="611280"/>
            <a:chOff x="401760" y="166680"/>
            <a:chExt cx="8381880" cy="611280"/>
          </a:xfrm>
        </p:grpSpPr>
        <p:pic>
          <p:nvPicPr>
            <p:cNvPr id="389" name="udk_logo_neu" descr=""/>
            <p:cNvPicPr/>
            <p:nvPr/>
          </p:nvPicPr>
          <p:blipFill>
            <a:blip r:embed="rId3"/>
            <a:stretch/>
          </p:blipFill>
          <p:spPr>
            <a:xfrm>
              <a:off x="7737480" y="166680"/>
              <a:ext cx="5428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geovek2" descr=""/>
            <p:cNvPicPr/>
            <p:nvPr/>
          </p:nvPicPr>
          <p:blipFill>
            <a:blip r:embed="rId4"/>
            <a:stretch/>
          </p:blipFill>
          <p:spPr>
            <a:xfrm>
              <a:off x="762120" y="228600"/>
              <a:ext cx="23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4648320" y="304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Meta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60680" y="471600"/>
              <a:ext cx="939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32680" y="511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01760" y="7779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401760" y="166680"/>
            <a:ext cx="8381880" cy="611280"/>
            <a:chOff x="401760" y="166680"/>
            <a:chExt cx="8381880" cy="611280"/>
          </a:xfrm>
        </p:grpSpPr>
        <p:pic>
          <p:nvPicPr>
            <p:cNvPr id="399" name="udk_logo_neu" descr=""/>
            <p:cNvPicPr/>
            <p:nvPr/>
          </p:nvPicPr>
          <p:blipFill>
            <a:blip r:embed="rId2"/>
            <a:stretch/>
          </p:blipFill>
          <p:spPr>
            <a:xfrm>
              <a:off x="7737480" y="166680"/>
              <a:ext cx="5428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geovek2" descr=""/>
            <p:cNvPicPr/>
            <p:nvPr/>
          </p:nvPicPr>
          <p:blipFill>
            <a:blip r:embed="rId3"/>
            <a:stretch/>
          </p:blipFill>
          <p:spPr>
            <a:xfrm>
              <a:off x="762120" y="228600"/>
              <a:ext cx="23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4648320" y="304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Meta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60680" y="471600"/>
              <a:ext cx="939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32680" y="511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1760" y="7779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36560" y="1160640"/>
            <a:ext cx="48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Schnittstelle zum UD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87400" y="1965240"/>
            <a:ext cx="7669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fassung der Metadaten nur noch im GI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bildung der ArcGIS DTD auf die UDK 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icherung im UDK als Geoinformation/Ka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 Freigabe eines Datensatzes automatische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ort der Metadaten und Import in den U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4613400"/>
            <a:ext cx="7505640" cy="13816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ine freigegebenen digitalen Geodaten oh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trag im U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lständigkeit der verfügbaren Geodaten im U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82640" y="5308560"/>
            <a:ext cx="53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len Dank für Ihre Aufmerksamkei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79720" y="11700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tere Information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783440" y="1827360"/>
            <a:ext cx="383688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ww.mu.niedersachsen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179000" y="233532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der e-mail 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12960" y="2933640"/>
            <a:ext cx="5366880" cy="459720"/>
          </a:xfrm>
          <a:prstGeom prst="rect">
            <a:avLst/>
          </a:prstGeom>
          <a:solidFill>
            <a:srgbClr val="66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rald.hogrefe@mu.niedersachsen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177920" y="351936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er Anruf bei m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782720" y="4164120"/>
            <a:ext cx="2382840" cy="459720"/>
          </a:xfrm>
          <a:prstGeom prst="rect">
            <a:avLst/>
          </a:prstGeom>
          <a:solidFill>
            <a:srgbClr val="70a8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511  120  34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401760" y="166680"/>
            <a:ext cx="8381880" cy="611280"/>
            <a:chOff x="401760" y="166680"/>
            <a:chExt cx="8381880" cy="611280"/>
          </a:xfrm>
        </p:grpSpPr>
        <p:pic>
          <p:nvPicPr>
            <p:cNvPr id="421" name="udk_logo_neu" descr=""/>
            <p:cNvPicPr/>
            <p:nvPr/>
          </p:nvPicPr>
          <p:blipFill>
            <a:blip r:embed="rId2"/>
            <a:stretch/>
          </p:blipFill>
          <p:spPr>
            <a:xfrm>
              <a:off x="7737480" y="166680"/>
              <a:ext cx="5428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geovek2" descr=""/>
            <p:cNvPicPr/>
            <p:nvPr/>
          </p:nvPicPr>
          <p:blipFill>
            <a:blip r:embed="rId3"/>
            <a:stretch/>
          </p:blipFill>
          <p:spPr>
            <a:xfrm>
              <a:off x="762120" y="228600"/>
              <a:ext cx="23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4648320" y="304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Meta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460680" y="471600"/>
              <a:ext cx="939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32680" y="511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1760" y="7779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2920" y="985680"/>
            <a:ext cx="33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ieder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9680" y="1679400"/>
            <a:ext cx="4135320" cy="40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r Umweltdatenkata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r UDK als Standard in der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mweltverwal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wV UD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UDK-Klas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ndows UD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WW-UDK (HT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WW-UDK (Jav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r geoMD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underlass zum geoMD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andards für Metadaten von Geoda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SO DIS 191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onstige Aktivitä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59400" y="1709640"/>
            <a:ext cx="4135320" cy="41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tadaten in ArcGIS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r Standard-Metadaten-Ed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cGIS und ISO 191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XML als gemeinsamer 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DK D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s neue GEOS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gration auf ArcGIS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ktionalitä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odaten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tadaten im neuen GEOS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flichtangab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neuer Metadaten-Ed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Schnittstelle zum UD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01760" y="166680"/>
            <a:ext cx="8381880" cy="611280"/>
            <a:chOff x="401760" y="166680"/>
            <a:chExt cx="8381880" cy="611280"/>
          </a:xfrm>
        </p:grpSpPr>
        <p:pic>
          <p:nvPicPr>
            <p:cNvPr id="73" name="udk_logo_neu" descr=""/>
            <p:cNvPicPr/>
            <p:nvPr/>
          </p:nvPicPr>
          <p:blipFill>
            <a:blip r:embed="rId2"/>
            <a:stretch/>
          </p:blipFill>
          <p:spPr>
            <a:xfrm>
              <a:off x="7737480" y="166680"/>
              <a:ext cx="5428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geovek2" descr=""/>
            <p:cNvPicPr/>
            <p:nvPr/>
          </p:nvPicPr>
          <p:blipFill>
            <a:blip r:embed="rId3"/>
            <a:stretch/>
          </p:blipFill>
          <p:spPr>
            <a:xfrm>
              <a:off x="762120" y="228600"/>
              <a:ext cx="23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4648320" y="304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Meta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60680" y="471600"/>
              <a:ext cx="939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32680" y="511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1760" y="7779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35080" y="1501920"/>
            <a:ext cx="614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 Umweltdatenkatalog UDK als Standard in der Umweltverw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udk_logo_neu" descr=""/>
          <p:cNvPicPr/>
          <p:nvPr/>
        </p:nvPicPr>
        <p:blipFill>
          <a:blip r:embed="rId2"/>
          <a:stretch/>
        </p:blipFill>
        <p:spPr>
          <a:xfrm>
            <a:off x="728640" y="1411200"/>
            <a:ext cx="912960" cy="971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60400" y="2770200"/>
            <a:ext cx="77518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satz in 15 Bundesländern und dem B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3808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der staatlichen Umweltverwaltung, z.T. auch schon in den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mmu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satz in Österreich: Verankerung im Umweltinformationsgese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satz in den Vermessungsverwaltungen in Niedersachsen, Hessen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Hambu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meinsames Datenmodell mit dem CDS (Catalog of Data Sources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EE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01760" y="166680"/>
            <a:ext cx="8381880" cy="611280"/>
            <a:chOff x="401760" y="166680"/>
            <a:chExt cx="8381880" cy="611280"/>
          </a:xfrm>
        </p:grpSpPr>
        <p:pic>
          <p:nvPicPr>
            <p:cNvPr id="87" name="udk_logo_neu" descr=""/>
            <p:cNvPicPr/>
            <p:nvPr/>
          </p:nvPicPr>
          <p:blipFill>
            <a:blip r:embed="rId3"/>
            <a:stretch/>
          </p:blipFill>
          <p:spPr>
            <a:xfrm>
              <a:off x="7737480" y="166680"/>
              <a:ext cx="5428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geovek2" descr=""/>
            <p:cNvPicPr/>
            <p:nvPr/>
          </p:nvPicPr>
          <p:blipFill>
            <a:blip r:embed="rId4"/>
            <a:stretch/>
          </p:blipFill>
          <p:spPr>
            <a:xfrm>
              <a:off x="762120" y="228600"/>
              <a:ext cx="23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648320" y="304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Meta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60680" y="471600"/>
              <a:ext cx="939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32680" y="511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1760" y="7779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882800"/>
            <a:ext cx="815328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wV: Bund und 13 Länder seit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tritt Rheinland-Pfalz Januar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tritt Bayern Ende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ordinierungsstelle UDK im MU Hann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stimmung eines neuen Datenmodells (UDK 4.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design der Software (UDK 4.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gration des UDK in das deutsche Umweltinformationsnetz (GE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49400" y="1209600"/>
            <a:ext cx="77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Verwaltungsvereinbarung UD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01760" y="166680"/>
            <a:ext cx="8381880" cy="611280"/>
            <a:chOff x="401760" y="166680"/>
            <a:chExt cx="8381880" cy="611280"/>
          </a:xfrm>
        </p:grpSpPr>
        <p:pic>
          <p:nvPicPr>
            <p:cNvPr id="100" name="udk_logo_neu" descr=""/>
            <p:cNvPicPr/>
            <p:nvPr/>
          </p:nvPicPr>
          <p:blipFill>
            <a:blip r:embed="rId2"/>
            <a:stretch/>
          </p:blipFill>
          <p:spPr>
            <a:xfrm>
              <a:off x="7737480" y="166680"/>
              <a:ext cx="5428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geovek2" descr=""/>
            <p:cNvPicPr/>
            <p:nvPr/>
          </p:nvPicPr>
          <p:blipFill>
            <a:blip r:embed="rId3"/>
            <a:stretch/>
          </p:blipFill>
          <p:spPr>
            <a:xfrm>
              <a:off x="762120" y="228600"/>
              <a:ext cx="23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648320" y="304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Meta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60680" y="471600"/>
              <a:ext cx="939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2680" y="511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1760" y="7779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23960" y="3479760"/>
            <a:ext cx="7095960" cy="6015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14520" y="1955880"/>
            <a:ext cx="7837200" cy="3930480"/>
            <a:chOff x="614520" y="1955880"/>
            <a:chExt cx="7837200" cy="3930480"/>
          </a:xfrm>
        </p:grpSpPr>
        <p:sp>
          <p:nvSpPr>
            <p:cNvPr id="112" name=""/>
            <p:cNvSpPr/>
            <p:nvPr/>
          </p:nvSpPr>
          <p:spPr>
            <a:xfrm>
              <a:off x="614520" y="1955880"/>
              <a:ext cx="7837200" cy="39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952560" indent="-952560" algn="just">
                <a:lnSpc>
                  <a:spcPct val="100000"/>
                </a:lnSpc>
                <a:spcAft>
                  <a:spcPts val="1437"/>
                </a:spcAft>
                <a:tabLst>
                  <a:tab algn="l" pos="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ganisationseinheit / Fachaufga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52560" indent="-952560" algn="just">
                <a:lnSpc>
                  <a:spcPct val="100000"/>
                </a:lnSpc>
                <a:spcAft>
                  <a:spcPts val="1437"/>
                </a:spcAft>
                <a:tabLst>
                  <a:tab algn="l" pos="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ensammlung / Datenba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52560" indent="-952560" algn="just">
                <a:lnSpc>
                  <a:spcPct val="100000"/>
                </a:lnSpc>
                <a:spcAft>
                  <a:spcPts val="1437"/>
                </a:spcAft>
                <a:tabLst>
                  <a:tab algn="l" pos="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okument / Bericht / Literat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52560" indent="-952560" algn="just">
                <a:lnSpc>
                  <a:spcPct val="100000"/>
                </a:lnSpc>
                <a:spcAft>
                  <a:spcPts val="1437"/>
                </a:spcAft>
                <a:tabLst>
                  <a:tab algn="l" pos="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eoinformation / Kar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52560" indent="-952560" algn="just">
                <a:lnSpc>
                  <a:spcPct val="100000"/>
                </a:lnSpc>
                <a:spcAft>
                  <a:spcPts val="1437"/>
                </a:spcAft>
                <a:tabLst>
                  <a:tab algn="l" pos="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enst/Anwendung / Informations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52560" indent="-952560" algn="just">
                <a:lnSpc>
                  <a:spcPct val="100000"/>
                </a:lnSpc>
                <a:spcAft>
                  <a:spcPts val="2874"/>
                </a:spcAft>
                <a:tabLst>
                  <a:tab algn="l" pos="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orhaben / Projekt / Program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952560" indent="-952560" algn="just">
                <a:lnSpc>
                  <a:spcPct val="100000"/>
                </a:lnSpc>
                <a:spcAft>
                  <a:spcPts val="2874"/>
                </a:spcAft>
                <a:tabLst>
                  <a:tab algn="l" pos="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2 frei definierbare zusätzliche Klass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082520" y="1987560"/>
              <a:ext cx="405720" cy="3074760"/>
              <a:chOff x="1082520" y="1987560"/>
              <a:chExt cx="405720" cy="3074760"/>
            </a:xfrm>
          </p:grpSpPr>
          <p:pic>
            <p:nvPicPr>
              <p:cNvPr id="1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2520" y="1987560"/>
                <a:ext cx="35208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04120" y="2549520"/>
                <a:ext cx="342720" cy="31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8520" y="4133880"/>
                <a:ext cx="352080" cy="3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9440" y="3056040"/>
                <a:ext cx="352080" cy="3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8520" y="3573360"/>
                <a:ext cx="352080" cy="35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136160" y="4700520"/>
                <a:ext cx="352080" cy="361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0" name=""/>
          <p:cNvSpPr/>
          <p:nvPr/>
        </p:nvSpPr>
        <p:spPr>
          <a:xfrm>
            <a:off x="1092240" y="1200240"/>
            <a:ext cx="67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 UDK-Kl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01760" y="166680"/>
            <a:ext cx="8381880" cy="611280"/>
            <a:chOff x="401760" y="166680"/>
            <a:chExt cx="8381880" cy="611280"/>
          </a:xfrm>
        </p:grpSpPr>
        <p:pic>
          <p:nvPicPr>
            <p:cNvPr id="122" name="udk_logo_neu" descr=""/>
            <p:cNvPicPr/>
            <p:nvPr/>
          </p:nvPicPr>
          <p:blipFill>
            <a:blip r:embed="rId8"/>
            <a:stretch/>
          </p:blipFill>
          <p:spPr>
            <a:xfrm>
              <a:off x="7737480" y="166680"/>
              <a:ext cx="5428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geovek2" descr=""/>
            <p:cNvPicPr/>
            <p:nvPr/>
          </p:nvPicPr>
          <p:blipFill>
            <a:blip r:embed="rId9"/>
            <a:stretch/>
          </p:blipFill>
          <p:spPr>
            <a:xfrm>
              <a:off x="762120" y="228600"/>
              <a:ext cx="23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648320" y="304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Meta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60680" y="471600"/>
              <a:ext cx="939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32680" y="511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1760" y="7779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285920" y="1424160"/>
            <a:ext cx="6464160" cy="4854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852640" y="94284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 Windows UDK 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01760" y="166680"/>
            <a:ext cx="8381880" cy="611280"/>
            <a:chOff x="401760" y="166680"/>
            <a:chExt cx="8381880" cy="611280"/>
          </a:xfrm>
        </p:grpSpPr>
        <p:pic>
          <p:nvPicPr>
            <p:cNvPr id="135" name="udk_logo_neu" descr=""/>
            <p:cNvPicPr/>
            <p:nvPr/>
          </p:nvPicPr>
          <p:blipFill>
            <a:blip r:embed="rId3"/>
            <a:stretch/>
          </p:blipFill>
          <p:spPr>
            <a:xfrm>
              <a:off x="7737480" y="166680"/>
              <a:ext cx="5428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geovek2" descr=""/>
            <p:cNvPicPr/>
            <p:nvPr/>
          </p:nvPicPr>
          <p:blipFill>
            <a:blip r:embed="rId4"/>
            <a:stretch/>
          </p:blipFill>
          <p:spPr>
            <a:xfrm>
              <a:off x="762120" y="228600"/>
              <a:ext cx="23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648320" y="304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Meta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60680" y="471600"/>
              <a:ext cx="939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32680" y="511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1760" y="7779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90640" y="1031760"/>
            <a:ext cx="7122960" cy="521352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401760" y="166680"/>
            <a:ext cx="8381880" cy="611280"/>
            <a:chOff x="401760" y="166680"/>
            <a:chExt cx="8381880" cy="611280"/>
          </a:xfrm>
        </p:grpSpPr>
        <p:pic>
          <p:nvPicPr>
            <p:cNvPr id="147" name="udk_logo_neu" descr=""/>
            <p:cNvPicPr/>
            <p:nvPr/>
          </p:nvPicPr>
          <p:blipFill>
            <a:blip r:embed="rId3"/>
            <a:stretch/>
          </p:blipFill>
          <p:spPr>
            <a:xfrm>
              <a:off x="7737480" y="166680"/>
              <a:ext cx="5428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geovek2" descr=""/>
            <p:cNvPicPr/>
            <p:nvPr/>
          </p:nvPicPr>
          <p:blipFill>
            <a:blip r:embed="rId4"/>
            <a:stretch/>
          </p:blipFill>
          <p:spPr>
            <a:xfrm>
              <a:off x="762120" y="228600"/>
              <a:ext cx="23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648320" y="304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Meta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60680" y="471600"/>
              <a:ext cx="939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32680" y="511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1760" y="7779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64008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 GIS Küste 22./23.1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6400800"/>
            <a:ext cx="33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. Hogrefe  Niedersächsisches Umweltminister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Logo-Niedersachsen.small" descr=""/>
          <p:cNvPicPr/>
          <p:nvPr/>
        </p:nvPicPr>
        <p:blipFill>
          <a:blip r:embed="rId1"/>
          <a:stretch/>
        </p:blipFill>
        <p:spPr>
          <a:xfrm>
            <a:off x="7086600" y="6400800"/>
            <a:ext cx="1438200" cy="266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988920" y="977760"/>
            <a:ext cx="7039080" cy="530064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401760" y="166680"/>
            <a:ext cx="8381880" cy="611280"/>
            <a:chOff x="401760" y="166680"/>
            <a:chExt cx="8381880" cy="611280"/>
          </a:xfrm>
        </p:grpSpPr>
        <p:pic>
          <p:nvPicPr>
            <p:cNvPr id="159" name="udk_logo_neu" descr=""/>
            <p:cNvPicPr/>
            <p:nvPr/>
          </p:nvPicPr>
          <p:blipFill>
            <a:blip r:embed="rId3"/>
            <a:stretch/>
          </p:blipFill>
          <p:spPr>
            <a:xfrm>
              <a:off x="7737480" y="166680"/>
              <a:ext cx="5428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geovek2" descr=""/>
            <p:cNvPicPr/>
            <p:nvPr/>
          </p:nvPicPr>
          <p:blipFill>
            <a:blip r:embed="rId4"/>
            <a:stretch/>
          </p:blipFill>
          <p:spPr>
            <a:xfrm>
              <a:off x="762120" y="228600"/>
              <a:ext cx="23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648320" y="304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Metada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0680" y="471600"/>
              <a:ext cx="939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32680" y="511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1760" y="77796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6T15:27:30Z</dcterms:created>
  <dc:creator>Harald Hogrefe</dc:creator>
  <dc:description/>
  <dc:language>en-US</dc:language>
  <cp:lastModifiedBy>Jörn Kohlus·</cp:lastModifiedBy>
  <dcterms:modified xsi:type="dcterms:W3CDTF">2001-10-29T08:30:19Z</dcterms:modified>
  <cp:revision>26</cp:revision>
  <dc:subject/>
  <dc:title>PowerPoint-Präsentation</dc:title>
</cp:coreProperties>
</file>