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FF9-0349-49F5-878C-5D7EBADA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7550-8AF2-46E0-9456-3A45EFEF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B1A-54E7-4014-B66C-BEE66225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2CB4-84B0-4A6D-9BAA-D39733FC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242-8271-4526-BE81-8F007117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B74B-188C-4D67-821F-57690CFD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F8E-D85E-47B8-B14D-51CD8982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928A-42FF-4370-B42B-AA901425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92D-3269-4CE2-9F46-4A7153CE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E98B-13F7-4AEE-8A9A-E981BFB0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8FA-B9B7-431B-B63C-6E4A79C7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A86-B9E6-49FD-B261-C1B56713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8273-0BB4-48A3-82F6-62C234BF6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304920"/>
            <a:ext cx="89978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89978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28600" y="152280"/>
            <a:ext cx="8686800" cy="6553440"/>
            <a:chOff x="228600" y="152280"/>
            <a:chExt cx="8686800" cy="6553440"/>
          </a:xfrm>
        </p:grpSpPr>
        <p:sp>
          <p:nvSpPr>
            <p:cNvPr id="8" name=""/>
            <p:cNvSpPr/>
            <p:nvPr/>
          </p:nvSpPr>
          <p:spPr>
            <a:xfrm>
              <a:off x="228600" y="152280"/>
              <a:ext cx="0" cy="2514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915400" y="4191120"/>
              <a:ext cx="0" cy="2514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8915400" y="76320"/>
            <a:ext cx="76320" cy="1295280"/>
            <a:chOff x="8915400" y="76320"/>
            <a:chExt cx="76320" cy="1295280"/>
          </a:xfrm>
        </p:grpSpPr>
        <p:sp>
          <p:nvSpPr>
            <p:cNvPr id="11" name=""/>
            <p:cNvSpPr/>
            <p:nvPr/>
          </p:nvSpPr>
          <p:spPr>
            <a:xfrm>
              <a:off x="8915400" y="76320"/>
              <a:ext cx="0" cy="1143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991720" y="228600"/>
              <a:ext cx="0" cy="1143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152280" y="5486400"/>
            <a:ext cx="76320" cy="1295280"/>
            <a:chOff x="152280" y="5486400"/>
            <a:chExt cx="76320" cy="1295280"/>
          </a:xfrm>
        </p:grpSpPr>
        <p:sp>
          <p:nvSpPr>
            <p:cNvPr id="14" name=""/>
            <p:cNvSpPr/>
            <p:nvPr/>
          </p:nvSpPr>
          <p:spPr>
            <a:xfrm>
              <a:off x="228600" y="5486400"/>
              <a:ext cx="0" cy="1143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52280" y="5638680"/>
              <a:ext cx="0" cy="1143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" name=""/>
          <p:cNvSpPr/>
          <p:nvPr/>
        </p:nvSpPr>
        <p:spPr>
          <a:xfrm>
            <a:off x="6629400" y="6248520"/>
            <a:ext cx="16765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plangislogo" descr=""/>
          <p:cNvPicPr/>
          <p:nvPr/>
        </p:nvPicPr>
        <p:blipFill>
          <a:blip r:embed="rId2"/>
          <a:stretch/>
        </p:blipFill>
        <p:spPr>
          <a:xfrm>
            <a:off x="6705720" y="6335640"/>
            <a:ext cx="533160" cy="370080"/>
          </a:xfrm>
          <a:prstGeom prst="rect">
            <a:avLst/>
          </a:prstGeom>
          <a:ln w="0">
            <a:noFill/>
          </a:ln>
        </p:spPr>
      </p:pic>
      <p:sp>
        <p:nvSpPr>
          <p:cNvPr id="18" name=""/>
          <p:cNvSpPr/>
          <p:nvPr/>
        </p:nvSpPr>
        <p:spPr>
          <a:xfrm>
            <a:off x="7207200" y="6369120"/>
            <a:ext cx="1098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339933"/>
                </a:solidFill>
                <a:latin typeface="Verdana"/>
              </a:rPr>
              <a:t>plan</a:t>
            </a:r>
            <a:r>
              <a:rPr b="0" lang="de-DE" sz="1600" spc="-1" strike="noStrike">
                <a:solidFill>
                  <a:srgbClr val="339933"/>
                </a:solidFill>
                <a:latin typeface="Verdana"/>
              </a:rPr>
              <a:t>-G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9933"/>
                </a:solidFill>
                <a:latin typeface="Verdana"/>
              </a:rPr>
              <a:t>        </a:t>
            </a:r>
            <a:r>
              <a:rPr b="0" lang="de-DE" sz="1200" spc="-1" strike="noStrike">
                <a:solidFill>
                  <a:srgbClr val="339933"/>
                </a:solidFill>
                <a:latin typeface="Verdana"/>
              </a:rPr>
              <a:t> </a:t>
            </a:r>
            <a:r>
              <a:rPr b="0" lang="de-DE" sz="900" spc="-1" strike="noStrike">
                <a:solidFill>
                  <a:srgbClr val="339933"/>
                </a:solidFill>
                <a:latin typeface="Verdana"/>
              </a:rPr>
              <a:t>Gmb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Metadatenstandards für GIS-Daten, erste Erfahrungen im NOKIS-Projek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304920"/>
            <a:ext cx="899784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47320" y="3643200"/>
            <a:ext cx="378792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pl. Geog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rank Simm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339933"/>
                </a:solidFill>
                <a:latin typeface="Times New Roman"/>
              </a:rPr>
              <a:t>plan</a:t>
            </a:r>
            <a:r>
              <a:rPr b="0" lang="de-DE" sz="2400" spc="-1" strike="noStrike">
                <a:solidFill>
                  <a:srgbClr val="339933"/>
                </a:solidFill>
                <a:latin typeface="Times New Roman"/>
              </a:rPr>
              <a:t>-GI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339933"/>
                </a:solidFill>
                <a:latin typeface="Times New Roman"/>
              </a:rPr>
              <a:t>Gm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Gustav-Elster-Str. 1, D-26789 Le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l.: (0491) 979901-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de-DE" sz="2000" spc="-1" strike="noStrike">
                <a:solidFill>
                  <a:srgbClr val="0000ff"/>
                </a:solidFill>
                <a:latin typeface="Times New Roman"/>
              </a:rPr>
              <a:t>f.simmering@plan-gis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www.plan-gis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OKIS Ersterfassu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fassung der bei den Partner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R-Husu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PA (Tönn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LPV (Wilhelmshave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LWK (Norde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SD-NW (Aur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.in GIS-Systemen abgelegten digitalen Dat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icht erfasst wu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oge D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en von externen Datenhalter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815400" y="18288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fga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rfassungsformula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Nokis_Maske" descr=""/>
          <p:cNvPicPr/>
          <p:nvPr/>
        </p:nvPicPr>
        <p:blipFill>
          <a:blip r:embed="rId1"/>
          <a:srcRect l="13888" t="13712" r="32641" b="37333"/>
          <a:stretch/>
        </p:blipFill>
        <p:spPr>
          <a:xfrm>
            <a:off x="1447920" y="2057400"/>
            <a:ext cx="5867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uswertung der Datenban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Datenbankinhalt z.Zt. 412 Daten-sät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av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361 Einzelkar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51 Kartensammlungen die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Verdana"/>
              </a:rPr>
              <a:t>18.454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atensätze repräsentier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haltliche Schwerpunk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R-Husum und NLW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eitreihen (Seegangs-, Strömungs- und Windmess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messungsdaten (Profile, Peilda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auwerkskat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PA und NL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standskartierungen (Biotoptypen, Robben- und Entenzählungen, Muschelbest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renzen (NP-Zonierung, Befahrensregelungen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SD-N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gitale Bundeswasserstrassenkarte (DBW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athymet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uswertung der Datenban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606680" y="2031840"/>
          <a:ext cx="5930640" cy="42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6680" y="2031840"/>
                    <a:ext cx="5930640" cy="42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723960" y="172080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zahl der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Datensammlung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und Anzahl der enthaltenen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Obje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uswertung der Datenban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30440" y="2031840"/>
          <a:ext cx="5884920" cy="42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0440" y="2031840"/>
                    <a:ext cx="5884920" cy="42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828800" y="1752480"/>
            <a:ext cx="548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zahl der vorhandenen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Einzelkar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uswertung der Datenban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383000" y="2975040"/>
          <a:ext cx="4456080" cy="31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3000" y="2975040"/>
                    <a:ext cx="4456080" cy="31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03040" y="1455840"/>
          <a:ext cx="4445280" cy="319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3040" y="1455840"/>
                    <a:ext cx="444528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838080" y="4800600"/>
            <a:ext cx="33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äufigkeiten der Datenformate bei den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Einzelkar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220968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äufigkeiten der Datenformate bei den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Datensamml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uswertung der Datenban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01640" y="2050920"/>
          <a:ext cx="5942160" cy="42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2050920"/>
                    <a:ext cx="594216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90440" y="172080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äufigkeiten der verwendeten Projektionen (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Datensammlung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und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Einzelkart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uswertung der Datenban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256212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8600" y="1600200"/>
          <a:ext cx="4648320" cy="32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4648320" cy="32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258588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867200" y="3200400"/>
          <a:ext cx="3971880" cy="29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7200" y="3200400"/>
                    <a:ext cx="397188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33520" y="5029200"/>
            <a:ext cx="4114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Häufigkeiten der verwendeten Maßstabsklassen bei den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  <a:ea typeface="Times New Roman"/>
              </a:rPr>
              <a:t>Einzelkart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220968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Häufigkeiten der verwendeten Maßstabsklassen bei den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  <a:ea typeface="Times New Roman"/>
              </a:rPr>
              <a:t>Datensamml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uswertung der Datenban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328140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Boundaries" descr=""/>
          <p:cNvPicPr/>
          <p:nvPr/>
        </p:nvPicPr>
        <p:blipFill>
          <a:blip r:embed="rId1"/>
          <a:stretch/>
        </p:blipFill>
        <p:spPr>
          <a:xfrm>
            <a:off x="3281400" y="1866960"/>
            <a:ext cx="311616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as ist ein Standard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rockhau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ichtmaß, Richtschnur.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tandardwerk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as führende Buch eines Fachgebie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urch Vereinheitlichung geschaffener fester Maßstab für bestimmte Waren gleicher Qualität. Di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tandardisierung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soll eine Norm schaff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rage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*gelös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 machen wir mit externen Daten, die bei Partnern vorliegen, von ihnen benutzt werden, ihnen aber nicht gehören?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handeln wir die große Zahl von Daten, die als Teil von Datensammlungen vorliegen (Zeitreihen, Profile, et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 machen wir mit Geodatensätzen die sehr wenig Inhalt für eine sehr spezielle Fragestellung beinhalten (Mögliche Trasse eines Weges bei einem Deichbauvorhab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 hat mit Dateien zu geschehen, die nur für bestimmte Darstellungen erzeugt wurden (Kartenrahmen, Stempelfelder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gehen wir mit Zusammengesetzten Geodatenobjekten vor (DGN-Fil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chlussfolgerung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e lokalen Metadatenbanken werden vermutlich über wesentlich mehr Inhalte und damit auch Abfrageoptionen verfügen müssen, als die Internetver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ate und Projektionen wesentlich homogener als (von mir) erwarte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...und was ist ein Metadatenstandard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mer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ichtlinie über die Inhalte, den Umfang und die Begrifflichkeiten, die für eine einheitliche Dokumentation von (Geo-) Daten erforderlich sind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r erstellt Metadatenstandard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Initiativen, Arbeitsgruppen, NG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ublin Core Metadata Initiative (DCM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taatliche Organisatio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ederal Geographic Data Commitee (FGD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Nationale und Internationale Normungsorganisatio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utsches Institut für Normung (DI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mité Européen de Normalisation (C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ternational Standards Organisation (I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elche Metadatenstandards für GIS-Daten gibt e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SDGM = Content Standards for Digital Geospatial Metadata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GD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O/TC 211 Project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19115 (CD 3 Metadat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12657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E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blin C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DK = Umweltdatenkatalog (Verwaltungsvereinbarung von 13 Bundesländer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uswahl eines Metadatenstandards für NOK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rgeh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chtung der vorhandenen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sterfassung mit provisorischem Stand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ignungsprüfung durch exemplarische Dokumentation von Datensätz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alyse von Thesau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swahl eines Standards und Erweiterung um zusätzliche Elem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Gegenüberstellung ISO und Dublin Co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80880" y="1981080"/>
          <a:ext cx="8382240" cy="4216680"/>
        </p:xfrm>
        <a:graphic>
          <a:graphicData uri="http://schemas.openxmlformats.org/drawingml/2006/table">
            <a:tbl>
              <a:tblPr/>
              <a:tblGrid>
                <a:gridCol w="4232520"/>
                <a:gridCol w="41497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O 19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blin 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ziell für Geodaten entwickelt, Teil der Normengruppe Geo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mmt aus dem Bibliothekswesen, nicht speziell für Geodaten entwicke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ktuelle Version CD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ndard ist noch nicht verab-schiedet, keine Erfahrungen mit dem Hand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ktuelle Version 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 Bibliothekswesen bereits länger erfolgreich im Einsatz, wird aber ständig weiterentwicke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Über 400 Dataelements gruppiert in 16 sog. Entity 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 Hauptelemente (DCMES) mit 24 Refineme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ommentare der NOKIS-Partn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1676520"/>
          <a:ext cx="7772400" cy="46400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O 191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blin C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thematisch logische und eindeutige Datenbeschreibung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gaben zu Kontakt/Service-stelle etc. sind gut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übersichtlich, leicht verständlich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iffig u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nell ausgefüllt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el zu komplex, vieles war nicht verständlich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kumentation von Attributcodierung nur durch Angabe des Schlüsselkataloges möglich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terscheidung in Datener-heber, Datenbearbeiter und Kontaktstelle für Datenabgabe so nicht möglich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„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kumentation von Attribut-kodierungen nicht direkt möglich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OKIS-Metadatenstandar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Recommended core metadata nach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rweiterungen bezüglich Attribut-doku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DK-konformitä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halbautomatisierte Erfass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rgonomische Maskengestalt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8:56:26Z</dcterms:created>
  <dc:creator>Frank Simmering</dc:creator>
  <dc:description/>
  <dc:language>en-US</dc:language>
  <cp:lastModifiedBy>Hedda Warners</cp:lastModifiedBy>
  <dcterms:modified xsi:type="dcterms:W3CDTF">2001-10-29T10:33:29Z</dcterms:modified>
  <cp:revision>21</cp:revision>
  <dc:subject/>
  <dc:title>NOKIS  Projekt zur Erstellung eines Metadaten-Informationssystems für die Nord- und Ostseeküste</dc:title>
</cp:coreProperties>
</file>