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4BF7-94BC-440C-A2B7-1B14B555F6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E4F9D-68EE-4285-863C-ADF78E8C6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B6247-B70C-415A-8A78-21F4434CA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E1CFC-34A7-486F-8E10-5C927F772D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0E1C7-5B29-4B67-9274-5565FD30CA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1AE93-1CA8-4306-9C07-83B0C366AA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FECF-1734-424C-BBF0-7D1DB80B6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79DF5-6654-453E-8901-2DE4308719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45966-3D98-43C1-942B-8866B3E0F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0D38-6A51-47C8-A37D-72ACAC14A9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D3E2-4312-4C1E-8965-45C1EC4BD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7C10-6084-4999-B5CA-3524DA772E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ample5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28600" y="309600"/>
            <a:ext cx="8686800" cy="6238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rank Simme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B69F-2F90-44CF-8CDE-074C0551D8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304920"/>
            <a:ext cx="8997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53080"/>
            <a:ext cx="899784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228600" y="152280"/>
            <a:ext cx="8686800" cy="6553440"/>
            <a:chOff x="228600" y="152280"/>
            <a:chExt cx="8686800" cy="6553440"/>
          </a:xfrm>
        </p:grpSpPr>
        <p:sp>
          <p:nvSpPr>
            <p:cNvPr id="8" name=""/>
            <p:cNvSpPr/>
            <p:nvPr/>
          </p:nvSpPr>
          <p:spPr>
            <a:xfrm>
              <a:off x="228600" y="152280"/>
              <a:ext cx="0" cy="2514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915400" y="4191120"/>
              <a:ext cx="0" cy="25146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8915400" y="76320"/>
            <a:ext cx="76320" cy="1295280"/>
            <a:chOff x="8915400" y="76320"/>
            <a:chExt cx="76320" cy="1295280"/>
          </a:xfrm>
        </p:grpSpPr>
        <p:sp>
          <p:nvSpPr>
            <p:cNvPr id="11" name=""/>
            <p:cNvSpPr/>
            <p:nvPr/>
          </p:nvSpPr>
          <p:spPr>
            <a:xfrm>
              <a:off x="8915400" y="76320"/>
              <a:ext cx="0" cy="1143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991720" y="228600"/>
              <a:ext cx="0" cy="1143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152280" y="5486400"/>
            <a:ext cx="76320" cy="1295280"/>
            <a:chOff x="152280" y="5486400"/>
            <a:chExt cx="76320" cy="1295280"/>
          </a:xfrm>
        </p:grpSpPr>
        <p:sp>
          <p:nvSpPr>
            <p:cNvPr id="14" name=""/>
            <p:cNvSpPr/>
            <p:nvPr/>
          </p:nvSpPr>
          <p:spPr>
            <a:xfrm>
              <a:off x="228600" y="5486400"/>
              <a:ext cx="0" cy="1143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52280" y="5638680"/>
              <a:ext cx="0" cy="114300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kombi_plangis_origv" descr=""/>
          <p:cNvPicPr/>
          <p:nvPr/>
        </p:nvPicPr>
        <p:blipFill>
          <a:blip r:embed="rId3"/>
          <a:stretch/>
        </p:blipFill>
        <p:spPr>
          <a:xfrm>
            <a:off x="7010280" y="6019920"/>
            <a:ext cx="1854360" cy="43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11.xml"/><Relationship Id="rId3" Type="http://schemas.openxmlformats.org/officeDocument/2006/relationships/slide" Target="slide14.xml"/><Relationship Id="rId4" Type="http://schemas.openxmlformats.org/officeDocument/2006/relationships/slide" Target="slide6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4.xml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sc.noaa.gov/products/chartview/" TargetMode="External"/><Relationship Id="rId2" Type="http://schemas.openxmlformats.org/officeDocument/2006/relationships/hyperlink" Target="http://www.csc.noaa.gov/crs/Products/chartreproj/index.html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Verdana"/>
              </a:rPr>
              <a:t>Die elektronische Seekarte und ihre Verwendung im GI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304920"/>
            <a:ext cx="8997840" cy="0"/>
          </a:xfrm>
          <a:prstGeom prst="line">
            <a:avLst/>
          </a:prstGeom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70400" y="3124080"/>
            <a:ext cx="418572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pl. Geog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rank Simm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339966"/>
                </a:solidFill>
                <a:latin typeface="Verdana"/>
              </a:rPr>
              <a:t>plan</a:t>
            </a:r>
            <a:r>
              <a:rPr b="0" lang="de-DE" sz="2400" spc="-1" strike="noStrike">
                <a:solidFill>
                  <a:srgbClr val="339966"/>
                </a:solidFill>
                <a:latin typeface="Verdana"/>
              </a:rPr>
              <a:t>-GIS Gmb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ustav-Elster-Str. 1, D-26789 Le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l.: (0491) 979901-17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mail: </a:t>
            </a:r>
            <a:r>
              <a:rPr b="0" lang="de-DE" sz="2000" spc="-1" strike="noStrike">
                <a:solidFill>
                  <a:srgbClr val="0000ff"/>
                </a:solidFill>
                <a:latin typeface="Verdana"/>
              </a:rPr>
              <a:t>f.simmering@plan-gis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www.plan-gis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CDI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thält attributierte Vektordate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Objektbeschreibung mit Geometrie und geographischer Position), Forma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  <a:hlinkClick r:id="rId1" action="ppaction://hlinksldjump"/>
              </a:rPr>
              <a:t>S-5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riginal-Datenbasis = Electronic Navigational Chart (</a:t>
            </a: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  <a:hlinkClick r:id="rId2" action="ppaction://hlinksldjump"/>
              </a:rPr>
              <a:t>EN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den ECDIS-Daten werden alle Seegebietsinformationen als geogr. Objekte in Datenbankstrukturen gespeiche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CDIS bietet Mechanismen die Informationen abzufragen und mit Navigationsfunktionen auszuwer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>
            <a:hlinkClick r:id="rId3" action="ppaction://hlinksldjump"/>
          </p:cNvPr>
          <p:cNvSpPr/>
          <p:nvPr/>
        </p:nvSpPr>
        <p:spPr>
          <a:xfrm>
            <a:off x="304920" y="59436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4" action="ppaction://hlinksldjump"/>
          </p:cNvPr>
          <p:cNvSpPr/>
          <p:nvPr/>
        </p:nvSpPr>
        <p:spPr>
          <a:xfrm>
            <a:off x="7391520" y="571500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10800"/>
                </a:moveTo>
                <a:lnTo>
                  <a:pt x="27515" y="3794"/>
                </a:lnTo>
                <a:lnTo>
                  <a:pt x="275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ctronic Navigational Chart (ENC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tliche Originaldaten im S-57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rden von den jeweiligen staatlichen hydrographischen Diensten produzi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rieb erfolgt über gemeinsame Vertriebsorganisationen (PRIMAR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238880" y="5410080"/>
            <a:ext cx="1600200" cy="106704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2389" h="21600">
                <a:moveTo>
                  <a:pt x="0" y="0"/>
                </a:moveTo>
                <a:lnTo>
                  <a:pt x="32389" y="0"/>
                </a:lnTo>
                <a:lnTo>
                  <a:pt x="32389" y="21600"/>
                </a:lnTo>
                <a:lnTo>
                  <a:pt x="0" y="21600"/>
                </a:lnTo>
                <a:close/>
              </a:path>
              <a:path fill="lightenLess" w="32389" h="21600">
                <a:moveTo>
                  <a:pt x="0" y="0"/>
                </a:moveTo>
                <a:lnTo>
                  <a:pt x="32389" y="0"/>
                </a:lnTo>
                <a:lnTo>
                  <a:pt x="30989" y="1400"/>
                </a:lnTo>
                <a:lnTo>
                  <a:pt x="1400" y="1400"/>
                </a:lnTo>
                <a:close/>
              </a:path>
              <a:path fill="darken" w="32389" h="21600">
                <a:moveTo>
                  <a:pt x="32389" y="0"/>
                </a:moveTo>
                <a:lnTo>
                  <a:pt x="32389" y="21600"/>
                </a:lnTo>
                <a:lnTo>
                  <a:pt x="30989" y="20200"/>
                </a:lnTo>
                <a:lnTo>
                  <a:pt x="30989" y="1400"/>
                </a:lnTo>
                <a:close/>
              </a:path>
              <a:path fill="darkenLess" w="32389" h="21600">
                <a:moveTo>
                  <a:pt x="32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9" y="20200"/>
                </a:lnTo>
                <a:close/>
              </a:path>
              <a:path fill="lighten" w="32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9" h="21600">
                <a:moveTo>
                  <a:pt x="9188" y="10800"/>
                </a:moveTo>
                <a:lnTo>
                  <a:pt x="23201" y="3794"/>
                </a:lnTo>
                <a:lnTo>
                  <a:pt x="23201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lektronische Seekartensyste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schiedene elektronische Seekartensystem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D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C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C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terschiede liegen in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 und Inhalt der Seekartendat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kartendarstellu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gebotene Navigationssyste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nerkennung durch staatliche Stell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Baustein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1225800" y="1676520"/>
            <a:ext cx="87120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H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51120" y="1676520"/>
            <a:ext cx="930600" cy="520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92280" y="3114720"/>
            <a:ext cx="756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14720"/>
            <a:ext cx="756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8840" y="3114720"/>
            <a:ext cx="11437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0" idx="2"/>
            <a:endCxn id="102" idx="0"/>
          </p:cNvCxnSpPr>
          <p:nvPr/>
        </p:nvCxnSpPr>
        <p:spPr>
          <a:xfrm flipH="1">
            <a:off x="1071360" y="2204640"/>
            <a:ext cx="591120" cy="9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100" idx="2"/>
            <a:endCxn id="103" idx="0"/>
          </p:cNvCxnSpPr>
          <p:nvPr/>
        </p:nvCxnSpPr>
        <p:spPr>
          <a:xfrm>
            <a:off x="1661760" y="2204640"/>
            <a:ext cx="477000" cy="9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1" idx="2"/>
            <a:endCxn id="104" idx="0"/>
          </p:cNvCxnSpPr>
          <p:nvPr/>
        </p:nvCxnSpPr>
        <p:spPr>
          <a:xfrm>
            <a:off x="5016240" y="2204640"/>
            <a:ext cx="1035720" cy="9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3054240" y="3114720"/>
            <a:ext cx="150048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DIS-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1" idx="2"/>
            <a:endCxn id="108" idx="0"/>
          </p:cNvCxnSpPr>
          <p:nvPr/>
        </p:nvCxnSpPr>
        <p:spPr>
          <a:xfrm flipH="1">
            <a:off x="3804480" y="2204640"/>
            <a:ext cx="1212120" cy="910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60320" y="2438280"/>
            <a:ext cx="69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1520" y="2438280"/>
            <a:ext cx="87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ymbol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16120" y="2449440"/>
            <a:ext cx="113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srüstung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rschrif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39240" y="2373480"/>
            <a:ext cx="122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istungs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forder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1828800" y="4191120"/>
            <a:ext cx="2666880" cy="1143000"/>
          </a:xfrm>
          <a:prstGeom prst="cube">
            <a:avLst>
              <a:gd name="adj" fmla="val 25000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2" idx="2"/>
            <a:endCxn id="114" idx="0"/>
          </p:cNvCxnSpPr>
          <p:nvPr/>
        </p:nvCxnSpPr>
        <p:spPr>
          <a:xfrm>
            <a:off x="1071720" y="3581280"/>
            <a:ext cx="22341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2"/>
            <a:endCxn id="114" idx="0"/>
          </p:cNvCxnSpPr>
          <p:nvPr/>
        </p:nvCxnSpPr>
        <p:spPr>
          <a:xfrm>
            <a:off x="2138040" y="3581280"/>
            <a:ext cx="116748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8" idx="2"/>
            <a:endCxn id="114" idx="0"/>
          </p:cNvCxnSpPr>
          <p:nvPr/>
        </p:nvCxnSpPr>
        <p:spPr>
          <a:xfrm flipH="1">
            <a:off x="3304440" y="3581280"/>
            <a:ext cx="50076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8" idx="3"/>
            <a:endCxn id="104" idx="1"/>
          </p:cNvCxnSpPr>
          <p:nvPr/>
        </p:nvCxnSpPr>
        <p:spPr>
          <a:xfrm>
            <a:off x="4560480" y="3347640"/>
            <a:ext cx="911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4492080" y="3059280"/>
            <a:ext cx="106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onformitä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7520" y="5715000"/>
            <a:ext cx="7887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20" idx="0"/>
            <a:endCxn id="114" idx="3"/>
          </p:cNvCxnSpPr>
          <p:nvPr/>
        </p:nvCxnSpPr>
        <p:spPr>
          <a:xfrm flipV="1">
            <a:off x="1161720" y="5333760"/>
            <a:ext cx="18579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977560" y="5715000"/>
            <a:ext cx="9579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4" idx="3"/>
            <a:endCxn id="122" idx="0"/>
          </p:cNvCxnSpPr>
          <p:nvPr/>
        </p:nvCxnSpPr>
        <p:spPr>
          <a:xfrm>
            <a:off x="3018960" y="5334120"/>
            <a:ext cx="4388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>
            <a:hlinkClick r:id="rId2" action="ppaction://hlinksldjump"/>
          </p:cNvPr>
          <p:cNvSpPr/>
          <p:nvPr/>
        </p:nvSpPr>
        <p:spPr>
          <a:xfrm>
            <a:off x="5334120" y="4191120"/>
            <a:ext cx="2666880" cy="1143000"/>
          </a:xfrm>
          <a:prstGeom prst="cube">
            <a:avLst>
              <a:gd name="adj" fmla="val 25000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87760" y="5756400"/>
            <a:ext cx="974880" cy="4597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5" idx="0"/>
            <a:endCxn id="114" idx="3"/>
          </p:cNvCxnSpPr>
          <p:nvPr/>
        </p:nvCxnSpPr>
        <p:spPr>
          <a:xfrm flipH="1" flipV="1">
            <a:off x="3018600" y="5333400"/>
            <a:ext cx="1956600" cy="423000"/>
          </a:xfrm>
          <a:prstGeom prst="straightConnector1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27" name=""/>
          <p:cNvCxnSpPr>
            <a:stCxn id="125" idx="0"/>
            <a:endCxn id="124" idx="3"/>
          </p:cNvCxnSpPr>
          <p:nvPr/>
        </p:nvCxnSpPr>
        <p:spPr>
          <a:xfrm flipV="1">
            <a:off x="4975200" y="5333400"/>
            <a:ext cx="1550160" cy="42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6874920" y="1600200"/>
            <a:ext cx="1704600" cy="703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ommerzie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bi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  <a:endCxn id="124" idx="0"/>
          </p:cNvCxnSpPr>
          <p:nvPr/>
        </p:nvCxnSpPr>
        <p:spPr>
          <a:xfrm flipH="1">
            <a:off x="6809760" y="2311200"/>
            <a:ext cx="918360" cy="188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ecdis_helgolan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620120" y="5715000"/>
            <a:ext cx="1447560" cy="1066680"/>
          </a:xfrm>
          <a:custGeom>
            <a:avLst/>
            <a:gdLst>
              <a:gd name="textAreaLeft" fmla="*/ 69120 w 1447560"/>
              <a:gd name="textAreaRight" fmla="*/ 1378440 w 144756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9310" h="21600">
                <a:moveTo>
                  <a:pt x="0" y="0"/>
                </a:moveTo>
                <a:lnTo>
                  <a:pt x="29310" y="0"/>
                </a:lnTo>
                <a:lnTo>
                  <a:pt x="29310" y="21600"/>
                </a:lnTo>
                <a:lnTo>
                  <a:pt x="0" y="21600"/>
                </a:lnTo>
                <a:close/>
              </a:path>
              <a:path fill="lightenLess" w="29310" h="21600">
                <a:moveTo>
                  <a:pt x="0" y="0"/>
                </a:moveTo>
                <a:lnTo>
                  <a:pt x="29310" y="0"/>
                </a:lnTo>
                <a:lnTo>
                  <a:pt x="27910" y="1400"/>
                </a:lnTo>
                <a:lnTo>
                  <a:pt x="1400" y="1400"/>
                </a:lnTo>
                <a:close/>
              </a:path>
              <a:path fill="darken" w="29310" h="21600">
                <a:moveTo>
                  <a:pt x="29310" y="0"/>
                </a:moveTo>
                <a:lnTo>
                  <a:pt x="29310" y="21600"/>
                </a:lnTo>
                <a:lnTo>
                  <a:pt x="27910" y="20200"/>
                </a:lnTo>
                <a:lnTo>
                  <a:pt x="27910" y="1400"/>
                </a:lnTo>
                <a:close/>
              </a:path>
              <a:path fill="darkenLess" w="29310" h="21600">
                <a:moveTo>
                  <a:pt x="29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10" y="20200"/>
                </a:lnTo>
                <a:close/>
              </a:path>
              <a:path fill="lighten" w="29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10" h="21600">
                <a:moveTo>
                  <a:pt x="7649" y="3794"/>
                </a:moveTo>
                <a:lnTo>
                  <a:pt x="21662" y="10800"/>
                </a:lnTo>
                <a:lnTo>
                  <a:pt x="7649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 „Electronic Chart System - ECS“ werden alle Systeme bezeichnet, die nicht den ECDIS Performance Standards genüg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ktorisierte Seekartendaten oder Rasterdatensysteme von versch. privaten Anbieter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nproduktion beruht auf Lizenzverträgen mit den Hydrogr. Dienst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304920" y="59436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7391520" y="571500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10800"/>
                </a:moveTo>
                <a:lnTo>
                  <a:pt x="27515" y="3794"/>
                </a:lnTo>
                <a:lnTo>
                  <a:pt x="275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sample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391520" y="5715000"/>
            <a:ext cx="1752480" cy="1143000"/>
          </a:xfrm>
          <a:custGeom>
            <a:avLst/>
            <a:gdLst>
              <a:gd name="textAreaLeft" fmla="*/ 73800 w 1752480"/>
              <a:gd name="textAreaRight" fmla="*/ 1678680 w 17524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3114" h="21600">
                <a:moveTo>
                  <a:pt x="0" y="0"/>
                </a:moveTo>
                <a:lnTo>
                  <a:pt x="33114" y="0"/>
                </a:lnTo>
                <a:lnTo>
                  <a:pt x="33114" y="21600"/>
                </a:lnTo>
                <a:lnTo>
                  <a:pt x="0" y="21600"/>
                </a:lnTo>
                <a:close/>
              </a:path>
              <a:path fill="lightenLess" w="33114" h="21600">
                <a:moveTo>
                  <a:pt x="0" y="0"/>
                </a:moveTo>
                <a:lnTo>
                  <a:pt x="33114" y="0"/>
                </a:lnTo>
                <a:lnTo>
                  <a:pt x="31714" y="1400"/>
                </a:lnTo>
                <a:lnTo>
                  <a:pt x="1400" y="1400"/>
                </a:lnTo>
                <a:close/>
              </a:path>
              <a:path fill="darken" w="33114" h="21600">
                <a:moveTo>
                  <a:pt x="33114" y="0"/>
                </a:moveTo>
                <a:lnTo>
                  <a:pt x="33114" y="21600"/>
                </a:lnTo>
                <a:lnTo>
                  <a:pt x="31714" y="20200"/>
                </a:lnTo>
                <a:lnTo>
                  <a:pt x="31714" y="1400"/>
                </a:lnTo>
                <a:close/>
              </a:path>
              <a:path fill="darkenLess" w="33114" h="21600">
                <a:moveTo>
                  <a:pt x="331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714" y="20200"/>
                </a:lnTo>
                <a:close/>
              </a:path>
              <a:path fill="lighten" w="331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114" h="21600">
                <a:moveTo>
                  <a:pt x="9551" y="10800"/>
                </a:moveTo>
                <a:lnTo>
                  <a:pt x="23564" y="3794"/>
                </a:lnTo>
                <a:lnTo>
                  <a:pt x="23564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C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scannte Papier-Seekarte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it 1996 existiert ein Kartenwerk der Britischen Admiralität   (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„ARCS – Admiralty Raster Chart System“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eltweite Abdeckung (z.Zt. Vorteil gegenüber ECDI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sprechen nicht den IMO/IHO Standar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ravierende Unterschiede zwischen ECDIS und RC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>
            <a:hlinkClick r:id="rId1" action="ppaction://hlinksldjump"/>
          </p:cNvPr>
          <p:cNvSpPr/>
          <p:nvPr/>
        </p:nvSpPr>
        <p:spPr>
          <a:xfrm>
            <a:off x="304920" y="5943600"/>
            <a:ext cx="10666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7391520" y="571500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10800"/>
                </a:moveTo>
                <a:lnTo>
                  <a:pt x="27515" y="3794"/>
                </a:lnTo>
                <a:lnTo>
                  <a:pt x="275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sb_helgoland" descr=""/>
          <p:cNvPicPr/>
          <p:nvPr/>
        </p:nvPicPr>
        <p:blipFill>
          <a:blip r:embed="rId1"/>
          <a:srcRect l="14690" t="10186" r="0" b="261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238880" y="5638680"/>
            <a:ext cx="1676520" cy="106704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3933" h="21600">
                <a:moveTo>
                  <a:pt x="0" y="0"/>
                </a:moveTo>
                <a:lnTo>
                  <a:pt x="33933" y="0"/>
                </a:lnTo>
                <a:lnTo>
                  <a:pt x="33933" y="21600"/>
                </a:lnTo>
                <a:lnTo>
                  <a:pt x="0" y="21600"/>
                </a:lnTo>
                <a:close/>
              </a:path>
              <a:path fill="lightenLess" w="33933" h="21600">
                <a:moveTo>
                  <a:pt x="0" y="0"/>
                </a:moveTo>
                <a:lnTo>
                  <a:pt x="33933" y="0"/>
                </a:lnTo>
                <a:lnTo>
                  <a:pt x="32533" y="1400"/>
                </a:lnTo>
                <a:lnTo>
                  <a:pt x="1400" y="1400"/>
                </a:lnTo>
                <a:close/>
              </a:path>
              <a:path fill="darken" w="33933" h="21600">
                <a:moveTo>
                  <a:pt x="33933" y="0"/>
                </a:moveTo>
                <a:lnTo>
                  <a:pt x="33933" y="21600"/>
                </a:lnTo>
                <a:lnTo>
                  <a:pt x="32533" y="20200"/>
                </a:lnTo>
                <a:lnTo>
                  <a:pt x="32533" y="1400"/>
                </a:lnTo>
                <a:close/>
              </a:path>
              <a:path fill="darkenLess" w="33933" h="21600">
                <a:moveTo>
                  <a:pt x="3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3" y="20200"/>
                </a:lnTo>
                <a:close/>
              </a:path>
              <a:path fill="lighten" w="3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3" h="21600">
                <a:moveTo>
                  <a:pt x="9960" y="10800"/>
                </a:moveTo>
                <a:lnTo>
                  <a:pt x="23973" y="3794"/>
                </a:lnTo>
                <a:lnTo>
                  <a:pt x="2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Unterschiede ECDIS - RC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bsb_helgoland" descr=""/>
          <p:cNvPicPr/>
          <p:nvPr/>
        </p:nvPicPr>
        <p:blipFill>
          <a:blip r:embed="rId1"/>
          <a:srcRect l="34582" t="23787" r="17867" b="15056"/>
          <a:stretch/>
        </p:blipFill>
        <p:spPr>
          <a:xfrm>
            <a:off x="304920" y="1380960"/>
            <a:ext cx="41907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311400" y="138096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ecdis_helgoland" descr=""/>
          <p:cNvPicPr/>
          <p:nvPr/>
        </p:nvPicPr>
        <p:blipFill>
          <a:blip r:embed="rId2"/>
          <a:srcRect l="16082" t="15067" r="29074" b="24308"/>
          <a:stretch/>
        </p:blipFill>
        <p:spPr>
          <a:xfrm>
            <a:off x="4495680" y="1371600"/>
            <a:ext cx="433404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8464680" y="1371600"/>
            <a:ext cx="33300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525780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06800" indent="-406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asterdaten: erlauben nur Darstellung des von d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06800" indent="0">
              <a:lnSpc>
                <a:spcPct val="9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pier-Seekarte gewohnten Bild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06800" indent="-406800">
              <a:lnSpc>
                <a:spcPct val="90000"/>
              </a:lnSpc>
              <a:buClr>
                <a:srgbClr val="0000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ktordaten:Neue Kartendarstellung u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06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vigationsfunk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>
            <a:hlinkClick r:id="rId3" action="ppaction://hlinksldjump"/>
          </p:cNvPr>
          <p:cNvSpPr/>
          <p:nvPr/>
        </p:nvSpPr>
        <p:spPr>
          <a:xfrm>
            <a:off x="7238880" y="5638680"/>
            <a:ext cx="1676520" cy="106704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3933" h="21600">
                <a:moveTo>
                  <a:pt x="0" y="0"/>
                </a:moveTo>
                <a:lnTo>
                  <a:pt x="33933" y="0"/>
                </a:lnTo>
                <a:lnTo>
                  <a:pt x="33933" y="21600"/>
                </a:lnTo>
                <a:lnTo>
                  <a:pt x="0" y="21600"/>
                </a:lnTo>
                <a:close/>
              </a:path>
              <a:path fill="lightenLess" w="33933" h="21600">
                <a:moveTo>
                  <a:pt x="0" y="0"/>
                </a:moveTo>
                <a:lnTo>
                  <a:pt x="33933" y="0"/>
                </a:lnTo>
                <a:lnTo>
                  <a:pt x="32533" y="1400"/>
                </a:lnTo>
                <a:lnTo>
                  <a:pt x="1400" y="1400"/>
                </a:lnTo>
                <a:close/>
              </a:path>
              <a:path fill="darken" w="33933" h="21600">
                <a:moveTo>
                  <a:pt x="33933" y="0"/>
                </a:moveTo>
                <a:lnTo>
                  <a:pt x="33933" y="21600"/>
                </a:lnTo>
                <a:lnTo>
                  <a:pt x="32533" y="20200"/>
                </a:lnTo>
                <a:lnTo>
                  <a:pt x="32533" y="1400"/>
                </a:lnTo>
                <a:close/>
              </a:path>
              <a:path fill="darkenLess" w="33933" h="21600">
                <a:moveTo>
                  <a:pt x="3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3" y="20200"/>
                </a:lnTo>
                <a:close/>
              </a:path>
              <a:path fill="lighten" w="3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3" h="21600">
                <a:moveTo>
                  <a:pt x="9960" y="10800"/>
                </a:moveTo>
                <a:lnTo>
                  <a:pt x="23973" y="3794"/>
                </a:lnTo>
                <a:lnTo>
                  <a:pt x="2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inleitu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ichtigkeit und Sicherheit der Schifffahrt stellt ein elementares Interesse für alle Küstenstaaten d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ndel, Verteidigung, Mobilität..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Zwischenstaatliche Übereinkünfte sind dafür zwingend erforderli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ektronische Seekartensysteme wie ECDIS helfen das Ziel zu erreichen, sind aber auch für Planungszwecke interess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RIMAR-Daten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99200" y="228600"/>
            <a:ext cx="3289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bdeckung ECD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7238880" y="5638680"/>
            <a:ext cx="1676520" cy="106704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3933" h="21600">
                <a:moveTo>
                  <a:pt x="0" y="0"/>
                </a:moveTo>
                <a:lnTo>
                  <a:pt x="33933" y="0"/>
                </a:lnTo>
                <a:lnTo>
                  <a:pt x="33933" y="21600"/>
                </a:lnTo>
                <a:lnTo>
                  <a:pt x="0" y="21600"/>
                </a:lnTo>
                <a:close/>
              </a:path>
              <a:path fill="lightenLess" w="33933" h="21600">
                <a:moveTo>
                  <a:pt x="0" y="0"/>
                </a:moveTo>
                <a:lnTo>
                  <a:pt x="33933" y="0"/>
                </a:lnTo>
                <a:lnTo>
                  <a:pt x="32533" y="1400"/>
                </a:lnTo>
                <a:lnTo>
                  <a:pt x="1400" y="1400"/>
                </a:lnTo>
                <a:close/>
              </a:path>
              <a:path fill="darken" w="33933" h="21600">
                <a:moveTo>
                  <a:pt x="33933" y="0"/>
                </a:moveTo>
                <a:lnTo>
                  <a:pt x="33933" y="21600"/>
                </a:lnTo>
                <a:lnTo>
                  <a:pt x="32533" y="20200"/>
                </a:lnTo>
                <a:lnTo>
                  <a:pt x="32533" y="1400"/>
                </a:lnTo>
                <a:close/>
              </a:path>
              <a:path fill="darkenLess" w="33933" h="21600">
                <a:moveTo>
                  <a:pt x="3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3" y="20200"/>
                </a:lnTo>
                <a:close/>
              </a:path>
              <a:path fill="lighten" w="3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3" h="21600">
                <a:moveTo>
                  <a:pt x="9960" y="10800"/>
                </a:moveTo>
                <a:lnTo>
                  <a:pt x="23973" y="3794"/>
                </a:lnTo>
                <a:lnTo>
                  <a:pt x="2397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Vorteil der Seekarte für Plan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ispiel Offshore Windpark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sertief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a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hifffahrtswe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attformen/Bohrinsel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rr/Schutzgebi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bel/Pipel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uchtfeuer, Rad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chnittstellen zur ESRI-Wel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utical Chart Extension for ArcView 3.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  <a:hlinkClick r:id="rId1"/>
              </a:rPr>
              <a:t>http://www.csc.noaa.gov/products/chartview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gital NOAA Nautical Chart Reprojection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Verdana"/>
                <a:hlinkClick r:id="rId2"/>
              </a:rPr>
              <a:t>http://www.csc.noaa.gov/crs/Products/chartreproj/index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57 ENC Viewer (ArcView Extension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CARC Befehl in ArcInf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bleme bei Datenübernahm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reitstellung der Daten für nicht nautische Zwecke ist im Vertriebssystem nicht vorgeseh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tliche Daten werden nur verschlüsselt ausgelief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 können nur ganze Zellen bezogen werd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eekarte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im GI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arstelle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as ist eine elektronische Seekarte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8224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 elektronische Seekarte ist ein interaktives nautisches Informations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s System ergänzt/ersetzt den herkömmliche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artentis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e beinhaltet und zeigt alle Informationen, die für die navigatorische Schiffsführung nötig si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z.B. Routenplanung, Hinweise und Notizen, Positionsbestimmung, Kartenberichtigungen etc.)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14507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e Welt der elektronischen Seekarte, eine Geheimsprache.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666880"/>
            <a:ext cx="1295640" cy="609840"/>
          </a:xfrm>
          <a:prstGeom prst="cloudCallout">
            <a:avLst>
              <a:gd name="adj1" fmla="val -73162"/>
              <a:gd name="adj2" fmla="val 468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981080"/>
            <a:ext cx="1143000" cy="609840"/>
          </a:xfrm>
          <a:prstGeom prst="cloudCallout">
            <a:avLst>
              <a:gd name="adj1" fmla="val 153333"/>
              <a:gd name="adj2" fmla="val -599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4038480"/>
            <a:ext cx="1295280" cy="609840"/>
          </a:xfrm>
          <a:prstGeom prst="cloudCallout">
            <a:avLst>
              <a:gd name="adj1" fmla="val 75856"/>
              <a:gd name="adj2" fmla="val -12213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1" action="ppaction://hlinksldjump"/>
              </a:rPr>
              <a:t>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Cloud"/>
          <p:cNvSpPr/>
          <p:nvPr/>
        </p:nvSpPr>
        <p:spPr>
          <a:xfrm>
            <a:off x="3200400" y="2666880"/>
            <a:ext cx="2895480" cy="14526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ktronis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a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67280" y="4724280"/>
            <a:ext cx="1295640" cy="609840"/>
          </a:xfrm>
          <a:prstGeom prst="cloudCallout">
            <a:avLst>
              <a:gd name="adj1" fmla="val -86398"/>
              <a:gd name="adj2" fmla="val -2065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2" action="ppaction://hlinksldjump"/>
              </a:rPr>
              <a:t>I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3581280"/>
            <a:ext cx="1219320" cy="609840"/>
          </a:xfrm>
          <a:prstGeom prst="cloudCallout">
            <a:avLst>
              <a:gd name="adj1" fmla="val -77212"/>
              <a:gd name="adj2" fmla="val 14349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3" action="ppaction://hlinksldjump"/>
              </a:rPr>
              <a:t>S-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9720" y="4343400"/>
            <a:ext cx="1295280" cy="609480"/>
          </a:xfrm>
          <a:prstGeom prst="cloudCallout">
            <a:avLst>
              <a:gd name="adj1" fmla="val 71935"/>
              <a:gd name="adj2" fmla="val 4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029200"/>
            <a:ext cx="1676520" cy="609480"/>
          </a:xfrm>
          <a:prstGeom prst="cloudCallout">
            <a:avLst>
              <a:gd name="adj1" fmla="val 43180"/>
              <a:gd name="adj2" fmla="val -11614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4" action="ppaction://hlinksldjump"/>
              </a:rPr>
              <a:t>SO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520" y="2971800"/>
            <a:ext cx="1904760" cy="685800"/>
          </a:xfrm>
          <a:prstGeom prst="cloudCallout">
            <a:avLst>
              <a:gd name="adj1" fmla="val 42750"/>
              <a:gd name="adj2" fmla="val 1115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CDIS-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419720" y="1828800"/>
            <a:ext cx="1676160" cy="609480"/>
          </a:xfrm>
          <a:prstGeom prst="cloudCallout">
            <a:avLst>
              <a:gd name="adj1" fmla="val -36268"/>
              <a:gd name="adj2" fmla="val 1130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cc"/>
                </a:solidFill>
                <a:uFillTx/>
                <a:latin typeface="Times New Roman"/>
                <a:hlinkClick r:id="rId5" action="ppaction://hlinksldjump"/>
              </a:rPr>
              <a:t>ECD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4080" y="4952880"/>
            <a:ext cx="1600200" cy="609840"/>
          </a:xfrm>
          <a:prstGeom prst="cloudCallout">
            <a:avLst>
              <a:gd name="adj1" fmla="val -398"/>
              <a:gd name="adj2" fmla="val -2046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8320" y="5715000"/>
            <a:ext cx="1523880" cy="609480"/>
          </a:xfrm>
          <a:prstGeom prst="cloudCallout">
            <a:avLst>
              <a:gd name="adj1" fmla="val -70106"/>
              <a:gd name="adj2" fmla="val -1223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ational Maritime Organization (IMO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horganisation der U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rarbeitet internationale Richtlinien und Übereinkünfte zur internationalen Schiffssicherheit und zur Verhütung der Meeresverschmutz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">
            <a:hlinkClick r:id="" action="ppaction://hlinkshowjump?jump=previousslide"/>
          </p:cNvPr>
          <p:cNvSpPr/>
          <p:nvPr/>
        </p:nvSpPr>
        <p:spPr>
          <a:xfrm>
            <a:off x="7391520" y="571500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10800"/>
                </a:moveTo>
                <a:lnTo>
                  <a:pt x="27515" y="3794"/>
                </a:lnTo>
                <a:lnTo>
                  <a:pt x="275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afety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fe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 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a (SOLAS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n der IMO erarbeitetes und laufend weiterentwickeltes Internationales Übereinkomm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thält Ausrüstungsvorschriften, die sicherstellen, dass ein Schiff bezügl. der Sicherheit des menschlichen Lebens auf See, für die Aufgabe, für die es eingesetzt werden soll, gerüstet i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erpflichtung amtliche und aktuelle Seekarten mitzuführ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7391520" y="571500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10800"/>
                </a:moveTo>
                <a:lnTo>
                  <a:pt x="27515" y="3794"/>
                </a:lnTo>
                <a:lnTo>
                  <a:pt x="275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ECDIS Performance Standar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n der IMO veröffentlichte Leistungsnorm für Electronic Chart Display and Information Systems (ECDI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in konformes ECDIS kann als Ersatz für die Papierseekarte eingesetzt werden wen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mtlich autorisierte Daten verwendet werd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e graphische Darstellung einer geräteunabhängigen Spezifikation entspric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ine Anzahl von Navigationsfunktionen unterstützt werden, die die Arbeit mit der Papierseekarte ersetzen könn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7391520" y="571500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10800"/>
                </a:moveTo>
                <a:lnTo>
                  <a:pt x="27515" y="3794"/>
                </a:lnTo>
                <a:lnTo>
                  <a:pt x="275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58672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10800"/>
                </a:moveTo>
                <a:lnTo>
                  <a:pt x="27520" y="3794"/>
                </a:lnTo>
                <a:lnTo>
                  <a:pt x="27520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nternational Hydrographic Organisation (IHO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e nationalen hydrographischen Dienste, die unter dem Dach der IHO zusammenarbeiten, sind für die Erhebung, Sammlung und Aufbereitung von amtlichen Daten zuständ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e IHO hat ein einheitliches Datenaustauschformat –“Transfer Standard for Hydrographic Data (S-57)“  und eine Darstellungsvorschrift (S-52) spezifizi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571500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10800"/>
                </a:moveTo>
                <a:lnTo>
                  <a:pt x="27515" y="3794"/>
                </a:lnTo>
                <a:lnTo>
                  <a:pt x="275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pecial Publication No. 57 (S-57)</a:t>
            </a:r>
            <a:r>
              <a:rPr b="0" lang="en-US" sz="4000" spc="-1" strike="noStrike">
                <a:solidFill>
                  <a:srgbClr val="145078"/>
                </a:solidFill>
                <a:latin typeface="Arial"/>
                <a:ea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thäl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flistung aller zulässigen hydrographischen Objektkl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38080" indent="-3808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e Formatbeschreibung des Austauschformates S-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-57-Konformität gewährleistet internationale Kompatibilität der Date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-57 Daten enthalten keine Informationen bezüglich Symbolisieru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391520" y="5715000"/>
            <a:ext cx="1447560" cy="762120"/>
          </a:xfrm>
          <a:custGeom>
            <a:avLst/>
            <a:gdLst>
              <a:gd name="textAreaLeft" fmla="*/ 49320 w 1447560"/>
              <a:gd name="textAreaRight" fmla="*/ 1398240 w 1447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18" h="21600">
                <a:moveTo>
                  <a:pt x="0" y="0"/>
                </a:moveTo>
                <a:lnTo>
                  <a:pt x="41018" y="0"/>
                </a:lnTo>
                <a:lnTo>
                  <a:pt x="41018" y="21600"/>
                </a:lnTo>
                <a:lnTo>
                  <a:pt x="0" y="21600"/>
                </a:lnTo>
                <a:close/>
              </a:path>
              <a:path fill="lightenLess" w="41018" h="21600">
                <a:moveTo>
                  <a:pt x="0" y="0"/>
                </a:moveTo>
                <a:lnTo>
                  <a:pt x="41018" y="0"/>
                </a:lnTo>
                <a:lnTo>
                  <a:pt x="39618" y="1400"/>
                </a:lnTo>
                <a:lnTo>
                  <a:pt x="1400" y="1400"/>
                </a:lnTo>
                <a:close/>
              </a:path>
              <a:path fill="darken" w="41018" h="21600">
                <a:moveTo>
                  <a:pt x="41018" y="0"/>
                </a:moveTo>
                <a:lnTo>
                  <a:pt x="41018" y="21600"/>
                </a:lnTo>
                <a:lnTo>
                  <a:pt x="39618" y="20200"/>
                </a:lnTo>
                <a:lnTo>
                  <a:pt x="39618" y="1400"/>
                </a:lnTo>
                <a:close/>
              </a:path>
              <a:path fill="darkenLess" w="41018" h="21600">
                <a:moveTo>
                  <a:pt x="41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18" y="20200"/>
                </a:lnTo>
                <a:close/>
              </a:path>
              <a:path fill="lighten" w="41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18" h="21600">
                <a:moveTo>
                  <a:pt x="13502" y="10800"/>
                </a:moveTo>
                <a:lnTo>
                  <a:pt x="27515" y="3794"/>
                </a:lnTo>
                <a:lnTo>
                  <a:pt x="2751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08:56:26Z</dcterms:created>
  <dc:creator>Frank Simmering</dc:creator>
  <dc:description/>
  <dc:language>en-US</dc:language>
  <cp:lastModifiedBy>Frank Simmering</cp:lastModifiedBy>
  <dcterms:modified xsi:type="dcterms:W3CDTF">2001-10-29T08:31:01Z</dcterms:modified>
  <cp:revision>69</cp:revision>
  <dc:subject/>
  <dc:title>NOKIS  Projekt zur Erstellung eines Metadaten-Informationssystems für die Nord- und Ostseeküste</dc:title>
</cp:coreProperties>
</file>