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1.jpeg" ContentType="image/jpeg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192-D159-40E9-9606-E506F30D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62E-EBE4-4F33-B6B6-DDFF271B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9DC-207F-4999-AC54-40396386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1CE-7B88-4923-86FA-A5D4B6CB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48C-96FE-4B7C-AFDB-CE17E41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F5F-CE28-4FF0-861C-1DC0F720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26A-FE4C-4129-9CC3-69A7DEC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927-2A80-419D-B161-2F353217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66F-C797-415D-B5FD-D037EA6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240-DFE2-45C3-B930-3B43BE2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E96-AE56-45C2-AB3D-5CD22D18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665-D299-4A64-9D2F-E40453F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76E3-588F-4749-922E-D7D8119EA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h" descr=""/>
          <p:cNvPicPr/>
          <p:nvPr/>
        </p:nvPicPr>
        <p:blipFill>
          <a:blip r:embed="rId2"/>
          <a:stretch/>
        </p:blipFill>
        <p:spPr>
          <a:xfrm>
            <a:off x="7696080" y="6012000"/>
            <a:ext cx="914400" cy="641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174000" y="6019920"/>
            <a:ext cx="155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ür ländliche Rä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u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15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IS-Anwendertreff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2./23. Oktober 2001 in Tönun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4400" spc="-1" strike="noStrike" u="sng">
                <a:solidFill>
                  <a:srgbClr val="ff3300"/>
                </a:solidFill>
                <a:uFillTx/>
                <a:latin typeface="Times New Roman"/>
              </a:rPr>
              <a:t>K</a:t>
            </a:r>
            <a:r>
              <a:rPr b="0" lang="de-DE" sz="4400" spc="-1" strike="noStrike">
                <a:solidFill>
                  <a:srgbClr val="ff3300"/>
                </a:solidFill>
                <a:latin typeface="Times New Roman"/>
              </a:rPr>
              <a:t>üsten</a:t>
            </a:r>
            <a:r>
              <a:rPr b="0" lang="de-DE" sz="4400" spc="-1" strike="noStrike" u="sng">
                <a:solidFill>
                  <a:srgbClr val="ff3300"/>
                </a:solidFill>
                <a:uFillTx/>
                <a:latin typeface="Times New Roman"/>
              </a:rPr>
              <a:t>i</a:t>
            </a:r>
            <a:r>
              <a:rPr b="0" lang="de-DE" sz="4400" spc="-1" strike="noStrike">
                <a:solidFill>
                  <a:srgbClr val="ff3300"/>
                </a:solidFill>
                <a:latin typeface="Times New Roman"/>
              </a:rPr>
              <a:t>nformations</a:t>
            </a:r>
            <a:r>
              <a:rPr b="0" lang="de-DE" sz="44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r>
              <a:rPr b="0" lang="de-DE" sz="4400" spc="-1" strike="noStrike">
                <a:solidFill>
                  <a:srgbClr val="ff3300"/>
                </a:solidFill>
                <a:latin typeface="Times New Roman"/>
              </a:rPr>
              <a:t>ystem (KIS)</a:t>
            </a:r>
            <a:br>
              <a:rPr sz="4400"/>
            </a:br>
            <a:r>
              <a:rPr b="0" lang="de-DE" sz="4400" spc="-1" strike="noStrike">
                <a:solidFill>
                  <a:srgbClr val="ff3300"/>
                </a:solidFill>
                <a:latin typeface="Times New Roman"/>
              </a:rPr>
              <a:t>+ </a:t>
            </a:r>
            <a:br>
              <a:rPr sz="4400"/>
            </a:br>
            <a:r>
              <a:rPr b="0" lang="de-DE" sz="4400" spc="-1" strike="noStrike">
                <a:solidFill>
                  <a:srgbClr val="ff3300"/>
                </a:solidFill>
                <a:latin typeface="Times New Roman"/>
              </a:rPr>
              <a:t>Aufbau eines Deich- und Küstenschutzkatasters</a:t>
            </a:r>
            <a:br>
              <a:rPr sz="4400"/>
            </a:b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rfst M. Hinrich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hotogrammetrische Auswert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h" descr=""/>
          <p:cNvPicPr/>
          <p:nvPr/>
        </p:nvPicPr>
        <p:blipFill>
          <a:blip r:embed="rId1"/>
          <a:stretch/>
        </p:blipFill>
        <p:spPr>
          <a:xfrm>
            <a:off x="1500120" y="1181160"/>
            <a:ext cx="614376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6-1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ichkat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4-1" descr=""/>
          <p:cNvPicPr/>
          <p:nvPr/>
        </p:nvPicPr>
        <p:blipFill>
          <a:blip r:embed="rId1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7-1" descr=""/>
          <p:cNvPicPr/>
          <p:nvPr/>
        </p:nvPicPr>
        <p:blipFill>
          <a:blip r:embed="rId1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79" name="7-2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80" name="7-3" descr=""/>
          <p:cNvPicPr/>
          <p:nvPr/>
        </p:nvPicPr>
        <p:blipFill>
          <a:blip r:embed="rId3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GIS-Aufbereit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2-3 Pers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rcView 3.2 mit Extensions / (ArcInf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otogramme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ermessung AL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xterne 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VA - Daten (TK50, ATKIS, DGM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gene Digitalis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Themenberei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üstenschutz-Bauwer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nehmigungen (Deichbehör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ersorgungseinricht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isualisierung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„META-Daten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orphologische Zustände + Veränder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neralplan Küsten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f. Tabellenstruktur(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ttributliste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bjekt-Kenn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n-Dokumentationsliste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teilung in Küstenabschn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estlegung der Zuständigkeitsbere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teiablage-Struktu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rcView - Shape-Date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hierarchische Ablag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ebiet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achth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rennung externer und interner GIS-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ten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gement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ystem (D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lage einer Dokumentation (WORD/PD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ten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ystem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D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Tideström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Brandungsström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See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Wassertempera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uftd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Leitfähigk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Tidewass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Times New Roman"/>
              </a:rPr>
              <a:t>Eintrittszeiten, Hö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Sed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cc99"/>
                </a:solidFill>
                <a:latin typeface="Times New Roman"/>
              </a:rPr>
              <a:t>Quer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cc99"/>
                </a:solidFill>
                <a:latin typeface="Times New Roman"/>
              </a:rPr>
              <a:t>Wattvermess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utzungs - Konz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entrale Datenhaltung und -pf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griff übe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isulisierung mit ArcView, ArcInfo bzw.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rcExplo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eder User ist - auch - Anw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aubetriebe erhalten Daten auf CD-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üstenentwicklung NN+3,75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grundkarte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97" name="mor-1" descr=""/>
          <p:cNvPicPr/>
          <p:nvPr/>
        </p:nvPicPr>
        <p:blipFill>
          <a:blip r:embed="rId3"/>
          <a:stretch/>
        </p:blipFill>
        <p:spPr>
          <a:xfrm>
            <a:off x="1503360" y="1181160"/>
            <a:ext cx="613584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aufsp" descr=""/>
          <p:cNvPicPr/>
          <p:nvPr/>
        </p:nvPicPr>
        <p:blipFill>
          <a:blip r:embed="rId4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mor-2" descr=""/>
          <p:cNvPicPr/>
          <p:nvPr/>
        </p:nvPicPr>
        <p:blipFill>
          <a:blip r:embed="rId5"/>
          <a:stretch/>
        </p:blipFill>
        <p:spPr>
          <a:xfrm>
            <a:off x="1503360" y="1181160"/>
            <a:ext cx="613584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4400" y="1413000"/>
            <a:ext cx="157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70-198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6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mt für ländliche Räume Hus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Allgemeine Abtei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andwirtsc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Times New Roman"/>
              </a:rPr>
              <a:t>Pflanzen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ändliche 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Hä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Küstenschu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Küstengewässerku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ilvergleiche 1992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grundkarte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104" name="prof-1" descr=""/>
          <p:cNvPicPr/>
          <p:nvPr/>
        </p:nvPicPr>
        <p:blipFill>
          <a:blip r:embed="rId3"/>
          <a:stretch/>
        </p:blipFill>
        <p:spPr>
          <a:xfrm>
            <a:off x="1503360" y="1181160"/>
            <a:ext cx="61358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3300"/>
                </a:solidFill>
                <a:latin typeface="Times New Roman"/>
              </a:rPr>
              <a:t>Probleme der Datenhalt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Große Anzahl von Einzeldate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Pflege der Tabellenstruktu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Aktualisierung externer 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Kosten/Nutzen für Daten aus der Landesvermes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Verwenden einheitlicher Basisleg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okumentation der Daten (META-D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Kartenzugang nur über </a:t>
            </a:r>
            <a:r>
              <a:rPr b="0" i="1" lang="de-DE" sz="3200" spc="-1" strike="noStrike">
                <a:solidFill>
                  <a:srgbClr val="ff3300"/>
                </a:solidFill>
                <a:latin typeface="Times New Roman"/>
              </a:rPr>
              <a:t>ein GIS</a:t>
            </a: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 mö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Vielen Dank für Ihre Aufmerksamk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Küstenschutz im ALR Hus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2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3" descr=""/>
          <p:cNvPicPr/>
          <p:nvPr/>
        </p:nvPicPr>
        <p:blipFill>
          <a:blip r:embed="rId3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0" name="4" descr=""/>
          <p:cNvPicPr/>
          <p:nvPr/>
        </p:nvPicPr>
        <p:blipFill>
          <a:blip r:embed="rId4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1" name="5" descr=""/>
          <p:cNvPicPr/>
          <p:nvPr/>
        </p:nvPicPr>
        <p:blipFill>
          <a:blip r:embed="rId5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6" descr=""/>
          <p:cNvPicPr/>
          <p:nvPr/>
        </p:nvPicPr>
        <p:blipFill>
          <a:blip r:embed="rId6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3" name="7" descr=""/>
          <p:cNvPicPr/>
          <p:nvPr/>
        </p:nvPicPr>
        <p:blipFill>
          <a:blip r:embed="rId7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8" descr=""/>
          <p:cNvPicPr/>
          <p:nvPr/>
        </p:nvPicPr>
        <p:blipFill>
          <a:blip r:embed="rId8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9" descr=""/>
          <p:cNvPicPr/>
          <p:nvPr/>
        </p:nvPicPr>
        <p:blipFill>
          <a:blip r:embed="rId9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eichzubeh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2-1" descr=""/>
          <p:cNvPicPr/>
          <p:nvPr/>
        </p:nvPicPr>
        <p:blipFill>
          <a:blip r:embed="rId1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58" name="2-2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Vermessung Nordte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-1" descr=""/>
          <p:cNvPicPr/>
          <p:nvPr/>
        </p:nvPicPr>
        <p:blipFill>
          <a:blip r:embed="rId1"/>
          <a:stretch/>
        </p:blipFill>
        <p:spPr>
          <a:xfrm>
            <a:off x="2376360" y="1181160"/>
            <a:ext cx="4391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Vermessung Südte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3-2" descr=""/>
          <p:cNvPicPr/>
          <p:nvPr/>
        </p:nvPicPr>
        <p:blipFill>
          <a:blip r:embed="rId1"/>
          <a:stretch/>
        </p:blipFill>
        <p:spPr>
          <a:xfrm>
            <a:off x="2376360" y="1181160"/>
            <a:ext cx="4391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Luftbilder und Sonsti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3-3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01956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Hydrologisches Messnetz Westküste S.-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001_hydrologie-nordteil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90808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2001_hydrologie-suedteil" descr=""/>
          <p:cNvPicPr/>
          <p:nvPr/>
        </p:nvPicPr>
        <p:blipFill>
          <a:blip r:embed="rId2"/>
          <a:stretch/>
        </p:blipFill>
        <p:spPr>
          <a:xfrm>
            <a:off x="3795840" y="1676520"/>
            <a:ext cx="5348160" cy="37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ufbau einer Infrastruk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-1" descr=""/>
          <p:cNvPicPr/>
          <p:nvPr/>
        </p:nvPicPr>
        <p:blipFill>
          <a:blip r:embed="rId1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70" name="5-3" descr=""/>
          <p:cNvPicPr/>
          <p:nvPr/>
        </p:nvPicPr>
        <p:blipFill>
          <a:blip r:embed="rId2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5-2" descr=""/>
          <p:cNvPicPr/>
          <p:nvPr/>
        </p:nvPicPr>
        <p:blipFill>
          <a:blip r:embed="rId3"/>
          <a:stretch/>
        </p:blipFill>
        <p:spPr>
          <a:xfrm>
            <a:off x="1498680" y="1181160"/>
            <a:ext cx="614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S-Anwendertreff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önning, 23.10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07:06:06Z</dcterms:created>
  <dc:creator>Arfst Hinrichsen</dc:creator>
  <dc:description/>
  <dc:language>en-US</dc:language>
  <cp:lastModifiedBy>Arfst Hinrichsen</cp:lastModifiedBy>
  <dcterms:modified xsi:type="dcterms:W3CDTF">2001-10-23T06:17:29Z</dcterms:modified>
  <cp:revision>21</cp:revision>
  <dc:subject/>
  <dc:title>Kein Folientitel</dc:title>
</cp:coreProperties>
</file>