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A029-BEE3-4DB3-BFEC-D82E1BC5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961-FE03-4081-9940-A7E99E52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C6F-122F-4736-84B8-6096FCF6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5B6-F871-4525-8931-7F553864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10D-4869-4BF4-A5C7-4437FE62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85A-C7C2-46A8-9D72-D06F7983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250-0BD7-4446-9F09-58972B01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DF0-6DFD-4F82-94C6-6577FC94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B57-0A6B-4C8C-A21A-A28B0CBE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850-8284-443B-9A6B-59F247A2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6E7-EBA4-47E9-A737-64AC5FFE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944-E86D-43C2-ACE7-6E8B516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C26-18A3-4010-AAE6-157EAF02A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ildfire.usgs.gov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ildfire.usgs.gov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RAWS2001_MD%5B1%5D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ld_grst" descr=""/>
          <p:cNvPicPr/>
          <p:nvPr/>
        </p:nvPicPr>
        <p:blipFill>
          <a:blip r:embed="rId1"/>
          <a:stretch/>
        </p:blipFill>
        <p:spPr>
          <a:xfrm>
            <a:off x="0" y="457200"/>
            <a:ext cx="9821880" cy="719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609840" y="533160"/>
            <a:ext cx="1066788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adaten bei Arc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8229600" cy="2362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halten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tje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in der Umweltwissenscha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Schwerpunkt Umweltinformatik und Umweltmanagement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der Universität Lüne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orld_grst" descr=""/>
          <p:cNvPicPr/>
          <p:nvPr/>
        </p:nvPicPr>
        <p:blipFill>
          <a:blip r:embed="rId1"/>
          <a:stretch/>
        </p:blipFill>
        <p:spPr>
          <a:xfrm>
            <a:off x="0" y="457200"/>
            <a:ext cx="9821880" cy="7199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838440" y="-152640"/>
            <a:ext cx="106678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en bei Arc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480"/>
            <a:ext cx="556416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828800"/>
            <a:ext cx="2895840" cy="304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209680"/>
            <a:ext cx="1676520" cy="304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14600"/>
            <a:ext cx="1752840" cy="304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819520"/>
            <a:ext cx="5029200" cy="304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orum geht es eigentli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1 Meta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 ArcIMS 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Daten oder Information? - ein kleiner Untersch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Zwischenfaz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Umsetzung in ArcIMS 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1 Metadaten generieren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2 Metadaten aus ArcGIS 8.x übernehm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3 Anbindungsmöglichkeiten über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Faz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Ei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Beisp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52280" y="6553080"/>
            <a:ext cx="9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je Grande, Studentin der Umweltwissenschaften - Schwerpunkt Umweltinformatik und Umweltmanagement - an der Universität Lüne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world_grst" descr=""/>
          <p:cNvPicPr/>
          <p:nvPr/>
        </p:nvPicPr>
        <p:blipFill>
          <a:blip r:embed="rId1"/>
          <a:stretch/>
        </p:blipFill>
        <p:spPr>
          <a:xfrm>
            <a:off x="-304920" y="420840"/>
            <a:ext cx="9821880" cy="7199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838440" y="-152640"/>
            <a:ext cx="106678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en bei Arc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720" y="609480"/>
            <a:ext cx="495468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en oder Informatio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371600"/>
            <a:ext cx="1905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25   6   19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82428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°C  25°C  19°C  3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5943600"/>
            <a:ext cx="45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= zweckorientiertes Wi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981080"/>
            <a:ext cx="3352680" cy="15242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°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agesmitte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emperaturen, gemessen von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etterstation i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uf Sy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4495680"/>
            <a:ext cx="3581280" cy="1067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ttervorhersage für Tourist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lima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80880" y="6583320"/>
            <a:ext cx="98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je Grande, Studentin der Umweltwissenschaften - Schwerpunkt Umweltinformatik und Umweltmanagement - an der Universität Lüne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1371600"/>
            <a:ext cx="228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ale, Zeichen, Symb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581280"/>
            <a:ext cx="21337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chrichten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Meld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286000"/>
            <a:ext cx="1981080" cy="76212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deu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572000"/>
            <a:ext cx="1904760" cy="76212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weckorient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90920" y="4191120"/>
            <a:ext cx="3504960" cy="1676160"/>
            <a:chOff x="2590920" y="4191120"/>
            <a:chExt cx="3504960" cy="1676160"/>
          </a:xfrm>
        </p:grpSpPr>
        <p:sp>
          <p:nvSpPr>
            <p:cNvPr id="67" name=""/>
            <p:cNvSpPr/>
            <p:nvPr/>
          </p:nvSpPr>
          <p:spPr>
            <a:xfrm>
              <a:off x="2590920" y="4191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95880" y="42670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590920" y="5334120"/>
              <a:ext cx="3504960" cy="533160"/>
              <a:chOff x="2590920" y="5334120"/>
              <a:chExt cx="3504960" cy="533160"/>
            </a:xfrm>
          </p:grpSpPr>
          <p:sp>
            <p:nvSpPr>
              <p:cNvPr id="70" name=""/>
              <p:cNvSpPr/>
              <p:nvPr/>
            </p:nvSpPr>
            <p:spPr>
              <a:xfrm>
                <a:off x="2590920" y="556272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095880" y="5334120"/>
                <a:ext cx="0" cy="53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2590920" y="1752480"/>
            <a:ext cx="3504960" cy="2057400"/>
            <a:chOff x="2590920" y="1752480"/>
            <a:chExt cx="3504960" cy="2057400"/>
          </a:xfrm>
        </p:grpSpPr>
        <p:sp>
          <p:nvSpPr>
            <p:cNvPr id="73" name=""/>
            <p:cNvSpPr/>
            <p:nvPr/>
          </p:nvSpPr>
          <p:spPr>
            <a:xfrm>
              <a:off x="2590920" y="35053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0920" y="17524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5880" y="304812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20574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world_grst" descr=""/>
          <p:cNvPicPr/>
          <p:nvPr/>
        </p:nvPicPr>
        <p:blipFill>
          <a:blip r:embed="rId1"/>
          <a:stretch/>
        </p:blipFill>
        <p:spPr>
          <a:xfrm>
            <a:off x="0" y="457200"/>
            <a:ext cx="9821880" cy="7199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838440" y="-152640"/>
            <a:ext cx="106678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en bei Arc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609480"/>
            <a:ext cx="556416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lieder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200400"/>
            <a:ext cx="1752840" cy="304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505320"/>
            <a:ext cx="2819520" cy="3045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3809880"/>
            <a:ext cx="2667240" cy="304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4114800"/>
            <a:ext cx="4267440" cy="304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4495680"/>
            <a:ext cx="4114800" cy="304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800600"/>
            <a:ext cx="914400" cy="304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5181480"/>
            <a:ext cx="1676520" cy="304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52280" y="6553080"/>
            <a:ext cx="9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je Grande, Studentin der Umweltwissenschaften - Schwerpunkt Umweltinformatik und Umweltmanagement - an der Universität Lüne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Worum geht es eigentli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1 Meta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2 ArcIMS 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Daten oder Information? - ein kleiner Untersch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Zwischenfaz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Umsetzung in ArcIMS 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1 Metadaten generieren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2 Metadaten aus ArcGIS 8.x übernehm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3 Anbindungsmöglichkeiten über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. Faz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 Ei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Beisp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rld_grst" descr=""/>
          <p:cNvPicPr/>
          <p:nvPr/>
        </p:nvPicPr>
        <p:blipFill>
          <a:blip r:embed="rId1"/>
          <a:stretch/>
        </p:blipFill>
        <p:spPr>
          <a:xfrm>
            <a:off x="0" y="457200"/>
            <a:ext cx="9821880" cy="7199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838440" y="-152640"/>
            <a:ext cx="1066788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en bei Arc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09480"/>
            <a:ext cx="556416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</a:rPr>
              <a:t>Ein Beispiel: Wildfire.usgs.g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WILDFIRE" descr=""/>
          <p:cNvPicPr/>
          <p:nvPr/>
        </p:nvPicPr>
        <p:blipFill>
          <a:blip r:embed="rId2"/>
          <a:stretch/>
        </p:blipFill>
        <p:spPr>
          <a:xfrm>
            <a:off x="533520" y="476280"/>
            <a:ext cx="8076960" cy="6638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52280" y="6553080"/>
            <a:ext cx="9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je Grande, Studentin der Umweltwissenschaften - Schwerpunkt Umweltinformatik und Umweltmanagement - an der Universität Lüne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/>
          </p:cNvPr>
          <p:cNvSpPr/>
          <p:nvPr/>
        </p:nvSpPr>
        <p:spPr>
          <a:xfrm>
            <a:off x="6781680" y="56386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8T06:27:53Z</dcterms:created>
  <dc:creator>lhi919</dc:creator>
  <dc:description/>
  <dc:language>en-US</dc:language>
  <cp:lastModifiedBy>Antje Grande</cp:lastModifiedBy>
  <cp:lastPrinted>2001-10-18T20:02:37Z</cp:lastPrinted>
  <dcterms:modified xsi:type="dcterms:W3CDTF">2001-10-21T17:59:10Z</dcterms:modified>
  <cp:revision>21</cp:revision>
  <dc:subject/>
  <dc:title>ArcIMS 3.1</dc:title>
</cp:coreProperties>
</file>